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86E-912F-421C-A24A-9B38DB3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FCD-3E3A-47C6-A381-A9AD43FB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D0C-E11F-43E7-A2F9-60C325FC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E63-E83F-497C-86CD-C3AF60E1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5CD-A8E4-4C3C-818A-6792E9E9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FE7-01A1-481B-899D-3071BEA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3F1-B4AD-4EF4-AB59-B940E52A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EA8-283C-46FB-A000-906372C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8DF-AFA8-43FE-BDCD-39F56C18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C81-EA84-4B40-8D73-247D316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DDD-8EEC-4D75-82C1-FF04571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156-0770-4945-9288-EFA80DD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C9F-B26F-4A60-B75D-F630F5CCB2E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1219320"/>
          <a:ext cx="8286480" cy="5121000"/>
        </p:xfrm>
        <a:graphic>
          <a:graphicData uri="http://schemas.openxmlformats.org/drawingml/2006/table">
            <a:tbl>
              <a:tblPr/>
              <a:tblGrid>
                <a:gridCol w="4829040"/>
                <a:gridCol w="442800"/>
                <a:gridCol w="804960"/>
                <a:gridCol w="1363680"/>
                <a:gridCol w="846000"/>
              </a:tblGrid>
              <a:tr h="182520"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исслед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ные  исследования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химико-микроскоп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 (исследования наличия антигенов и антител к ПБ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би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актериологические исследования на туберкулез (культивирование, идентификация, чувстви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на питательных сре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по генетическим марке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молекулярно-генетических исследований с целью выявления ДНК-туберкулё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10"/>
          <p:cNvSpPr/>
          <p:nvPr/>
        </p:nvSpPr>
        <p:spPr>
          <a:xfrm>
            <a:off x="647640" y="609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300 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боратор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4480" y="1523880"/>
          <a:ext cx="8915400" cy="5121360"/>
        </p:xfrm>
        <a:graphic>
          <a:graphicData uri="http://schemas.openxmlformats.org/drawingml/2006/table">
            <a:tbl>
              <a:tblPr/>
              <a:tblGrid>
                <a:gridCol w="5116320"/>
                <a:gridCol w="496800"/>
                <a:gridCol w="989280"/>
                <a:gridCol w="988920"/>
                <a:gridCol w="13240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химические автоматически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6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нефелометры для определения специфических бел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электролитов - ионсе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кислотно-щелочного состояния (КЩ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9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юкозы и(или) лактата энзиматические ампероме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икированного гемогло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 функцией иммуно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истемы капиллярного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шетные фотометры (ридеры)  для иммуноферментного анализа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для 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4) – «открытые системы» для стандартных имунологических  планш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ммунохемилюминесцентны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лификаторы (термоциклеры) для полимеразной цепной реакции (ПЦ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6) – амплификаторы в режиме «real-time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иллюмин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секвенирования нуклеиновых кислот (секвенато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0920" y="1523880"/>
          <a:ext cx="8642160" cy="4937400"/>
        </p:xfrm>
        <a:graphic>
          <a:graphicData uri="http://schemas.openxmlformats.org/drawingml/2006/table">
            <a:tbl>
              <a:tblPr/>
              <a:tblGrid>
                <a:gridCol w="4964040"/>
                <a:gridCol w="496800"/>
                <a:gridCol w="988920"/>
                <a:gridCol w="989280"/>
                <a:gridCol w="120312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выделения автоматического нуклеиновых кисл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идентификации микроорганизмов и определения их чувствительности к антибактериальным препара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гемокультур (типа BACT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для анаэробного культив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средова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ы биологической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компонентные отражательные фотометры для анализа мочи с ручной загруз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 мочи с программируемой загрузкой проб и тест-поло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осадка м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оидные 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тографы жидкостные и га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о-адсорбционные 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 полуавтоматические устройства для приготовления и(или) окраски маз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и для деионизаци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274680"/>
          <a:ext cx="8305560" cy="6451560"/>
        </p:xfrm>
        <a:graphic>
          <a:graphicData uri="http://schemas.openxmlformats.org/drawingml/2006/table">
            <a:tbl>
              <a:tblPr/>
              <a:tblGrid>
                <a:gridCol w="761760"/>
                <a:gridCol w="1524240"/>
                <a:gridCol w="1747800"/>
                <a:gridCol w="1068480"/>
                <a:gridCol w="1601640"/>
                <a:gridCol w="1601640"/>
              </a:tblGrid>
              <a:tr h="3920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ки т.5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вида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бораторное исследование (Л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выполнения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а учета статистических единиц (формула расче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Е 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шифро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х един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06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= 1.1+1.2+1.3+1.4+1.5+1.6+1.7+1.8+1.9+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 rowSpan="21"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1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МИКРОСКОПИЧЕСКИЕ (Общеклинически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линический) анализ моч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10/11 (по числу определяемых параметров на приборе)=10/1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щие свойства (цвет,        прозрач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тносительная плот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Обнаружение бе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Обнаружение глюкоз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Определение кетоновых т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Определение кров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пределение уробилинои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пределе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лируб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Определение лейкоцитов, в т.ч. Микроскопия оса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белка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глюкозы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Нечипор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Зимницк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рение относит. плотности и кол-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8=8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= 1 порция мочи из 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 проста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рм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5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/ Микроско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консистенция, запах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Вязко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ашенный 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:  по запросу клиници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яемое мочеполовых орг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окал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арат, окрашенный по Грам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к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9=9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, запа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Реакция на скрытую кров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Реакция на стеркобил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Реакция на билиру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1143000"/>
          <a:ext cx="8058240" cy="4730760"/>
        </p:xfrm>
        <a:graphic>
          <a:graphicData uri="http://schemas.openxmlformats.org/drawingml/2006/table">
            <a:tbl>
              <a:tblPr/>
              <a:tblGrid>
                <a:gridCol w="603360"/>
                <a:gridCol w="1479600"/>
                <a:gridCol w="1830240"/>
                <a:gridCol w="1036800"/>
                <a:gridCol w="1554120"/>
                <a:gridCol w="1554120"/>
              </a:tblGrid>
              <a:tr h="303120"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Микроскопия нативного препа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Микроскопия с суданом и метиленовым син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Микроскопия с Люгол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бнаружение яиц гельми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бнаружение простей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к 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льминтов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в кале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коб на энтеробио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нгилоидо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клещ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мокро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Исследование на эластичные волок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ыявление КУМ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сидер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спинномозговой жидкости/выпотны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3=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примес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Химическое исследование (рН, белок, кров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104760"/>
          <a:ext cx="8458200" cy="675180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1898640"/>
                <a:gridCol w="1087560"/>
                <a:gridCol w="1631880"/>
                <a:gridCol w="1630440"/>
              </a:tblGrid>
              <a:tr h="130320">
                <a:tc rowSpan="1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(клинический) анализ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 анализаторы (ГА) на 16-23 и более параметр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проба×7=7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Эритр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Лейк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Тромбоциты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се расчетны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Лейкоцитарная форму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СО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икул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анализаторе или окраска в пробир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глоб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кри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е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маляри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2=2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Толстая капл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Мазок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ле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ел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или жидкостная цит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rowSpan="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я крови и мочи, гормоны, гликированный 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 (исключены из отчета)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ы и рН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енный мониторин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/ хроматограф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 (точка)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апиллярной крови на анализатор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оведении глюкозотолерантного теста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rowSpan="4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4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я, факторы гемостаза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дим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протромбина с МНО 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чаночный антикоагулян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 свертыва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кровотече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комаркеры, специфические белки, аллергены, аутоантитела, иммуногематология,  иммунный стат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и, сер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34920"/>
          <a:ext cx="8534160" cy="6840720"/>
        </p:xfrm>
        <a:graphic>
          <a:graphicData uri="http://schemas.openxmlformats.org/drawingml/2006/table">
            <a:tbl>
              <a:tblPr/>
              <a:tblGrid>
                <a:gridCol w="380880"/>
                <a:gridCol w="1219320"/>
                <a:gridCol w="2243160"/>
                <a:gridCol w="1172880"/>
                <a:gridCol w="1758960"/>
                <a:gridCol w="1758960"/>
              </a:tblGrid>
              <a:tr h="479520">
                <a:tc rowSpan="15"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КРОБИОЛОГИЧЕСКИЕ</a:t>
                      </a:r>
                      <a:r>
                        <a:rPr b="1" lang="ru-RU" sz="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но-патогенные аэробные и факультативно 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гатно-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наружение микроорганизмов   в   нативных/окрашенных препарат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отдельных видов условно-патогенных микроорганизмов (гемофилы, менингококки, листерии и т.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ое дополнительное исследова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эшерихии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геллы и сальмонеллы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оса на возбудителя дифте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зева на бактерии коклюша и паракоклю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.спинномозговой жидкости на менингокок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 на дисбактериоз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ЛИ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енное исследование биологически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-спектрометр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ультур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бактериологическом анализатор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хроматограф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240"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к антибиотикам, сульфаниламидам, дезинфектантам и другим химиотерапевтическим препара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ко-диффузионным метод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ашка Петри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т – систе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 разведения в бульоне или плотной питательной сред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епарат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концентрации антибиотиков в биологической жидк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микроорганизмов к бактериофаг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готип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66760" y="228600"/>
          <a:ext cx="8610480" cy="6400800"/>
        </p:xfrm>
        <a:graphic>
          <a:graphicData uri="http://schemas.openxmlformats.org/drawingml/2006/table">
            <a:tbl>
              <a:tblPr/>
              <a:tblGrid>
                <a:gridCol w="723960"/>
                <a:gridCol w="1447560"/>
                <a:gridCol w="1670040"/>
                <a:gridCol w="1192320"/>
                <a:gridCol w="1789200"/>
                <a:gridCol w="1787400"/>
              </a:tblGrid>
              <a:tr h="523800"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нитарно-микробиологические исследования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 и инструментарий на стериль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микробной обсемененности предметов внешней сре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ологический контроль операционного поля и рук хирур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санитарно-бактериолог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Л – те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rowSpan="3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Ц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7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не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котические и психотропные вещ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(иммунохроматограф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1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95360" y="614520"/>
            <a:ext cx="815328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одной пробе исследуются яйца гельминтов и простейшие, количество ЛИ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ля лабораторий, выполняющих микроскопию КУМ в рамках химико-микроскопических (общеклинических) исследований, считать это исследования к «микробиологическим исследованиям» в строку 1.8 и выносить количество КУМ в таблицу 5301 в строку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Для микробиологических лабораторий или отделов микроскопия КУМ, в том числе люминесцентная, учитывается в «микробиологические исследования в строку 1.8 и выносится отдельно в таблицу 5301 в строку 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счетные показатели в биохимических и других исследованиях ИСКЛЮЧЕНЫ из отчета и НЕ УЧИТЫВ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итывать число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ифил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формировании отчета и заполнении таблицы 5301 формы 30 РОССТАТ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пециф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ы (строка 6) учитывать только нетрепонемные тесты – РМП, РП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сты (строка 7) учитывать трепонемные тесты – ИФА (IgM, IgG, суммарные ат), РПГА, РИФ, РИБТ, иммунобл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ые ссыл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Инструкция о порядке учета микробиологических исследований в клинико-диагностических (бактериологических) лабораториях лечебно- профилактических учреждений" от 1988 г. N 06- 14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каз Роспотребнадзора от 5 декабря 2005 г. N 787 «Об утверждении инструкций к формам статистической отчетности» (Приложение №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ая ссылк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каз МЗ РФ от 9 июня 2003 г. № 231 «Об утверждении Отраслевого стандарта «Протокол ведения больных. Дисбактериоз кишечни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ЧАНИЕ ОБЩЕ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личество выполненных исследовани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КЛЮЧАЮТСЯ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либровки, контроли, перестановки, пересчеты, пересмотры, раститровки, обработка кров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0"/>
          <p:cNvSpPr/>
          <p:nvPr/>
        </p:nvSpPr>
        <p:spPr>
          <a:xfrm>
            <a:off x="5335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исследований таблицы 5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752480"/>
          <a:ext cx="8839440" cy="4019760"/>
        </p:xfrm>
        <a:graphic>
          <a:graphicData uri="http://schemas.openxmlformats.org/drawingml/2006/table">
            <a:tbl>
              <a:tblPr/>
              <a:tblGrid>
                <a:gridCol w="5896080"/>
                <a:gridCol w="504720"/>
                <a:gridCol w="914400"/>
                <a:gridCol w="1524240"/>
              </a:tblGrid>
              <a:tr h="76212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положительными результа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анализов (табл. 5300, гр. 3)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:  на  фенилкетонурию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й гипотиреоз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Ч-инфекцию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е гепатиты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наркотических и психотропных веществ (из стр. 1.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ярно-биологические исследования (из стр. 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я на кислотоустойчивые микроорганизмы (КУМ) (из стр. 1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ы на туберкулез (из стр. 1.8.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0"/>
          <p:cNvSpPr/>
          <p:nvPr/>
        </p:nvSpPr>
        <p:spPr>
          <a:xfrm>
            <a:off x="647640" y="685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440" y="1447920"/>
          <a:ext cx="8763120" cy="4754520"/>
        </p:xfrm>
        <a:graphic>
          <a:graphicData uri="http://schemas.openxmlformats.org/drawingml/2006/table">
            <a:tbl>
              <a:tblPr/>
              <a:tblGrid>
                <a:gridCol w="5000760"/>
                <a:gridCol w="507960"/>
                <a:gridCol w="1012680"/>
                <a:gridCol w="1011240"/>
                <a:gridCol w="12304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мо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би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люминесцен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тереоскоп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инверт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глобино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ри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рофот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 анализаторы для подсчета форменных элемент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ифференцировки по 5 популя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подсчета ретикул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ля приготовления мазк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ные цитофлуори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гические анализаторы с автоматически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агрегации тромб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эласт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руемые биохимические фот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5) - многока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Anantoly Kochetov</cp:lastModifiedBy>
  <dcterms:modified xsi:type="dcterms:W3CDTF">2017-11-26T14:23:11Z</dcterms:modified>
  <cp:revision>6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