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3BA6-3307-497C-AE30-F224F59B0C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168F-E857-46E4-AFD5-92FCE99B9527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73E6-00CB-4DD2-8126-668FD5BA274A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2AA6-C849-4465-A2DA-6B34424FA54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87E8-7E43-4D5C-A134-13F0CB729585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AA38-06D1-40B1-A37F-D1AC90998803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CCED-A582-4261-A6BA-A49CF3C43ADE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0329-4F9B-49F5-BC1B-CDE3D875A1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1D7F-6F1A-45AF-B882-B2BFE56E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0CC4-F039-46F0-82E2-F5A3DC36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70F3-1558-4D29-9293-BCF74A5D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B6EE-DFA9-4544-AF78-A53E2DFB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1F5C-757C-4CC4-BC56-69F55FC7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42A9-8D9C-4B51-A9D6-E86B6957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2B2B-091A-4310-82B9-652A6FDF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7DB4-B701-457D-AA71-6AFBA648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FAFE-F90E-490B-85B0-19CD521E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585F-CD7D-43D2-AE11-0B3DCEDE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73F1-DF12-4CE6-A0C1-B517820C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7AC2-59E8-484A-93EC-5E010E6C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ECB2-3C6E-4991-BD27-F56E50B52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1720" y="4220640"/>
            <a:ext cx="5958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енник Татьяна Константи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grebennik@oparina4.ru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рганизационно-методическим отдел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БУ «НМИЦ АГП им. В.И. Кулакова» МЗ РФ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0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1609560" y="466560"/>
            <a:ext cx="8972640" cy="59248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1" descr=""/>
          <p:cNvPicPr/>
          <p:nvPr/>
        </p:nvPicPr>
        <p:blipFill>
          <a:blip r:embed="rId2"/>
          <a:stretch/>
        </p:blipFill>
        <p:spPr>
          <a:xfrm>
            <a:off x="10632960" y="136440"/>
            <a:ext cx="1559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04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10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116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6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ВИЧ-ИНФЕКЦИ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беременных женщин, всего) –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женщин, завершивших беременность родами в отчетном году) &gt;= 13,1000,ст1,гр11+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1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2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11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Рисунок 14" descr=""/>
          <p:cNvPicPr/>
          <p:nvPr/>
        </p:nvPicPr>
        <p:blipFill>
          <a:blip r:embed="rId1"/>
          <a:stretch/>
        </p:blipFill>
        <p:spPr>
          <a:xfrm>
            <a:off x="10598040" y="101520"/>
            <a:ext cx="1594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1987560"/>
            <a:ext cx="8480520" cy="367488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2104920" y="5722920"/>
            <a:ext cx="8772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6" descr=""/>
          <p:cNvPicPr/>
          <p:nvPr/>
        </p:nvPicPr>
        <p:blipFill>
          <a:blip r:embed="rId2"/>
          <a:stretch/>
        </p:blipFill>
        <p:spPr>
          <a:xfrm>
            <a:off x="10603080" y="136440"/>
            <a:ext cx="1589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1" name="Группа 13"/>
          <p:cNvGrpSpPr/>
          <p:nvPr/>
        </p:nvGrpSpPr>
        <p:grpSpPr>
          <a:xfrm>
            <a:off x="654120" y="1471680"/>
            <a:ext cx="10101240" cy="4957560"/>
            <a:chOff x="654120" y="1471680"/>
            <a:chExt cx="10101240" cy="4957560"/>
          </a:xfrm>
        </p:grpSpPr>
        <p:pic>
          <p:nvPicPr>
            <p:cNvPr id="62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47168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Box 5"/>
            <p:cNvSpPr/>
            <p:nvPr/>
          </p:nvSpPr>
          <p:spPr>
            <a:xfrm>
              <a:off x="834120" y="221904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Box 7"/>
            <p:cNvSpPr/>
            <p:nvPr/>
          </p:nvSpPr>
          <p:spPr>
            <a:xfrm>
              <a:off x="1253880" y="362556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12"/>
            <p:cNvSpPr/>
            <p:nvPr/>
          </p:nvSpPr>
          <p:spPr>
            <a:xfrm>
              <a:off x="871920" y="515484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68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 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4" name="Группа 13"/>
          <p:cNvGrpSpPr/>
          <p:nvPr/>
        </p:nvGrpSpPr>
        <p:grpSpPr>
          <a:xfrm>
            <a:off x="654120" y="2133720"/>
            <a:ext cx="10101240" cy="4325760"/>
            <a:chOff x="654120" y="2133720"/>
            <a:chExt cx="10101240" cy="4325760"/>
          </a:xfrm>
        </p:grpSpPr>
        <p:pic>
          <p:nvPicPr>
            <p:cNvPr id="75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2133720"/>
              <a:ext cx="10101240" cy="43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Box 5"/>
            <p:cNvSpPr/>
            <p:nvPr/>
          </p:nvSpPr>
          <p:spPr>
            <a:xfrm>
              <a:off x="870120" y="2783880"/>
              <a:ext cx="183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7"/>
            <p:cNvSpPr/>
            <p:nvPr/>
          </p:nvSpPr>
          <p:spPr>
            <a:xfrm>
              <a:off x="1122120" y="4005000"/>
              <a:ext cx="106596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Box 12"/>
            <p:cNvSpPr/>
            <p:nvPr/>
          </p:nvSpPr>
          <p:spPr>
            <a:xfrm>
              <a:off x="1284840" y="5333400"/>
              <a:ext cx="1162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11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16"/>
          <p:cNvSpPr/>
          <p:nvPr/>
        </p:nvSpPr>
        <p:spPr>
          <a:xfrm>
            <a:off x="1052640" y="2489040"/>
            <a:ext cx="4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1425600" y="35449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1455840" y="452772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1068480" y="552456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6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87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гион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8080" y="1690560"/>
            <a:ext cx="10515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оп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11" descr=""/>
          <p:cNvPicPr/>
          <p:nvPr/>
        </p:nvPicPr>
        <p:blipFill>
          <a:blip r:embed="rId1"/>
          <a:stretch/>
        </p:blipFill>
        <p:spPr>
          <a:xfrm>
            <a:off x="10709280" y="136440"/>
            <a:ext cx="1482840" cy="1152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9514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Гребенник Татьяна Константиновна</cp:lastModifiedBy>
  <cp:lastPrinted>2018-12-10T14:36:03Z</cp:lastPrinted>
  <dcterms:modified xsi:type="dcterms:W3CDTF">2020-12-02T13:49:49Z</dcterms:modified>
  <cp:revision>125</cp:revision>
  <dc:subject/>
  <dc:title>Презентация PowerPoint</dc:title>
</cp:coreProperties>
</file>