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584F-46D2-4B9F-A539-0812F9EDB6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7497-1937-4268-8384-69DFB360A0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626080" y="6419880"/>
            <a:ext cx="43005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AD4EA9-EEEC-4408-A239-B9B1E70675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7640" y="530280"/>
            <a:ext cx="3422520" cy="2566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325520" y="3247920"/>
            <a:ext cx="7275600" cy="30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69E8-5B1E-4597-AC13-AC933B8552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3A62-39A5-4B3D-81B7-7932DF8AD1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D224-FFF3-4F4D-B151-F27D86258F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A1FE-F743-44AC-BA83-776D699839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DCE3-CA62-4829-A78A-28A02553BB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2966-5173-4D82-9B0F-519A743ABD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76EE-4258-48CB-AA0A-918DB427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3F3-108A-4C6F-ADFF-15259690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91AF-C005-4D0B-AC95-5549ADDC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4EA-4F07-4307-875B-25C94FB1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5E6-3DE2-429F-88B7-BCA8CD21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698-6CD8-4613-8081-6BC0E0AF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87A-F525-4B19-98AB-71FE5E1F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370-3B1F-4B86-94E0-D6EBE50D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D05D-1070-48AA-BFF3-10ECB656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617-5EEB-4CF2-A347-E15FB60C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023-A4BE-4870-B149-F069C586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907-2BAD-4B4B-8F17-86BA23AD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33CB-1C45-474C-9D1B-A19E677BFB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20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28640"/>
          <a:ext cx="8462880" cy="4451400"/>
        </p:xfrm>
        <a:graphic>
          <a:graphicData uri="http://schemas.openxmlformats.org/drawingml/2006/table">
            <a:tbl>
              <a:tblPr/>
              <a:tblGrid>
                <a:gridCol w="2016000"/>
                <a:gridCol w="1008360"/>
                <a:gridCol w="1223640"/>
                <a:gridCol w="1295640"/>
                <a:gridCol w="1224000"/>
                <a:gridCol w="1695240"/>
              </a:tblGrid>
              <a:tr h="3160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16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16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10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3 указываются сведения о медицинских сестрах, которые не включают данные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4 заполняются сведения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10 + 30.1105.1.15 + 30.1105.1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10 + 30.1105.2.15 + 30.1105.2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10 + 30.1105.3.15 + 30.1105.3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.  ≥ 30.1105.1.05. + 30.1105.1.06 + 30.1105.1.07 + 30.1105.1.08  + 30.1105.1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. ≥ 30.1105.2.05. + 30.1105.2.06 + 30.1105.2.07 + 30.1105.2.08  + 30.1105.2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. ≥ 30.1105.3.05. + 30.1105.3.06 + 30.1105.3.07 + 30.1105.3.08  + 30.1105.3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142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3200" y="1123560"/>
            <a:ext cx="8471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. ≥ 30.1105.1.11. + 30.1105.1.12 + 30.1105.1.13 + 30.1105.1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. ≥ 30.1105.2.11. + 30.1105.2.12 + 30.1105.2.13 + 30.1105.2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. ≥ 30.1105.3.11. + 30.1105.3.12 + 30.1105.3.13 + 30.1105.3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357120" y="1268280"/>
            <a:ext cx="86472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бъектах, где работают только самостоятельные станции скорой медицинской помощи данные о должностях должны совпадать со сведениями в форме 47 табл. 1800 стр.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 = 47.1800.16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 = 47.1800.16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 = 47.1800.16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285840" y="1557360"/>
            <a:ext cx="86454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 = 47.1800.16.06 + 47.1800.16.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 = 47.1800.16.07 + 47.1800.16.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 = 47.1800.16.08  + 47.1800.16.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 = 47.1800.16.18 + 47.1800.16.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 = 47.1800.16.19 + 47.1800.16.1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 = 47.1800.16.20 + 47.1800.16.1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от 20 июня 2013  г. № 388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21 февраля 2020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5 = 47.1800.16.2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5 = 47.1800.16.2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5 = 47.1800.16.2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6 = 47.1800.16.09 + 47.1800.16.2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6 = 47.1800.16.10 + 47.1800.16.25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прочего персонала ста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6 = 47.1800.16.11 + 47.1800.16.26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5600"/>
                <a:gridCol w="9367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от 20 июня 2013 г. № 388н 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≤ 30.2121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≤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1268280"/>
          <a:ext cx="8785440" cy="5489640"/>
        </p:xfrm>
        <a:graphic>
          <a:graphicData uri="http://schemas.openxmlformats.org/drawingml/2006/table">
            <a:tbl>
              <a:tblPr/>
              <a:tblGrid>
                <a:gridCol w="4176720"/>
                <a:gridCol w="503280"/>
                <a:gridCol w="836640"/>
                <a:gridCol w="1036800"/>
                <a:gridCol w="1141200"/>
                <a:gridCol w="1090800"/>
              </a:tblGrid>
              <a:tr h="1462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-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й эвакуаций, выполненных выездными бригадами (ли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      № 388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«Число медицинских эвакуаций, выполненных выездными бригадами (лиц)» указываются сведения о числе лиц, которым была оказана скорая медицинская помощь при медицинской эвакуации (из графы 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  =  30.2120.3.0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3680" y="233280"/>
            <a:ext cx="82803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1680" y="1484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ездных бригад скорой медицинской помощ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3=30.2200.1.03+30.2200.2.03+30.2200.3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4=30.2200.1.04+30.2200.2.04+30.2200.3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5=30.2200.1.05+30.2200.2.05+30.2200.3.0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=30.2200.1.06+30.2200.2.06+30.2200.3.0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56760"/>
            <a:ext cx="8280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8000" y="1412640"/>
            <a:ext cx="8856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6=30.2200.11.06+30.2200.12.0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63400" y="1415880"/>
          <a:ext cx="8112240" cy="5266080"/>
        </p:xfrm>
        <a:graphic>
          <a:graphicData uri="http://schemas.openxmlformats.org/drawingml/2006/table">
            <a:tbl>
              <a:tblPr/>
              <a:tblGrid>
                <a:gridCol w="4154760"/>
                <a:gridCol w="788760"/>
                <a:gridCol w="1584360"/>
                <a:gridCol w="1584360"/>
              </a:tblGrid>
              <a:tr h="157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 (да-1, нет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корой медицинской помощи (да-1, нет –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Заголовок 1"/>
          <p:cNvSpPr/>
          <p:nvPr/>
        </p:nvSpPr>
        <p:spPr>
          <a:xfrm>
            <a:off x="826920" y="40464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8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2920" y="1076040"/>
            <a:ext cx="88581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  ≥  30.2200.21.03 +30.2200.22.03+30.2200.23.03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3+30.2200.25.03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 ≥ 30.2200.21.04+30.2200.22.04+30.2200.23.04+ 30.2200.24.04+30.2200.25.04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  ≥  30.2200.21.05+30.2200.22.05+30.2200.23.05 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5 +30.2200.25.0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6 ≥ 30.2200.21.06+30.2200.22.06+30.2200.23.06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6+30.2200.25.06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, в том числе при медицинской эвакуации)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ло лиц, эвакуированных с использованием санитарной авиации за счет средств регионального бюджета (из табл. 2200, стр. 3, гр.6) 1 __________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в первые сутки 2 ________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13791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скорой медицинской помощ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тделений скорой медицинской помощ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4 + 30.1060.2.04 + 30.1060.3.04 + 30.1060.4.04 + 30.1060.5.04 + 30.1060.6.04 + 30.1060.7.04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765000"/>
          <a:ext cx="8643960" cy="592488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719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стационары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ациентов, доставленных в травмо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уровня с места дорожно-транспор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эвакуированных по экстренным медицинским показаниям в первые 24 часа в медицинские организации 2-го и 3-го уровней в рамках трехуровневой системы оказания медицинской помощи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5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20 г. по сравнению с 2019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от 1 декабря 2005 г. № 752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≤ 30.1060.1.03+1.04 + 30.1060.2.03+2.04 +30.1060.3.03+3.04 + 30.1060.4.03+4.04 + 30.1060.5.03+5.04 + 30.1060.6.03+6.04 + 30.1060.7.03+7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500120"/>
          <a:ext cx="8462880" cy="4908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720720"/>
                <a:gridCol w="863640"/>
                <a:gridCol w="1008000"/>
                <a:gridCol w="936720"/>
                <a:gridCol w="1008000"/>
                <a:gridCol w="719280"/>
                <a:gridCol w="687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е 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-зиологи-реанима-толог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5200" y="1628640"/>
          <a:ext cx="8553600" cy="4981680"/>
        </p:xfrm>
        <a:graphic>
          <a:graphicData uri="http://schemas.openxmlformats.org/drawingml/2006/table">
            <a:tbl>
              <a:tblPr/>
              <a:tblGrid>
                <a:gridCol w="1673280"/>
                <a:gridCol w="874800"/>
                <a:gridCol w="726840"/>
                <a:gridCol w="1017720"/>
                <a:gridCol w="1352520"/>
                <a:gridCol w="935280"/>
                <a:gridCol w="907920"/>
                <a:gridCol w="1065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 (фельдшеры) по приему вызо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-шеры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-цинские сес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-кие сестры анесте-зис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cp:lastPrinted>2020-12-02T13:30:30Z</cp:lastPrinted>
  <dcterms:modified xsi:type="dcterms:W3CDTF">2020-12-03T06:24:11Z</dcterms:modified>
  <cp:revision>513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