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AD05-094C-442D-93E4-8EACF9FD8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5F4F-2E6B-4516-9C93-BAEDBA06D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BDBD-9BBE-4F3E-897D-C0B51C1479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A293-29CB-4A0F-A724-1AFED3A2D5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9846-0582-42C9-83F2-173618754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4A12-0FFE-4BCC-B057-593D95816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F1E0-0E5E-4745-87E7-67F5BD786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56FB-1A97-4979-A54E-1EBA8C4E9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0E01-92B6-47A4-AFE9-185F727F65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5280-B8CA-4FCA-8F77-0CCEF3107C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3A49-4E67-4780-BD64-D0231FD44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7009-ACEB-42F9-9A47-9DF63E39E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486D-2EB2-4BFC-8359-C83F55D04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7985-9033-409A-AD33-C9CF919EC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BE7F-A842-458B-A8CE-35EC4F787A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AA9A-92EF-420F-922D-BE91EB720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634E-FB9F-41FC-B1D1-DC14A5C3A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1C3D-06E5-4C4E-BEF3-554AB6FB1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A708-E965-4A07-B2B2-0BE7EC6EE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C135-53D3-4875-8098-7E044A39CB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D133-0BD1-4245-BCB8-06AE482DFC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F3AF-BD28-46EC-8A49-7C3E55A45B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A64E-DBFD-4941-974D-42615DBAD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993F-65F9-45D7-A676-2CAD1D80D7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DDD8-9DCD-4B96-A06F-DA5E4D394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A3B1-DF51-4690-B77B-3F290A41F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7241-A7DF-442A-BFA7-67EAB8A97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D5D6-1130-4F3D-A096-E91D8921B0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9942-76CB-4C8E-833A-CE5B0D960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3191-C962-419D-8541-EFB5F9CF83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FE4D-63EE-466D-AB35-2E284D78C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B97C-DAB0-4F28-8351-CD0116C9F7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ABA8-FD9A-498B-929B-BE4E566D44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4A75-3AC7-45A7-86EA-B8B6D17699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C5BD-1755-4EA0-93C7-69407444E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8577-26ED-42E8-81D5-8025BD973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4B2E-5B6B-406C-A651-8D61C7DFD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FC1B-AF47-40B7-A2CC-A3E33C39C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60BB-91DB-4AD3-8F98-46E852B86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7CF7-4245-466F-9F2B-7C81F76A6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9AB4-4582-48B7-B508-C56C1050E8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8ADB-1413-43B0-885C-3464171E0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3FFB-5986-482C-BB81-0CBB7F80C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A772-DD73-40F7-A0A1-CBD3216700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39BC-14BB-43CB-AC47-E4A2B429FE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5577-78A0-422B-A994-E17403207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82B6-AAFC-4860-94AB-359EB056C4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06BD-2BF2-4A55-9C40-F933A2C84C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5973-38F7-4ED5-A7DD-F096EBFB9C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601B-9F32-4E51-B972-5728441BEC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4DFD-0EFC-4865-974C-5AE60636B6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9C1-0254-43D2-A671-3934D4AD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AC7-04FC-41C7-922F-30BEE17D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626-8DB6-4242-AE48-14D76AD9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7B1-CB76-44CF-A9FD-46CA1EB4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6EB-6B40-44CE-B217-F5D8E3A2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154-CE1D-462A-84E0-DE05368F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6F3-61BA-4969-A402-65D7114F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3B7-079A-4160-A5D9-EC906744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8D0-5DEE-4E10-9E7A-2F32ED66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265-0165-4412-9798-D2ACD9DD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498-E489-45D3-B773-180075FD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2FB-C32F-4692-B13F-2A82DA32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9B75-45F1-4AF7-93B1-4EF598D9ABD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7858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казателях работы дневных стационаров медицинских организаций, оказывающих помощь на дом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ционаров на дому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400" y="333360"/>
            <a:ext cx="8256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субъекта Российской Федерации ___________________________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ДНЕВНЫХ СТАЦИОНАРОВ МЕДИЦИНСКИХ ОРГАНИЗАЦИЙ, ОКАЗЫВАЮЩИХ МЕДИЦИНСКУЮ ПОМОЩЬ НА ДОМУ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к дневных стационаров медицинских организаций, оказывающих медицинскую помощь на д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49480"/>
          <a:ext cx="8064720" cy="3176640"/>
        </p:xfrm>
        <a:graphic>
          <a:graphicData uri="http://schemas.openxmlformats.org/drawingml/2006/table">
            <a:tbl>
              <a:tblPr/>
              <a:tblGrid>
                <a:gridCol w="1584360"/>
                <a:gridCol w="360360"/>
                <a:gridCol w="358920"/>
                <a:gridCol w="504720"/>
                <a:gridCol w="503280"/>
                <a:gridCol w="576360"/>
                <a:gridCol w="544320"/>
                <a:gridCol w="573120"/>
                <a:gridCol w="498600"/>
                <a:gridCol w="466560"/>
                <a:gridCol w="561960"/>
                <a:gridCol w="561960"/>
                <a:gridCol w="517680"/>
                <a:gridCol w="452520"/>
              </a:tblGrid>
              <a:tr h="140760"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него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-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9640" y="5246640"/>
          <a:ext cx="8209080" cy="685800"/>
        </p:xfrm>
        <a:graphic>
          <a:graphicData uri="http://schemas.openxmlformats.org/drawingml/2006/table">
            <a:tbl>
              <a:tblPr/>
              <a:tblGrid>
                <a:gridCol w="149400"/>
                <a:gridCol w="2636640"/>
                <a:gridCol w="2819160"/>
                <a:gridCol w="1455120"/>
                <a:gridCol w="138960"/>
                <a:gridCol w="1009800"/>
              </a:tblGrid>
              <a:tr h="548280">
                <a:tc gridSpan="4"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дневном стационаре при  подразделениях медицинских организаций, оказывающих медицинскую помощь  на дому всего 1________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ей 2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7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640" y="5950080"/>
          <a:ext cx="8136000" cy="365040"/>
        </p:xfrm>
        <a:graphic>
          <a:graphicData uri="http://schemas.openxmlformats.org/drawingml/2006/table">
            <a:tbl>
              <a:tblPr/>
              <a:tblGrid>
                <a:gridCol w="7373880"/>
                <a:gridCol w="439920"/>
                <a:gridCol w="322200"/>
              </a:tblGrid>
              <a:tr h="365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исанных сельских жителей из дневных стационаров медицинских организаций, оказывающих медицинскую помощь  на дому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3560" y="5079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Взрослые (18 лет и старше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36680" y="1027080"/>
          <a:ext cx="8286480" cy="5775480"/>
        </p:xfrm>
        <a:graphic>
          <a:graphicData uri="http://schemas.openxmlformats.org/drawingml/2006/table">
            <a:tbl>
              <a:tblPr/>
              <a:tblGrid>
                <a:gridCol w="3558960"/>
                <a:gridCol w="360360"/>
                <a:gridCol w="720720"/>
                <a:gridCol w="1295640"/>
                <a:gridCol w="1368360"/>
                <a:gridCol w="9824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Дети (0-17 лет включительн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28760" y="957240"/>
          <a:ext cx="8229600" cy="5538960"/>
        </p:xfrm>
        <a:graphic>
          <a:graphicData uri="http://schemas.openxmlformats.org/drawingml/2006/table">
            <a:tbl>
              <a:tblPr/>
              <a:tblGrid>
                <a:gridCol w="3495600"/>
                <a:gridCol w="360360"/>
                <a:gridCol w="718920"/>
                <a:gridCol w="1440000"/>
                <a:gridCol w="1297080"/>
                <a:gridCol w="9176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cp:lastPrinted>2020-12-02T13:53:05Z</cp:lastPrinted>
  <dcterms:modified xsi:type="dcterms:W3CDTF">2020-12-03T06:27:00Z</dcterms:modified>
  <cp:revision>378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