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5CE9-BB23-4E25-A34A-5451D70041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E8C5-0C30-4D80-9944-3B5D9A87A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C74647-C284-4D01-9DAC-23D9F2887C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4F69-9E60-4754-AFCF-16C23CA0C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0957-A282-4ABF-B639-AC72276596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A385-38F2-4F86-8E93-6F15570F3F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547-6831-4FB3-81D9-6B537104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030-8905-40EC-A962-098BAC2C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D7D-AB56-46B7-A072-A6C08BB8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B54-5222-4E87-A32E-E483F1B1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3973-4C4E-4250-8090-29364465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D50E-71C0-4CC0-84DB-6A358C17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0D5D-E3D8-47F0-955F-D192F5FC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9681-55E4-4C79-8C4F-3EBB79B4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600C-B1D7-400B-9401-754CC0DF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4053-1FC0-462A-91F2-9F16192B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0F2F-A031-4569-8BD1-489AFFBB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875-E9C4-4909-A41E-83E3052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8298-8D73-4DBC-B92B-4E7FEAC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F3ED-307A-42F0-8D9A-163A1C2F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612C-6B05-4510-9813-C5926411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7530-9A11-4662-95D4-9A19D263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AB8B-EBD3-458F-B7E2-073D839D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D8F-0998-4E9B-9B72-29365EFB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D77-DFD5-41B7-A228-B1C464BF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106-A48A-4566-86B5-C4515E5F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625-B999-4060-864C-CCF37E9C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EC1-B662-4B02-BE89-A3DD64E1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586-49FD-4FB2-ADE8-2FFA86E3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504-671F-4756-A0A0-BB4904CA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49A9-22E2-4BDC-8FEB-31AD2CD14B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4316-6E92-421B-8948-53E3A925E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ведений о работе скорой медицинской помощи в форме федерального статистического наблюдения № 30 «Сведения о медицинской организации» за 2017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бригадами скорой медицинской помощи при выездах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медицинская помощь при выездах по возраста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бригад скорой медицинской помощ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помощь общепрофильными фельдшерскими бригадами – медицинская эвакуация, из них сельских ж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, из них сельских жител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ездов бригад скорой медицинской помощи по времени доезда и затраченному на один выез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 «Число станций (отделений) скорой медицинской помощи, оснащенных автоматизированной системой управления приема и обработки вызов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езд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628640"/>
          <a:ext cx="7561080" cy="37864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60 заполняют станции скорой медицинской помощи и медицинские организации, имеющие в своем составе отделения скорой медицинской помощ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(межформенный контроль)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30 табл. 1060 стр.1 гр.3 + стр. 2 гр. 3 + стр.3 гр. 3 + стр. 4 гр. 3 + стр. 5 гр. 3 + стр. 6 гр. 3 + стр. 7 гр. 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форма 47 табл.0400 стр.1 гр. 3 + стр.1 гр.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3440"/>
                <a:gridCol w="857160"/>
                <a:gridCol w="1000080"/>
                <a:gridCol w="1251000"/>
                <a:gridCol w="1249200"/>
                <a:gridCol w="1251000"/>
                <a:gridCol w="1251000"/>
              </a:tblGrid>
              <a:tr h="31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214280"/>
            <a:ext cx="8358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Прочий персонал станции (отделения) скорой медицинской помощи – это водители и прочий персона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чий персонал включают фармацевтов, провизоров, специалистов с немедицинским образование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), так и целыми числ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Число штатн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Число занят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Число физических лиц основных работников на занятых должност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4200" y="1214280"/>
          <a:ext cx="8642520" cy="5526360"/>
        </p:xfrm>
        <a:graphic>
          <a:graphicData uri="http://schemas.openxmlformats.org/drawingml/2006/table">
            <a:tbl>
              <a:tblPr/>
              <a:tblGrid>
                <a:gridCol w="2160720"/>
                <a:gridCol w="506520"/>
                <a:gridCol w="663480"/>
                <a:gridCol w="885960"/>
                <a:gridCol w="819000"/>
                <a:gridCol w="714240"/>
                <a:gridCol w="500040"/>
                <a:gridCol w="714600"/>
                <a:gridCol w="857160"/>
                <a:gridCol w="820800"/>
              </a:tblGrid>
              <a:tr h="22716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-зиро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ез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медицинская помощь при вые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0040" y="642960"/>
            <a:ext cx="8286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Федеральной службы государственной статистики (Росстата) № 866 от 27 декабря 2016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99980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ездов бригадами скорой медицинской помощи (стр. 1 гр. 3) не включаются безрезультатные выез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к детям (форма 30 табл. 2120 стр. 2 гр. 3) не должно быть больше числа детей, которым оказана медицинская помощь при выездах (форма 30 табл. 2121    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по поводу госпитализации (форма 30 табл. 2120 стр. 1 гр. 10) не должно быть больше числа госпитализированных лиц (форма 30 табл. 2120 стр. 3 гр. 10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в связи с медицинской эвакуации (форма 30 табл. 2120 стр. 1 гр. 7) = форма 47 табл. 0400 стр. 1 гр. 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400" y="2143080"/>
            <a:ext cx="83581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лиц бригадами скорой медицинской помощи (форма 30 табл. 2120 стр. 3 гр. 10) = форма 47 табл. 0400 стр. 1 гр. 1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 1 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 5 ______________, мужчины (60 лет и старше)  6 _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36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 всего (форма 30 табл. 2121 стр. 1 гр. 1) =  форма 30 табл. 2121 стр. 1 гр. 3 + форма 30 табл. 2121 стр. 1 гр. 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(форма 30 табл. 2121 стр. 1 гр. 1) =  форма 30 табл. 2120 стр. 3 гр. 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413000"/>
          <a:ext cx="8715600" cy="5256000"/>
        </p:xfrm>
        <a:graphic>
          <a:graphicData uri="http://schemas.openxmlformats.org/drawingml/2006/table">
            <a:tbl>
              <a:tblPr/>
              <a:tblGrid>
                <a:gridCol w="4429080"/>
                <a:gridCol w="509760"/>
                <a:gridCol w="1017720"/>
                <a:gridCol w="1306440"/>
                <a:gridCol w="1452600"/>
              </a:tblGrid>
              <a:tr h="914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помощ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28548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500120"/>
            <a:ext cx="83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0012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571400"/>
            <a:ext cx="84074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скорой медицинской помощи (форма 30 табл. 2200 стр. 1 гр. 5 + стр. 2 гр. 5 + стр. 3 гр. 5 +   стр. 4 гр. 5) =  форма 30 табл. 2120 стр. 3 гр. 3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.1.03. + 30.2200.1.2.0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.1.04. + 30.2200.1.2.0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.1.05. + 30.2200.1.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. = 30.2200.2.1.03. + 30.2200.2.2.03. + 30.2200.2.3.03. + 30.2200.2.4.0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. = 30.2200.2.1.04. + 30.2200.2.2.04. + 30.2200.2.3.04. + 30.2200.2.4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. = 30.2200.2.1.05. + 30.2200.2.2.05. + 30.2200.2.3.05. + 30.2200.2.4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экстренные консультатив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3. = 30.2200.3.1.03. + 30.2200.3.2.03. + 30.2200.3.3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4. = 30.2200.3.1.04. + 30.2200.3.2.04. + 30.2200.3.3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5. = 30.2200.3.1.05. + 30.2200.3.2.05. + 30.2200.3.3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лиц, которым оказана помощь общепрофильными фельдшерскими бригадам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ицинская эвакуация пациентов 1 ______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 амбулаторных условиях 1 ___________, из ни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х жителей  2 ____________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амбулаторная медицинская помощь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ездах (форма 47 табл. 0400 стр.1 гр. 9) = форма 30 табл. 2120 стр. 3 гр. 3 + табл. 2202 стр.1 гр.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71680" y="1714680"/>
          <a:ext cx="8143560" cy="451152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404720"/>
                <a:gridCol w="140652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один выез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ы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рожно-транспортное происше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один выезд на выз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гр. 3 и гр. 4) = число выездов бригад скорой медицинской помощи, затраченному на один выезд (табл. 2300 сумма строк    гр. 5 и гр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по гр. 3 и гр. 4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, затраченному на один выезд (табл. 2300 сумма строк гр. 5 и гр.6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14200" y="571680"/>
          <a:ext cx="8643960" cy="59212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 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е скор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 смерть наступила в автомобиле скорой  медицинс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ездов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за необоснованностью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едано в друг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к пациентам, пострадавших в ДТП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в ДТП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езд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втомобиле 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травмоцентры 1 и 2 уров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по медицинскому обеспечению спортивных и других массовых мероприятий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медицинской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85880" y="1752480"/>
            <a:ext cx="781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90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медицинскими работниками выездных бригад скорой медицинской помощи по месту вызова бригады, а также в транспортном средстве при медицинской эваку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ез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440" y="2071800"/>
            <a:ext cx="82630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ано за необоснованностью вызов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ереадресация непрофильных вызовов в другую медицинскую организ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500120"/>
            <a:ext cx="8301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ереданных в другие медицинские организации необоснованные вызова (строка 4.1. графа 3 и 4) следует расшифровать и предоставить в пояснительной запис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к пациентам, пострадавшим в дорожно-транспортных происшествиях, ед. (строка 5 графа 3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0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341000"/>
            <a:ext cx="8301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1.03. = 30.5450.1.1.04. + 30.5450.1.1.05. + 30.5450.1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2.03. = 30.5450.1.2.04. + 30.5450.1.2.05. + 30.5450.1.2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03. = 30.5450.1.3.04. + 30.5450.1.3.05. + 30.5450.1.3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 для новорожденных и детей ранне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1.03. = 30.5450.1.3.1.04.+30.5450.1.3.1.05.+ 30.5450.1.3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4.03. = 30.5450.1.4.04. + 30.5450.1.4.05. + 30.5450.1.4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3640" y="1341000"/>
            <a:ext cx="83343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1.03. + 30.5450.1.2.03. + 30.5450.1.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.1.04. + 30.5450.1.2.04. + 30.5450.1.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.1.05. + 30.5450.1.2.05. + 30.5450.1.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.1.06. + 30.5450.1.2.06. + 30.5450.1.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7 г. по сравнению с 2016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для транспортировки или санитарные автомобили оснащены аппаратом искусственной вентиляции легких, кислородным ингалятором, тележкой-каталкой со съемными кресельными носилками, приемным устройством для безопасной погрузки-выгрузки пациента, комплектом шин транспортных складных, фельдшерским набор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скорая, в том числе скорая специализированная, медицинская помощь пациентам, которым не требуется круглосуточного медицинского наблюдения и ле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экстренной медицинской помощи или автомобили скорой медицинской помощи, предназначенные для проведения лечебных мероприятий скорой медицинской помощи силами общепрофильной врачебной (фельдшерской) бригады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С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анимобили или автомобили скорой медицинской помощи, предназначенные для проведения лечебных мероприятий скорой медицинской помощи силами реанимационной или специализированной бригады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автоматизированной системой управления приема и обработки вызовов   1____________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ая отделением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 осуществляется медицинскими работниками стационарного отделения скорой медицинской помощ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400" y="1142640"/>
            <a:ext cx="8235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пациента в медицинскую организацию для оказания скорой медицинской помощи в стационарных условиях в стационарном отделении скорой медицинской помощи осуществляется уточнение диагноза, диагностика, динамическое наблюдение и проведение лечебно-диагностических мероприятий на койках скорой медицинской помощи суточного пребывания и, при наличии медицинских показаний, краткосрочное лечение длительностью не более 3 су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7-12-11T22:01:43Z</dcterms:modified>
  <cp:revision>24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