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CD5-785E-4CCE-8075-9808F1A2E5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7B43-8255-4515-9235-4F3DE01AD6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B96-516E-4DB2-B39A-539CD0CC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129-0CDB-4F65-AB64-B0879905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F16-536F-4A63-B6F3-C5194169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166-3ACC-48E3-8CA6-420BB823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A4F8-EF2C-42A6-A970-5B7A01F8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5D3A-0A7E-44F6-980F-511A1939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416F-075A-4731-9A1B-D5513DCE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5308-FD63-4B8D-9EFC-51CD0AFB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EAEE-548A-4775-926D-CD214A86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1CA9-2531-4CE6-8D8F-A89EC51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FE8-6C36-4066-9112-E7465D48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B72-4120-4E95-B30F-C78F74BA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6567-1753-4DD4-9876-60FCBAD9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C244-C8DA-4A63-B502-DBC4455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8F99-5C46-484D-9637-A8F922D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E5F0-A97D-4937-8F56-43D72717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79AA-7388-4306-BA5E-77589183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61CC-5C87-4535-A1BC-79F2C21E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7A8C-558A-464B-91D2-C0ED665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42CD-912B-4815-B4DA-24B8BA1F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A0A5-4E7C-4540-BE36-5F9083CE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6DDB-F154-493F-BE9C-D6F8721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1A7-F8F8-473B-BD92-A2860B1D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6B0C-464A-4D57-8569-5A148006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D7D4-0A7C-447D-9772-2685554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0F0E-03F7-4320-B239-A1F4FA6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FFE2-ABB1-4837-877C-FDC1CE9B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F75D-7321-4A1A-BBFC-963EA5E1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1511-CD51-4B0B-857B-18CA043B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93EA-53BD-4F82-AF27-C90796C4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BFCA-AF7F-4729-88E3-6C5FEF38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AF83-806E-460F-9708-0B5005D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753E-199E-4F33-BBA7-2638C0B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901-9DD8-4028-8FAC-ADBA9CD5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D037-3B37-4148-B93A-A0F7D92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31B5-AC2E-4B6A-9322-2B1B5E9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5ED52-FD99-489E-9628-FC88522B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016A-80EC-4DFE-A489-44C645B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9DDE-7CA3-43DB-BEA5-F2C58BDB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88FD-DC82-4B4F-8C89-F0FB7CFB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A2A5-DDE1-44C1-A8FF-381A6B5F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F28C-2ED7-4043-AC0F-84DCADD6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7348A-DEAF-437B-A55A-219918E2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FF1-90C8-4F9D-A6C8-344843C0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3EA-EB88-4DFC-B248-700C90EE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732-F984-4A7B-9625-D293AA5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3C9-06CA-4BE2-9E05-0729EF04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F76-FBB4-4C6B-8CED-345FE91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93A-9558-44EA-A58D-7219F7A87B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F921-ADED-4E31-A5F8-582BA7B42AE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AC0-6F4B-4FBF-875A-C36D268CEA1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CCCD-E0C6-4EFA-8BC6-68C321B340C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.начальника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штаб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ой службы медицины катастроф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3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835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3656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И 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за  2017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6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7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7432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&gt;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 &gt;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=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523880" y="946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1951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 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174600" y="2475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3 (4/5) = таблица 4 000  стр. 1 гр. 3 (4/5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277920" y="3048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309600" y="42480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95120" y="4951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Прямоугольник 1"/>
          <p:cNvSpPr/>
          <p:nvPr/>
        </p:nvSpPr>
        <p:spPr>
          <a:xfrm>
            <a:off x="271440" y="55976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533520" y="3790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указываем число формирований задействованных в СМК (на конец отчетного года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5382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 указываем количество выездов  формирований СМК  на ликвидацию медико-санитарных последствий ЧС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3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1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576360" y="4210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количестве ЧС с медико-санитарными последствиями должны соответствовать, представленным донесениям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76360" y="5257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хногенных ЧС руководствоваться критериями, принятыми на совещании 5 апреля 2013г. под председательством заместителя Министра здравоохранения РФ Каграманяна Игоря Николаевич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1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2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3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290"/>
                            </p:stCondLst>
                            <p:childTnLst>
                              <p:par>
                                <p:cTn id="165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R249-Y3</cp:lastModifiedBy>
  <cp:lastPrinted>2016-12-07T09:58:05Z</cp:lastPrinted>
  <dcterms:modified xsi:type="dcterms:W3CDTF">2017-12-11T09:06:52Z</dcterms:modified>
  <cp:revision>5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