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503-8AB6-44B6-8443-F1912CCF659F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7526-1ABA-4754-883A-2A376AB2FC56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E401-9900-4CD2-A983-B1F3B0AF54BF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763640" y="981000"/>
            <a:ext cx="590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580000" y="2276640"/>
            <a:ext cx="3024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                                         Оськов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86000" y="3228840"/>
            <a:ext cx="4572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2017 года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95280" y="155736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1800, 1900, 2000, 2001,  2100,  3000,  3002,  3100,  4000,  4001,  4100, 5000, 5100 собираются  сведения  о  пациентах с 01 января по 31 декабря 2017 года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собираются  сведения  о  паци-ентах, которые родились с 01 января по 31 декабря 2016 го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68360" y="1197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84360" y="765000"/>
            <a:ext cx="7920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течение 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 – выявлено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– выявлено  при  диспансеризации опр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ленных 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14 – снято с диспансерного наблю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5 – состоит под диспансерным наблюдением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50920" y="2781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68360" y="2852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4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68360" y="1628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группы больных 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групп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входит в графу 14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250920" y="2060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оответствии с данной трактовкой графы 8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графы 14  движение диспансерной группы по всем строкам должно идти из графы 8 минус графа 14 равно графе 15, в том числе и строкам раздела всех таблиц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197000"/>
          <a:ext cx="8496360" cy="5329080"/>
        </p:xfrm>
        <a:graphic>
          <a:graphicData uri="http://schemas.openxmlformats.org/drawingml/2006/table">
            <a:tbl>
              <a:tblPr/>
              <a:tblGrid>
                <a:gridCol w="2484360"/>
                <a:gridCol w="470160"/>
                <a:gridCol w="631800"/>
                <a:gridCol w="550800"/>
                <a:gridCol w="549360"/>
                <a:gridCol w="612720"/>
                <a:gridCol w="745920"/>
                <a:gridCol w="747720"/>
                <a:gridCol w="584280"/>
                <a:gridCol w="501480"/>
                <a:gridCol w="617760"/>
              </a:tblGrid>
              <a:tr h="2746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3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7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20"/>
          <p:cNvSpPr/>
          <p:nvPr/>
        </p:nvSpPr>
        <p:spPr>
          <a:xfrm>
            <a:off x="900000" y="1557360"/>
            <a:ext cx="777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9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7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Прямоугольник 21"/>
          <p:cNvSpPr/>
          <p:nvPr/>
        </p:nvSpPr>
        <p:spPr>
          <a:xfrm>
            <a:off x="1332000" y="620640"/>
            <a:ext cx="6769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476360" y="17002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8 = графе 1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я о детях, которым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2017 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01.01.2016 по 31.12.2016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84360" y="90792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-всего).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вших и умерши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ехавшие дети в данной графе не учитываютс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1128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родился 01 января 2016 года. Год ему исполнился 01 января 2017 года. Вася болел в течение этого, первого года (с 01 января по 31 декабря 2016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ася болел и в первый месяц  своей жизни с 01 января по 31 января 2016 года и все его заболевания Вы покажете в таблице 1500 формы 12 графе 5 за 2017 год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Вас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684360" y="9810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родился 31 декабря 2016 года. Год ему исполнился 31 декабря 2017 года. Петя болел в течение этого, первого года (с 31 декабря 2016 года по 30 декабря 2017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етя болел и в первый месяц  своей жизни с 31 декабря 2016 года по 30 января 2017 года и все его заболевания  Вы  покажете в таблице 1500 формы 12 графе 5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Пет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24000" y="692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 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700280"/>
          <a:ext cx="8569080" cy="2468520"/>
        </p:xfrm>
        <a:graphic>
          <a:graphicData uri="http://schemas.openxmlformats.org/drawingml/2006/table">
            <a:tbl>
              <a:tblPr/>
              <a:tblGrid>
                <a:gridCol w="4479840"/>
                <a:gridCol w="4089240"/>
              </a:tblGrid>
              <a:tr h="1097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800)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2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4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324000" y="429264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476360" y="5805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аблицы заполняются за 2017 год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11280" y="1916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писок учреждений, представляющих форму 12, и соответственно исключить возможность задвоения данных в таблице 15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286000" y="8366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13" name="Таблица 3" descr=""/>
          <p:cNvPicPr/>
          <p:nvPr/>
        </p:nvPicPr>
        <p:blipFill>
          <a:blip r:embed="rId1"/>
          <a:stretch/>
        </p:blipFill>
        <p:spPr>
          <a:xfrm>
            <a:off x="463680" y="1395360"/>
            <a:ext cx="835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125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90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ошибк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Прямоугольник 4"/>
          <p:cNvSpPr/>
          <p:nvPr/>
        </p:nvSpPr>
        <p:spPr>
          <a:xfrm>
            <a:off x="468360" y="5300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(из гр. 10) юноши (гр. 13) – следует читать - из заболеваний с впервые в жизни установленным диагнозом (из гр. 9) юнош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528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«девушки впервые»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907920"/>
            <a:ext cx="8353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-ентов, проживающих в районе обслуживания медиц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-ями, входящие в номенклатуру медицинских организац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 медицинскую  помощь  в  амбулаторных  усло-вия (приказ Минздрава  России  от 6  августа  2013 г.  № 529н «Об утверждении номенклатуры медицинских организаций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июля 2016 года № 355 «Об утверждении статистиче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-тического  наблюдения  в  сфере охраны здоровья» Федераль-ной службы государственной статистик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2286000" y="24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68436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684360" y="2205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в таблицах 1000, 1500, 2000, 3000, 4000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одинаковую нумерацию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-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39640" y="126828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заболеваниях, выявленных у  боль-ных, поступивших в стационар, минуя поликлини-ку, следует включать в отчёт на общих основаниях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 заполнен в поликли-нике на основании выписки из карты стационарно-го больного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1128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-регистрации в следующем. В заболева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-рых отмечены “звездочкой” (альтерна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755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-мер: острый отит, острый миокардит, острые  респиратор-ные  инфекции  верхних и  нижних  дыхательных  путей,  грипп, а  также  травмы,  за  исключением  по следствий и др.) регистрируются столько раз, сколько они возникают в течение отчетного года. При этом графа 4 должна быть ра-вна  графе  9  по  соответствующим  строкам  таблиц 1000, 1500, 2000, 3000 и  4000.  На  начало года по данным стро-кам 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684360" y="1341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сверять данные отдельных строк с профильными 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10.1,10.4.1.1, 10.4.2,10.4.3,10.4.4,10.5.1,10.5.2, 10.5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6.1,10.6.2,10.6.3,10.6.4,10.6.7,11.1,11.1.1,11.1.2,11.2,11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сс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вибрационной болезнью и больных получающих ле-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68360" y="83664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-ления,  оказывающие медицинскую помощь в амбу-латорных условиях и ведущая только консультатив-ный прием, составляет форму по соответствующим строкам лишь в том случае, если в данной организа-ции у пациентов  не только выявляются  эти заболе-вания, но  и осуществляется их лечение,  а также  и диспансерное наблюдение за пациентами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755640" y="105264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она-ра на основании "Выписного эпикриза". При этом если пациент при-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 статистического наблюдения № 12 и вносится  отметка о посе-щении. Если пациент на прием не  пришел, то в  Талоне регистриру-ются все заболевания без отметки о посещении. В Талоне так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врач  также делает отметки о дате впервые выявленного основного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федерального статистического наблюдения № 12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900000" y="162864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755640" y="2060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нарушения, вовлекающие иммунный механизм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рока 4.2 включает в себя коды D65-D69 и включает в себя тромбоцитопении, 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826920" y="134136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75564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форм 10, 11, 36, 37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755640" y="2852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граф 4, 9, 15 с формами по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и и наркологии и с движением диспансерной групп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40328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684360" y="1916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11280" y="1989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  об  общем числе зарегистрированных в данном учреждении у пациентов  за-болеваний и о больных с заболеваниями, по поводу которых осуществляется диспансеризация населен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1476360" y="1123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68360" y="2536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1187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900000" y="3075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971640" y="9079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684360" y="24512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611280" y="2565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042920" y="213372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611280" y="1341360"/>
            <a:ext cx="8064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-ном, фоновом,  конкурирующем  и сопутствующем забо-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-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-зываются по соответствующим строкам по  числу  выяв-ленных  и  зарегистрированных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билитация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1187280" y="119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900000" y="2276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1692360" y="112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755640" y="2781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611280" y="1268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1116000" y="119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042920" y="2060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755640" y="37162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826920" y="198900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826920" y="198900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dafbfe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755640" y="148428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веде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4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258920" y="1341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684360" y="26128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8 - эндометриоз с (Д) 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- на (Д) 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900000" y="1268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90000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755640" y="2921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148428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755640" y="93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56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042920" y="38750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539640" y="3075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971640" y="112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755640" y="31528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258920" y="184464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 расстройств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м и строкам форм 10, 11, 36, 37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оряжение МЗ РФ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684360" y="1557360"/>
            <a:ext cx="79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84360" y="220500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обязательным движение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.8 – гр.14 = гр.15)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20"/>
          <p:cNvSpPr/>
          <p:nvPr/>
        </p:nvSpPr>
        <p:spPr>
          <a:xfrm>
            <a:off x="539640" y="1557360"/>
            <a:ext cx="828036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формы 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08 декабря 2017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???????????????????????????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124000" y="56037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684360" y="213372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 вед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больницы, поликлиники, имеющие психиатрические (психоневро-логические, психоте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0080" y="938160"/>
            <a:ext cx="93279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32000" y="620640"/>
          <a:ext cx="6095880" cy="209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09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Прямоугольник 18"/>
          <p:cNvSpPr/>
          <p:nvPr/>
        </p:nvSpPr>
        <p:spPr>
          <a:xfrm>
            <a:off x="826920" y="907920"/>
            <a:ext cx="720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ВОЗМОЖНО ПРЕДОСТАВЛЕНИЕ В ЭЛЕКТРОННОМ ВИДЕ 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ЗАБОЛЕВАНИЯХ ПСИХИЧЕСКИМИ РАССТРОЙСТВАМИ И РАССТРОЙСТВАМИ ПОВЕДЕНИЯ (КРОМЕ ЗАБОЛЕВАНИЙ, СВЯЗАННЫХ С УПОТРЕБЛЕНИЕМ ПСИХОАКТИВНЫХ ВЕЩЕСТВ)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66" name="Таблица 2" descr=""/>
          <p:cNvPicPr/>
          <p:nvPr/>
        </p:nvPicPr>
        <p:blipFill>
          <a:blip r:embed="rId1"/>
          <a:stretch/>
        </p:blipFill>
        <p:spPr>
          <a:xfrm>
            <a:off x="463680" y="884160"/>
            <a:ext cx="8356320" cy="5827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144360" y="-46800"/>
            <a:ext cx="885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3000)                                                                                                                                                                                                 Код по ОКЕИ: человек – 792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468360" y="511200"/>
            <a:ext cx="2016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굴림"/>
                <a:ea typeface="굴림"/>
              </a:rPr>
              <a:t>(2000, 3000</a:t>
            </a:r>
            <a:r>
              <a:rPr b="0" lang="ru-RU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3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(психоневро-логические, психотебольницы, поликлиники, имеющие 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психиатрические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00080" y="938160"/>
            <a:ext cx="932796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332000" y="981000"/>
          <a:ext cx="6095880" cy="2872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872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ВЕДЕНИЯ О КОНТИНГЕНТАХ ПСИХИЧЕСКИ БОЛЬНЫХ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  20__  г.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258920" y="620640"/>
          <a:ext cx="6095880" cy="166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1123920"/>
          <a:ext cx="7920000" cy="3776760"/>
        </p:xfrm>
        <a:graphic>
          <a:graphicData uri="http://schemas.openxmlformats.org/drawingml/2006/table">
            <a:tbl>
              <a:tblPr/>
              <a:tblGrid>
                <a:gridCol w="1581120"/>
                <a:gridCol w="645840"/>
                <a:gridCol w="360360"/>
                <a:gridCol w="578160"/>
                <a:gridCol w="504720"/>
                <a:gridCol w="503280"/>
                <a:gridCol w="438120"/>
                <a:gridCol w="647640"/>
                <a:gridCol w="646200"/>
                <a:gridCol w="353880"/>
                <a:gridCol w="438120"/>
                <a:gridCol w="432000"/>
                <a:gridCol w="790560"/>
              </a:tblGrid>
              <a:tr h="280800"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дап-тированный для использования в РФ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м диагно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наблюдения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наблюдением пациентов на конец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, показанных в гр. 10, переведено в течение года из группы пациентов, получавших консультативно-лечебную помощ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язи с выздо-ровлением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тойким улучшение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– 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09,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 и (или) состояния слабоум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05, F06 (часть), F09, F20-F25, F28, F29, F84.0-4, F30-F39 (часть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, шизотипические расстройства, шизоаффективные психозы, аффективные психозы с неконгруентным аффекту бред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, F21, F25, F3x.x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непсихотического характ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6 (часть), F07, F30-F39 (часть), F40-F69, F80-F83, F84.5, F90-F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 синдром Асперг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70-F7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(стр.1): 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3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1403280" y="868320"/>
            <a:ext cx="19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굴림"/>
                <a:ea typeface="굴림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3346560"/>
          <a:ext cx="6096240" cy="166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523880" y="3268800"/>
          <a:ext cx="6096240" cy="32040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32040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3880" y="2411280"/>
          <a:ext cx="6096240" cy="238608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2564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044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- органу исполнительной власти субъекта Российской Федерации, осуществляющему 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523880" y="4797360"/>
          <a:ext cx="6096240" cy="1727280"/>
        </p:xfrm>
        <a:graphic>
          <a:graphicData uri="http://schemas.openxmlformats.org/drawingml/2006/table">
            <a:tbl>
              <a:tblPr/>
              <a:tblGrid>
                <a:gridCol w="657360"/>
                <a:gridCol w="1812960"/>
                <a:gridCol w="1812960"/>
                <a:gridCol w="1812960"/>
              </a:tblGrid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Rectangle 5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32000" y="620640"/>
          <a:ext cx="6095880" cy="216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16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403280" y="1052640"/>
          <a:ext cx="6096240" cy="215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56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3440" y="1484280"/>
          <a:ext cx="5937120" cy="792360"/>
        </p:xfrm>
        <a:graphic>
          <a:graphicData uri="http://schemas.openxmlformats.org/drawingml/2006/table">
            <a:tbl>
              <a:tblPr/>
              <a:tblGrid>
                <a:gridCol w="5937120"/>
              </a:tblGrid>
              <a:tr h="792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47640" y="2637000"/>
          <a:ext cx="6072480" cy="4033800"/>
        </p:xfrm>
        <a:graphic>
          <a:graphicData uri="http://schemas.openxmlformats.org/drawingml/2006/table">
            <a:tbl>
              <a:tblPr/>
              <a:tblGrid>
                <a:gridCol w="1670400"/>
                <a:gridCol w="407880"/>
                <a:gridCol w="527040"/>
                <a:gridCol w="349200"/>
                <a:gridCol w="351000"/>
                <a:gridCol w="291960"/>
                <a:gridCol w="407880"/>
                <a:gridCol w="409680"/>
                <a:gridCol w="407880"/>
                <a:gridCol w="401760"/>
                <a:gridCol w="380880"/>
                <a:gridCol w="466920"/>
              </a:tblGrid>
              <a:tr h="36036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1,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44640" rIns="44640" tIns="0" bIns="0" anchor="b">
                      <a:noAutofit/>
                    </a:bodyPr>
                    <a:p>
                      <a:pPr marL="165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640" rIns="44640" tIns="0" bIns="0" anchor="b">
                      <a:noAutofit/>
                    </a:bodyPr>
                    <a:p>
                      <a:pPr marL="255600" indent="-7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тский аутизм, атипичный аутизм, синдром Ретта, дезинтегративное расстройство детского возраста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ительные болезни центральной нервной 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й менинг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цефалит, миелит и энцефаломиел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ые атрофии, поражающ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 центральную нервную систем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амидные и другие двигательные наруш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0, G21,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3-G2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523880" y="1268280"/>
          <a:ext cx="6096240" cy="1366920"/>
        </p:xfrm>
        <a:graphic>
          <a:graphicData uri="http://schemas.openxmlformats.org/drawingml/2006/table">
            <a:tbl>
              <a:tblPr/>
              <a:tblGrid>
                <a:gridCol w="1644840"/>
                <a:gridCol w="403200"/>
                <a:gridCol w="517320"/>
                <a:gridCol w="344520"/>
                <a:gridCol w="344520"/>
                <a:gridCol w="403200"/>
                <a:gridCol w="403200"/>
                <a:gridCol w="401760"/>
                <a:gridCol w="403200"/>
                <a:gridCol w="395280"/>
                <a:gridCol w="374760"/>
                <a:gridCol w="460440"/>
              </a:tblGrid>
              <a:tr h="9180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4"/>
          <p:cNvSpPr/>
          <p:nvPr/>
        </p:nvSpPr>
        <p:spPr>
          <a:xfrm>
            <a:off x="1835280" y="981000"/>
            <a:ext cx="31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100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, 2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0, 3000, 4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95280" y="692280"/>
            <a:ext cx="83534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3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4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-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й - 5000, 5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 6.1 + стр 6.2 = стр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?????????????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Прямоугольник 1"/>
          <p:cNvSpPr/>
          <p:nvPr/>
        </p:nvSpPr>
        <p:spPr>
          <a:xfrm>
            <a:off x="755640" y="198900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1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Никита А. Голубев</cp:lastModifiedBy>
  <dcterms:modified xsi:type="dcterms:W3CDTF">2017-12-14T11:28:17Z</dcterms:modified>
  <cp:revision>477</cp:revision>
  <dc:subject/>
  <dc:title>슬라이드 1</dc:title>
</cp:coreProperties>
</file>