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4870-331C-4425-AD2C-8675CE5A2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9C62-7BFB-4D69-A8D9-A881E8D3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BBA9-CA8A-458B-AA61-25065B662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10F3-62FD-452A-AF25-C7299DEF6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9011-E67E-48E2-9B53-C00E0504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D07C-1FE5-4D1C-8A26-6E5911E7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0F5F-F6B5-45C3-B165-20FF747D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593A-AFDA-4688-9C83-D78DCFE9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D8D9-3198-4D35-9A80-32C9C56C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6DA1-527D-4552-8329-EBBB8B7C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421D-70DD-4700-B2B2-7F2CC0D1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6AB2-DC78-4795-AEE3-2F0E60E5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053E-4F20-4D5F-BC29-05B1959B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1730-D733-4E40-84BF-A22B948D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A020-1256-417F-8707-61313126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D766-50EC-4C7C-B929-D57E7E7CD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B4EE-AE30-415B-B459-0D6ED7694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EAB1-60CA-409F-B126-5066E363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01A2-D7A9-4173-A159-20B1F410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49F1-5AC7-4C92-9D05-58F875B5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9707-33AC-4F48-AEE6-10606F53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4CFD-655E-4939-846E-C5B8DD38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F354-3FBB-4F3C-8655-85BFD586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8A70-7D4F-496D-9D10-874383A7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1A50-8370-4A91-8BEF-88DAD1A7365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EA83-9742-4DC9-A051-DEF8A4CA612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5640" y="357120"/>
            <a:ext cx="779292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Заполнение формы отраслевого статистического наблюдения </a:t>
            </a:r>
            <a:br>
              <a:rPr sz="3900"/>
            </a:b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№ 14 дс «Сведения о деятельности дневных стационаров медицинских организаций» за 2017 год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взрослых 1.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141 табл. 1010 стр. 1 гр. 1 = форма 30  табл. 1001 стр.16 гр. 4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детей 2.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141 табл. 1010 стр. 1 гр. 2 = форма 30 табл. 1001 стр.17 гр. 4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. Использование коек дневного стационара медицинской организации по профиля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1600200"/>
          <a:ext cx="8229600" cy="485316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55728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соб-ного 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-н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. Использование коек дневного стационара медицинской организации по профиля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1600200"/>
          <a:ext cx="8229600" cy="463716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53172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соб-ного 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-н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. Использование коек дневного стационара медицинской организации по профилям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9640" y="148428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в дневном стационаре указывают в соответствии с приказом об организации данного структурного подразделения медицинской организа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на конец года заполняется без учета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заполняется с учетом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указывае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. Использование коек дневного стационара медицинской организации по профилям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49 «койки скорой медицинской помощи краткосрочного пребывания»  графам с 3 по 2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, чтобы на койках для детей не указывались сведения о пациентах старше трудоспособного возрас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детей не заполняются сведения о числе коек для взрослы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заполняются сведения о числе коек для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13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. Использование коек дневного стационара медицинской организации по профил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24000" y="1052640"/>
          <a:ext cx="8640720" cy="5684760"/>
        </p:xfrm>
        <a:graphic>
          <a:graphicData uri="http://schemas.openxmlformats.org/drawingml/2006/table">
            <a:tbl>
              <a:tblPr/>
              <a:tblGrid>
                <a:gridCol w="1295280"/>
                <a:gridCol w="433440"/>
                <a:gridCol w="647640"/>
                <a:gridCol w="647640"/>
                <a:gridCol w="576360"/>
                <a:gridCol w="720720"/>
                <a:gridCol w="718920"/>
                <a:gridCol w="720720"/>
                <a:gridCol w="719280"/>
                <a:gridCol w="720720"/>
                <a:gridCol w="720720"/>
                <a:gridCol w="719280"/>
              </a:tblGrid>
              <a:tr h="44136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-пособ-ного 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-пособ-н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ческие 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ческие 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атологии беременнос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 сомат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Box 8"/>
          <p:cNvSpPr/>
          <p:nvPr/>
        </p:nvSpPr>
        <p:spPr>
          <a:xfrm>
            <a:off x="3492360" y="4581360"/>
            <a:ext cx="115092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2195640" y="4941720"/>
            <a:ext cx="115236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1"/>
          <p:cNvSpPr/>
          <p:nvPr/>
        </p:nvSpPr>
        <p:spPr>
          <a:xfrm>
            <a:off x="2195640" y="5805360"/>
            <a:ext cx="115236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0"/>
          <p:cNvSpPr/>
          <p:nvPr/>
        </p:nvSpPr>
        <p:spPr>
          <a:xfrm>
            <a:off x="5364000" y="4941720"/>
            <a:ext cx="7146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7524720" y="4941720"/>
            <a:ext cx="785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5364000" y="5805360"/>
            <a:ext cx="785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4"/>
          <p:cNvSpPr/>
          <p:nvPr/>
        </p:nvSpPr>
        <p:spPr>
          <a:xfrm>
            <a:off x="7451640" y="5805360"/>
            <a:ext cx="785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5"/>
          <p:cNvSpPr/>
          <p:nvPr/>
        </p:nvSpPr>
        <p:spPr>
          <a:xfrm>
            <a:off x="5364000" y="5445000"/>
            <a:ext cx="785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7524720" y="5445000"/>
            <a:ext cx="785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3296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00040" y="1214280"/>
          <a:ext cx="8229600" cy="4316400"/>
        </p:xfrm>
        <a:graphic>
          <a:graphicData uri="http://schemas.openxmlformats.org/drawingml/2006/table">
            <a:tbl>
              <a:tblPr/>
              <a:tblGrid>
                <a:gridCol w="785880"/>
                <a:gridCol w="58572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64800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6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соб-ного 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-н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Заголовок 1"/>
          <p:cNvSpPr/>
          <p:nvPr/>
        </p:nvSpPr>
        <p:spPr>
          <a:xfrm>
            <a:off x="500040" y="5715000"/>
            <a:ext cx="8329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 формы 14дс и 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430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3. = 47.650.46.06. + 47.650.51.06. Число коек для взрослых на конец года в дневных стационарах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5. = 47.650.46.07. + 47.650.51.07. Число коек для детей на конец года в дневных стационарах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7. = 47.650.46.08. + 47.650.51.08. Число выписанных взрослых из дневных стационар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8. = 47.650.46.09. + 47.650.51.09. Число выписанных лиц старше трудоспособного возраста из дневных стационар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 формы 14дс и 4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0040" y="9284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0840" indent="-330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9. = 47.650.46.10. + 47.650.51.10. Число выписанных детей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0840" indent="-330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0. = 47.650.46.11. + 47.650.51.11. Число проведенных пациенто-дней взрослыми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0840" indent="-330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1. = 47.650.46.12. + 47.650.51.12. Число проведенных пациенто-дней лицами старше трудоспособного возраст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0840" indent="-330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2. = 47.650.46.13. + 47.650.51.13. Число проведенных пациенто-дней детьми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0840" indent="-330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 формы 14дс и 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430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3. = 47.660.46.06. + 47.660.51.06. Число коек (мест) для взрослых на конец года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5. = 47.660.46.07. + 47.660.51.07. Число коек (мест) для детей на конец года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7. = 47.660.46.08. + 47.660.51.08. Число выписанных взрослых из дневных стационар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8. = 47.660.46.09. + 47.660.51.09. Число выписанных лиц старше трудоспособного возраста из дневных стационар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410320" cy="478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7531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Российской Федерации № 438 от 9 декабря 1999 г. «Об организации деятельности дневных стационаров в лечебно-профилактическом учреждении»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 формы 14дс и 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00040" y="9284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0840" indent="-330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9. = 47.660.46.10. + 47.660.51.10. Число выписанных детей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0840" indent="-330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0. = 47.660.46.11. + 47.660.51.11. Число проведенных пациенто-дней взрослыми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0840" indent="-330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1. = 47.660.46.12. + 47.660.51.12. Число проведенных пациенто-дней лицами старше трудоспособного возраст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0840" indent="-330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2. = 47.660.46.13. + 47.660.51.13. Число проведенных пациенто-дней детьми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0840" indent="-330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 формы 14дс и 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430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ах медицинских организаций, оказывающих помощь на дому (стационары на дому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100.1.03. = 47.670.46.06. + 47.670.51.06. Число коек (мест) для взрослых на конец года в стационарах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100.1.05. = 47.670.46.07. + 47.670.51.07. Число коек (мест) для детей на конец года в стационарах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 формы 14дс и 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430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на дому (стационары на дому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100.1.07. = 47.670.46.08. + 47.670.51.08. Число выписанных взрослых из стационаров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100.1.08. = 47.670.46.09. + 47.670.51.09. Число выписанных лиц старше трудоспособного возраста из стационаров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100.1.09. = 47.670.46.10. + 47.670.51.10. Число выписанных детей из стационаров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 формы 14дс и 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040" y="9284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на дому (стационары на дому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100.1.10. = 47.670.46.11. + 47.670.51.11. Число проведенных пациенто-дней взрослыми в стационарах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100.1.11. = 47.670.46.12. + 47.670.51.12. Число проведенных пациенто-дней лицами старше трудоспособного возраста в стационарах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100.1.12. = 47.670.46.13. + 47.670.51.13. Число проведенных пациенто-дней детьми в стационарах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ло в дневном стационаре при подразделениях медицинских организаций, оказывающих медицинскую помощ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2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 3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4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му  5 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6 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79280" y="928440"/>
            <a:ext cx="878544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1.=141.3000.1.06.+141.3500.1.06. Число умерших (взрослых и детей) в дневном стационаре медицинских организаций, оказывающих помощь в стационарных услови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2.=141.3500.1.06. Число умерших детей в дневном стационаре медицинских организаций, оказывающих помощь в стационарных услови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3.=141.3000.1.09.+141.3500.1.09. Число умерших (взрослых и детей) в дневном стационаре медицинских организаций, оказывающих помощь в амбулаторных услови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4.=141.3500.1.09. Число умерших детей в дневном стационаре медицинских организаций, оказывающих помощь в амбулаторных услови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5. = 141.3000.1.12.+141.3500.1.12. Число умерших (взрослых и детей) в стационаре на дом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6.=141.3500.1.12. Число умерших детей в стационаре на дом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сельских жителей из дневных стационаров медицинских организаций, оказывающих медицинскую помощь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 2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му  3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50004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пациентов в дневных стационарах, сроки и исходы ле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. Дневные стационары для взросл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13840" y="6018120"/>
            <a:ext cx="892980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20 графам 10, 11, 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28760" y="928800"/>
          <a:ext cx="8286480" cy="5143320"/>
        </p:xfrm>
        <a:graphic>
          <a:graphicData uri="http://schemas.openxmlformats.org/drawingml/2006/table">
            <a:tbl>
              <a:tblPr/>
              <a:tblGrid>
                <a:gridCol w="2666880"/>
                <a:gridCol w="276120"/>
                <a:gridCol w="460440"/>
                <a:gridCol w="552600"/>
                <a:gridCol w="552240"/>
                <a:gridCol w="552600"/>
                <a:gridCol w="554040"/>
                <a:gridCol w="552240"/>
                <a:gridCol w="552600"/>
                <a:gridCol w="552600"/>
                <a:gridCol w="552240"/>
                <a:gridCol w="461880"/>
              </a:tblGrid>
              <a:tr h="11268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. Дневные стационары для дете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28400" y="6214680"/>
            <a:ext cx="8715240" cy="4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21 графам 10, 11, 12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00040" y="714240"/>
          <a:ext cx="8001000" cy="5392800"/>
        </p:xfrm>
        <a:graphic>
          <a:graphicData uri="http://schemas.openxmlformats.org/drawingml/2006/table">
            <a:tbl>
              <a:tblPr/>
              <a:tblGrid>
                <a:gridCol w="2298600"/>
                <a:gridCol w="281160"/>
                <a:gridCol w="466560"/>
                <a:gridCol w="561960"/>
                <a:gridCol w="560520"/>
                <a:gridCol w="560520"/>
                <a:gridCol w="561960"/>
                <a:gridCol w="560160"/>
                <a:gridCol w="560520"/>
                <a:gridCol w="560520"/>
                <a:gridCol w="561960"/>
                <a:gridCol w="466560"/>
              </a:tblGrid>
              <a:tr h="10656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невные стациона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4360" y="1500120"/>
            <a:ext cx="795960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труктурные подразделения лечебно-профилактических учреждений, в том числе амбулаторно-поликлинических, больничных учреждений, клиник медицинских научно-исследовательских институтов и образовательных учреждений.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8360" y="1268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7. = 141.3000.1.04. + 141.3000.20.04. Число выписанных взрослых из дневных стационар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9. = 141.3500.1.04. + 141.3500.21.04. Число выписанных детей из дневных стационар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8360" y="1268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 условиях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7. = 141.3000.1.07. + 141.3000.20.07. Число выписанных взрослых из дневных стационар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9. = 141.3500.1.07. + 141.3500.21.07. Число выписанных детей из дневных стационар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8360" y="1268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на дому (стационары на дому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100.1.07. = 141.3000.1.10. + 141.3000.20.10. Число выписанных взрослых из стационаров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100.1.09. = 141.3500.1.10. + 141.3500.21.10. Число выписанных детей из стационаров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щего числа выписанных (гр. 4 и 7 таблиц 3000 и 3500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ы райвоенкоматом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госпитализированные для обследования и оказавшиеся здоровым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2 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3 ______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4 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1028"/>
          <p:cNvSpPr txBox="1"/>
          <p:nvPr/>
        </p:nvSpPr>
        <p:spPr>
          <a:xfrm rot="65400">
            <a:off x="1066680" y="1752480"/>
            <a:ext cx="7620120" cy="41148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Благодарю за внимание !</a:t>
            </a:r>
            <a:endParaRPr b="1" lang="en-US" sz="7200" spc="1" strike="noStrike">
              <a:ln w="0">
                <a:noFill/>
              </a:ln>
              <a:solidFill>
                <a:srgbClr val="ff3300">
                  <a:alpha val="50000"/>
                </a:srgbClr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ая отделением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рганизации дневных стационар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71320" y="18572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проведение профилактических, диагностических, лечебных и реабилитационных мероприятий пациентам, не требующим круглосуточного медицинского наблюдения, с применением современных технологий в соответствии со стандартами и протоколами ведения пациентов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95280" y="1628640"/>
          <a:ext cx="8229600" cy="4664160"/>
        </p:xfrm>
        <a:graphic>
          <a:graphicData uri="http://schemas.openxmlformats.org/drawingml/2006/table">
            <a:tbl>
              <a:tblPr/>
              <a:tblGrid>
                <a:gridCol w="1235160"/>
                <a:gridCol w="420480"/>
                <a:gridCol w="730440"/>
                <a:gridCol w="730080"/>
                <a:gridCol w="731880"/>
                <a:gridCol w="730440"/>
                <a:gridCol w="730080"/>
                <a:gridCol w="730440"/>
                <a:gridCol w="730080"/>
                <a:gridCol w="730440"/>
                <a:gridCol w="730080"/>
              </a:tblGrid>
              <a:tr h="6141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-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медицинские работ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1000 заполняют все медицинские организации, имеющие дневные стационары, в соответствии со штатным расписанием, утвержденным руководителем медицинской организации в установленном порядк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штатных и занятых должностях показываются как целыми, так и дробными числами (0,25, 0,5 и 0,75 должности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ах 5, 8 и 11 «Число физических лиц» показывают только основных работников, имеющих трудовую книжку в данной организа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х совместителей в данные графы не включают, внутренних совместителей показывают как физические лица только один раз на основной занимаемой должност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4 «Всего» не следует указывать прочий персонал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4 (всего) должна быть равна сумме строк 1, 2, 3 по графам 3, 4, 5, 6, 7, 8, 9, 10, 1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штатных должностей в дневных стационарах медицинских организаций, оказывающих помощь в стационарных условиях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3 = 141.1000.1.03 + 141.1000.2.03 +141.1000.3.03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8760" y="157176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взрослых 1._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141 табл. 1010 стр. 1 гр. 1 = форма 47 табл.0650 стр.46 гр.4 + стр.51 гр.4 + табл. 0660 стр.46 гр. 4 + стр.51 гр.4 + табл. 0670 стр.46 гр. 4 + стр.51 гр. 4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детей 2.____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141 табл. 1010 стр. 1 гр. 2 = форма 47 табл. 0650 стр.46 гр. 5 + стр.51 гр.5 + табл. 0660 стр.46 гр. 5 + стр.51 гр. 5 + табл. 0670 стр.46 гр. 5 + стр.51 гр. 5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9:51:31Z</dcterms:created>
  <dc:creator>Vaio</dc:creator>
  <dc:description/>
  <dc:language>en-US</dc:language>
  <cp:lastModifiedBy>Vaio</cp:lastModifiedBy>
  <dcterms:modified xsi:type="dcterms:W3CDTF">2017-12-11T22:04:32Z</dcterms:modified>
  <cp:revision>165</cp:revision>
  <dc:subject/>
  <dc:title>Форма отраслевого статистического наблюдения  № 14 дс «Сведения о деятельности дневных стационаров медицинских организаций»</dc:title>
</cp:coreProperties>
</file>