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6.xml.rels" ContentType="application/vnd.openxmlformats-package.relationships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3757-2106-4EAB-9A01-B0DF15D43C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7F48-0B5D-4AA4-B873-69313ED7FB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A18A-CA04-4DBD-8247-0D6CF4285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FD46-CBB8-4C64-8F94-8C8482E2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62B4-56FD-4D9E-A261-7BE05952C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F786-3FAE-43A8-B02E-B56DABDA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68F3-0660-401D-97B7-480CC81BE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2FA5-C5E3-4AAC-80F1-53F6DE7A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5CD6-5AB7-47F8-B681-867F3799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10BF-FDFD-4AB0-8AD8-3FD4E458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2A41-31D4-44BC-825F-95C0CDD4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E163-89EB-4916-8387-2BD9D10F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A607-7FC9-43E8-BF73-0F194F25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AC9B-09F4-4AE2-8BD8-5642EFDA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2F16-18AA-4047-B6B8-50FA49BB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6F43-F02F-47B9-8251-725F714F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FCC1-6655-4A46-B32F-7A1B2B38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6562-35B9-4EBE-A7C9-EA0DAEB42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E4D4-5DD9-474C-A5AD-0911EB3E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E3C0-FB12-470F-BC89-AAF24293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7D59-CA84-4188-B5B6-0FB13237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C773-81E9-4D01-95DB-3A19D262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9836-856D-4AFA-86DF-E934186D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BC1E-2AD8-486D-85F4-CA4879DF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9B4D-B1FC-48C6-AAD2-0DBB4EE3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FCC6-F1BF-4A46-84E8-2765CF3E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F397-548C-4380-A991-0307C33FE6F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07AD-5D64-4F37-A316-2BDCF65BAD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A05A-81EC-4E3B-9392-031B008B17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emil@mednet.ru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3"/>
          <p:cNvSpPr/>
          <p:nvPr/>
        </p:nvSpPr>
        <p:spPr>
          <a:xfrm>
            <a:off x="3276720" y="6435720"/>
            <a:ext cx="27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Москва 2017 г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1403280" y="2276640"/>
            <a:ext cx="69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ЕДЕРАЛЬНОЕ СТАТИСТИЧЕСКОЕ НАБЛЮ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1476360" y="2781360"/>
            <a:ext cx="64087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ЕДЕНИЯ О 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ДРАЗДЕЛЕНИЙ МЕДИЦИНСКОЙ ОРГАНИЗАЦИИ, ОКАЗЫВАЮЩИХ МЕДИЦИНСКУЮ ПОМОЩЬ В СТАЦИОНАРНЫХ УСЛОВ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 2017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Форма №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каз Росст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 утверждении фор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 27.12.2016 №8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ЛОЖНЕНИЯ, КОТОРЫЕ НЕ МОГУТ БЫТЬ ПЕРВОНАЧАЛЬНОЙ ПРИЧИНОЙ ЛЕТАЛЬНОГО ИСХОДА В СТАЦИОНАРЕ</a:t>
            </a: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СЕПСИ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►</a:t>
            </a:r>
            <a:r>
              <a:rPr b="1" lang="ru-RU" sz="28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СТЕНОКАРДИЯ НА ФОНЕ ХРОНИЧЕСКОЙ ФОРМЫ ИШЕМИЧЕСКОЙ БОЛЕЗНИ СЕРД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►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2800" spc="-1" strike="noStrike">
                <a:solidFill>
                  <a:srgbClr val="a50021"/>
                </a:solidFill>
                <a:latin typeface="Calibri"/>
              </a:rPr>
              <a:t>ПОЧЕЧНАЯ НЕДОСТАТОЧ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457200" y="5253840"/>
            <a:ext cx="8229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Каждый случай летального исхода при этих осложнениях должен быть подтвержден письменной копией посмертного заключительного диагноза при сдаче годового отчета с указанием кода МКБ о первоначальной причине смер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64480" cy="556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Сепсис</a:t>
            </a: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является </a:t>
            </a: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осложнением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 обширных гнойных процессов (одонтогенных, остеогенных, отогенных, тонзиллогенных, риногенных, генитальных, урогенных, раневых и т.д.).</a:t>
            </a: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редких случая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когда причину сепсиса установить не удается, он носит названи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иптогенног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и кодируется как самостоятельная нозологическая форм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Calibri"/>
                <a:ea typeface="Times New Roman"/>
              </a:rPr>
              <a:t>Необходимо обратить внимание, что в акушерско-гинекологической практике, как правило, сепсис регистрируется не как осложнение аборта, беременности, родов и послеродового периода, а как криптогенное заболевание. Это ведет к сокрытию случаев материнской смерт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ДИНАМИКА ЛЕТАЛЬНОСТИ ОТ СЕПСИСА В СТАЦИОНАРА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ссийская Федер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39640" y="1413000"/>
          <a:ext cx="8147160" cy="4655880"/>
        </p:xfrm>
        <a:graphic>
          <a:graphicData uri="http://schemas.openxmlformats.org/drawingml/2006/table">
            <a:tbl>
              <a:tblPr/>
              <a:tblGrid>
                <a:gridCol w="1384560"/>
                <a:gridCol w="2117520"/>
                <a:gridCol w="2036880"/>
                <a:gridCol w="2608200"/>
              </a:tblGrid>
              <a:tr h="476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оды лечения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епсиса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тациона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ыло б-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зрослые + дет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 б-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зрослые + дет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Показатель летальности в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2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0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9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4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1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5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1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4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1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250920" y="1291320"/>
            <a:ext cx="8642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Стенокард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клинический синдром, проявляющийся чувством дискомфорта или болью в грудной клетке сжимающего, давящего характера, которая локализуется чаще всего за грудиной и может иррадиировать в левую руку, шею, нижнюю челюсть, эпигастральную область. Стенокардия обусловлена преходящей ишемией миокарда, основой которой является несоответствие между потребностью миокарда в кислороде и его доставкой по коронарным артериям. Стенокардия является  проявлением "ишемической болезни сердца", которая по определению ВОЗ (1971) представляет собой </a:t>
            </a:r>
            <a:r>
              <a:rPr b="1" i="1" lang="ru-RU" sz="2000" spc="-1" strike="noStrike" u="sng">
                <a:solidFill>
                  <a:srgbClr val="c0504d"/>
                </a:solidFill>
                <a:uFillTx/>
                <a:latin typeface="Arial"/>
              </a:rPr>
              <a:t>острую или хроническую дисфункцию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возникающую вследствие относительного или абсолютного уменьшения снабжения миокарда артериальной кров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cc"/>
                </a:solidFill>
                <a:latin typeface="Calibri"/>
              </a:rPr>
              <a:t>СТЕНОКАРД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2"/>
          <p:cNvSpPr/>
          <p:nvPr/>
        </p:nvSpPr>
        <p:spPr>
          <a:xfrm>
            <a:off x="5083200" y="1565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116000" y="1341360"/>
          <a:ext cx="6624720" cy="4348080"/>
        </p:xfrm>
        <a:graphic>
          <a:graphicData uri="http://schemas.openxmlformats.org/drawingml/2006/table">
            <a:tbl>
              <a:tblPr/>
              <a:tblGrid>
                <a:gridCol w="2208240"/>
                <a:gridCol w="2206440"/>
                <a:gridCol w="221004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бсолютные величины летальных исх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нокардия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20.0-.9)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 неё нестабильная стенокардия 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.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24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24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23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4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8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6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2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Динамика летальности от стенокардии в стационарах Р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446040" y="1270080"/>
            <a:ext cx="8253360" cy="49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760" bIns="158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РИЧИНЫ ХРОНИЧЕСКОЙ ПОЧЕЧНОЙ НЕДОСТАТО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 Хронический гломерулонефрит (поражение клубочкового аппарата почек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 Вторичные поражения почек, вызванны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сахарным диабетом 1 и 2 типа;</a:t>
            </a:r>
            <a:br>
              <a:rPr sz="1800"/>
            </a:b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- артериальной гипертензией;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истемными заболеваниями соединительной ткан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ирусным гепатитом «В» и/или «С»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истемными васкулитам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дагрой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аляр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злокачественными новообразованиям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 Хронический пиелонефри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 Мочекаменная болезнь, обструкция мочевыводящих пут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 Аномалии развития мочевыделительной систем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 Поликистоз почек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 Действие токсических веществ и лекар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alibri"/>
              </a:rPr>
              <a:t>ПОЧЕЧНАЯ НЕДОСТАТОЧ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971640" y="1844640"/>
          <a:ext cx="7200720" cy="3635280"/>
        </p:xfrm>
        <a:graphic>
          <a:graphicData uri="http://schemas.openxmlformats.org/drawingml/2006/table">
            <a:tbl>
              <a:tblPr/>
              <a:tblGrid>
                <a:gridCol w="1226880"/>
                <a:gridCol w="1868760"/>
                <a:gridCol w="1800000"/>
                <a:gridCol w="2305080"/>
              </a:tblGrid>
              <a:tr h="580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оды лечения почечной недостаточности в стационар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ыло боль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зрослые + де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 боль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зрослые + де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 летальности в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3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.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2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5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3.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3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6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1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0,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0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ДИНАМИКА ЛЕТАЛЬНОСТИ ОТ ПОЧЕЧНОЙ НЕДОСТАТОЧНОСТИ В СТАЦИОНАРАХ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ссийская Федер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684360" y="981000"/>
          <a:ext cx="7921440" cy="3353040"/>
        </p:xfrm>
        <a:graphic>
          <a:graphicData uri="http://schemas.openxmlformats.org/drawingml/2006/table">
            <a:tbl>
              <a:tblPr/>
              <a:tblGrid>
                <a:gridCol w="1585800"/>
                <a:gridCol w="1582560"/>
                <a:gridCol w="1584360"/>
                <a:gridCol w="1584360"/>
                <a:gridCol w="158436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росл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с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с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5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2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1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6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3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8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" name="Picture 47" descr=""/>
          <p:cNvPicPr/>
          <p:nvPr/>
        </p:nvPicPr>
        <p:blipFill>
          <a:blip r:embed="rId1"/>
          <a:stretch/>
        </p:blipFill>
        <p:spPr>
          <a:xfrm>
            <a:off x="612720" y="246240"/>
            <a:ext cx="719280" cy="6616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8"/>
          <p:cNvSpPr/>
          <p:nvPr/>
        </p:nvSpPr>
        <p:spPr>
          <a:xfrm>
            <a:off x="1692360" y="189000"/>
            <a:ext cx="6119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ятельность стационара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СИМПТОМЫ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6" descr=""/>
          <p:cNvPicPr/>
          <p:nvPr/>
        </p:nvPicPr>
        <p:blipFill>
          <a:blip r:embed="rId2"/>
          <a:stretch/>
        </p:blipFill>
        <p:spPr>
          <a:xfrm>
            <a:off x="7812000" y="246240"/>
            <a:ext cx="719280" cy="6616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50828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Calibri"/>
              </a:rPr>
              <a:t>Пациенты с симптомами заболевания госпитализируются для уточнения диагноза. </a:t>
            </a:r>
            <a:br>
              <a:rPr sz="1400"/>
            </a:br>
            <a:r>
              <a:rPr b="0" lang="ru-RU" sz="1400" spc="-1" strike="noStrike">
                <a:solidFill>
                  <a:srgbClr val="000099"/>
                </a:solidFill>
                <a:latin typeface="Calibri"/>
              </a:rPr>
              <a:t>Если диагноз заболевания не уточнен эти случаи госпитализации следует рассматривать как обследование и должны регистрироваться в строке </a:t>
            </a:r>
            <a:r>
              <a:rPr b="1" lang="ru-RU" sz="1400" spc="-1" strike="noStrike">
                <a:solidFill>
                  <a:srgbClr val="000099"/>
                </a:solidFill>
                <a:latin typeface="Calibri"/>
              </a:rPr>
              <a:t>21.0 «Факторы, влияющие на состояние здоровья и обращения в учреждения здравоохранения»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аждый случай летального исхода по этому классу 18 МКБ-10 </a:t>
            </a:r>
            <a:r>
              <a:rPr b="1" lang="ru-RU" sz="1400" spc="-1" strike="noStrike">
                <a:solidFill>
                  <a:srgbClr val="cc0000"/>
                </a:solidFill>
                <a:latin typeface="Calibri"/>
              </a:rPr>
              <a:t>(симптомы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должен быть подтвержден письменной копией посмертного заключительного диагноза при сдаче годового отчета с указанием кода первоначальной причины смерт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86" descr=""/>
          <p:cNvPicPr/>
          <p:nvPr/>
        </p:nvPicPr>
        <p:blipFill>
          <a:blip r:embed="rId3"/>
          <a:stretch/>
        </p:blipFill>
        <p:spPr>
          <a:xfrm>
            <a:off x="612720" y="246240"/>
            <a:ext cx="719280" cy="661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7" descr=""/>
          <p:cNvPicPr/>
          <p:nvPr/>
        </p:nvPicPr>
        <p:blipFill>
          <a:blip r:embed="rId4"/>
          <a:stretch/>
        </p:blipFill>
        <p:spPr>
          <a:xfrm>
            <a:off x="612720" y="246240"/>
            <a:ext cx="719280" cy="661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8" descr=""/>
          <p:cNvPicPr/>
          <p:nvPr/>
        </p:nvPicPr>
        <p:blipFill>
          <a:blip r:embed="rId5"/>
          <a:stretch/>
        </p:blipFill>
        <p:spPr>
          <a:xfrm>
            <a:off x="612720" y="246240"/>
            <a:ext cx="719280" cy="661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9" descr=""/>
          <p:cNvPicPr/>
          <p:nvPr/>
        </p:nvPicPr>
        <p:blipFill>
          <a:blip r:embed="rId6"/>
          <a:stretch/>
        </p:blipFill>
        <p:spPr>
          <a:xfrm>
            <a:off x="612720" y="246240"/>
            <a:ext cx="719280" cy="661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0" descr=""/>
          <p:cNvPicPr/>
          <p:nvPr/>
        </p:nvPicPr>
        <p:blipFill>
          <a:blip r:embed="rId7"/>
          <a:stretch/>
        </p:blipFill>
        <p:spPr>
          <a:xfrm>
            <a:off x="612720" y="246240"/>
            <a:ext cx="719280" cy="66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611280" y="1052640"/>
          <a:ext cx="7921440" cy="3528720"/>
        </p:xfrm>
        <a:graphic>
          <a:graphicData uri="http://schemas.openxmlformats.org/drawingml/2006/table">
            <a:tbl>
              <a:tblPr/>
              <a:tblGrid>
                <a:gridCol w="1585800"/>
                <a:gridCol w="1582920"/>
                <a:gridCol w="1584000"/>
                <a:gridCol w="1584360"/>
                <a:gridCol w="158436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пациентов с синдромом Дау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росл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с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с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Rectangle 53"/>
          <p:cNvSpPr/>
          <p:nvPr/>
        </p:nvSpPr>
        <p:spPr>
          <a:xfrm>
            <a:off x="971640" y="486900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504d"/>
                </a:solidFill>
                <a:uFillTx/>
                <a:latin typeface="Arial"/>
              </a:rPr>
              <a:t>Врождённый порок сердца</a:t>
            </a: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 - главная причина смерти детей с синдромом Дау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Причины смерти взрослых пациентов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чаще всего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3300"/>
                </a:solidFill>
                <a:uFillTx/>
                <a:latin typeface="Arial"/>
              </a:rPr>
              <a:t>соматические болезни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а не синдром Дауна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ятельность стационара РФ</a:t>
            </a:r>
            <a:br>
              <a:rPr sz="2400"/>
            </a:br>
            <a:r>
              <a:rPr b="1" lang="ru-RU" sz="2400" spc="-1" strike="noStrike">
                <a:solidFill>
                  <a:srgbClr val="cc00cc"/>
                </a:solidFill>
                <a:latin typeface="Calibri"/>
              </a:rPr>
              <a:t>Синдром Дау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ВСЕМИРНОЙ ОРГАНИЗАЦИЕЙ ЗДРАВООХРАНЕНИЯ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материнская смерть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ределяется как обусловленная беременностью (независимо от ее продолжительности и локализации) смерть женщины, наступившая в период беременности или в течени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2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ней после ее окончания от какой-либо причины, связанной с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еременностью, отягощенной ею или ее ведением, но не от несчастного случая или случайно возникшей причи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9"/>
          <p:cNvSpPr/>
          <p:nvPr/>
        </p:nvSpPr>
        <p:spPr>
          <a:xfrm>
            <a:off x="2340000" y="620640"/>
            <a:ext cx="457200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Ведущий научный сотрудник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кандидат медицинских наук</a:t>
            </a:r>
            <a:br>
              <a:rPr sz="1800"/>
            </a:br>
            <a:br>
              <a:rPr sz="18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ЕКРИЕРУ ЕМИЛ МИХАЙЛ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0"/>
          <p:cNvSpPr/>
          <p:nvPr/>
        </p:nvSpPr>
        <p:spPr>
          <a:xfrm>
            <a:off x="2268360" y="2781360"/>
            <a:ext cx="457200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Ведущий научный сотрудник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кандидат медицинских наук</a:t>
            </a:r>
            <a:br>
              <a:rPr sz="1800"/>
            </a:br>
            <a:br>
              <a:rPr sz="18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МАНОШКИНА ЕЛЕНА МИХАЙЛ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2484360" y="1557360"/>
            <a:ext cx="3456000" cy="863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3"/>
          <p:cNvSpPr/>
          <p:nvPr/>
        </p:nvSpPr>
        <p:spPr>
          <a:xfrm>
            <a:off x="2268360" y="4869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почта: </a:t>
            </a:r>
            <a:r>
              <a:rPr b="1" lang="en-US" sz="1800" spc="-1" strike="noStrike">
                <a:solidFill>
                  <a:srgbClr val="0c0472"/>
                </a:solidFill>
                <a:latin typeface="Arial"/>
              </a:rPr>
              <a:t>manoshkina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@mednet.ru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-925-299-78-0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075520" cy="49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alibri"/>
              </a:rPr>
              <a:t>Смерть, происшедшая во время беременности, родов и в послеродовом периоде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это смерть женщины во время беременности или в течение 42 дней по окончании беременности, независимо от причины смерти (акушерской или не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кушерской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МАТЕРИНСКИЕ СМЕРТИ ДОЛЖНЫ РАЗДЕЛЯТЬСЯ НА ДВЕ ГРУПП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3628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Calibri"/>
              </a:rPr>
              <a:t>1. ПРЯМЫЕ АКУШЕРСКИЕ СМЕРТИ: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, что явились результатом акушерских осложнений состояния беременности (беременность, роды и послеродовой период) в результате вмешательств, упущений, неправильного лечения, или от цепочки событий в результате любого из вышеупомянутых обстоятельст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дицинское свидетельство о смерти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(при наличии беременност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80880" y="1676520"/>
          <a:ext cx="8382240" cy="4687920"/>
        </p:xfrm>
        <a:graphic>
          <a:graphicData uri="http://schemas.openxmlformats.org/drawingml/2006/table">
            <a:tbl>
              <a:tblPr/>
              <a:tblGrid>
                <a:gridCol w="739800"/>
                <a:gridCol w="6327720"/>
                <a:gridCol w="13147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новка серд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46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ивное кровотечение после абор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08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в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Полный аборт по медицинским показания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</a:t>
                      </a: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4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ременность 12 недель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Calibri"/>
              </a:rPr>
              <a:t>2. КОСВЕННЫЕ (НЕПРЯМЫЕ) АКУШЕРСКИЕ СМЕРТИ: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, которые явились результат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личия предшествующего заболевани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ли заболевания, которое  возникло во время беременности, и которое не является следствием прямых акушерских причин, но которое обострилось в связи с физиологическим воздействием беремен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1048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едицинское свидетельство о смерти от злокачественного новообразования </a:t>
            </a:r>
            <a:r>
              <a:rPr b="0" lang="ru-RU" sz="3600" spc="-1" strike="noStrike">
                <a:solidFill>
                  <a:srgbClr val="ff0066"/>
                </a:solidFill>
                <a:latin typeface="Calibri"/>
              </a:rPr>
              <a:t>(при наличии беременности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2209680"/>
          <a:ext cx="8382240" cy="3886200"/>
        </p:xfrm>
        <a:graphic>
          <a:graphicData uri="http://schemas.openxmlformats.org/drawingml/2006/table">
            <a:tbl>
              <a:tblPr/>
              <a:tblGrid>
                <a:gridCol w="739800"/>
                <a:gridCol w="6327720"/>
                <a:gridCol w="1314720"/>
              </a:tblGrid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тон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65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удочное кровоте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92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в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Рак малой кривизны желуд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99</a:t>
                      </a: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ременность 36 нед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дицинское свидетельство о смерти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(при наличии беременност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80880" y="1676520"/>
          <a:ext cx="8382240" cy="4628880"/>
        </p:xfrm>
        <a:graphic>
          <a:graphicData uri="http://schemas.openxmlformats.org/drawingml/2006/table">
            <a:tbl>
              <a:tblPr/>
              <a:tblGrid>
                <a:gridCol w="739800"/>
                <a:gridCol w="6327720"/>
                <a:gridCol w="13147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тон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65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кроз желчного пузыр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8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в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Желчнокаменная болез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99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ременность 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едель, холецистэктомия 12.06.20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едицинское свидетельство о смерти от травмы (</a:t>
            </a: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при наличии беременности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80880" y="1828800"/>
          <a:ext cx="8382240" cy="4449600"/>
        </p:xfrm>
        <a:graphic>
          <a:graphicData uri="http://schemas.openxmlformats.org/drawingml/2006/table">
            <a:tbl>
              <a:tblPr/>
              <a:tblGrid>
                <a:gridCol w="739800"/>
                <a:gridCol w="6327720"/>
                <a:gridCol w="13147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моррагический ш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7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ибрюшное кровоте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8.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в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Разрыв селез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36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г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Падение на эскалаторе мет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W10.</a:t>
                      </a: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ременность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неде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Calibri"/>
              </a:rPr>
              <a:t>Особенности кодирования причин смерти пациентов с сахарным диабето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16000" y="1557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гласно правилам кодирования, при наличии сахарного диабета в большинстве случаев сахарный диабет должен указываться в качестве первоначальной причины смер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этом используют соответствующие четырехзначные рубрики, отражающими наличие осложнений со стороны разных органов и систе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1х.0 – с комо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1х.1 – с кетоацидозом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1х.2 – с поражением почек (диабетическая нефропатия и т.д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1х.3 – с поражением гла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1х.4 – с неврологическими осложнения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1х.5 – с нарушениями периферического  кровообращ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1х.6 – с другими уточненными осложнения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1х.7 – с множественными осложнения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1х.8 – с неуточненными осложнения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1х.9 – без осложнен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Calibri"/>
              </a:rPr>
              <a:t>Заболевания – следствия сахарного диабета 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(МКБ-10, 1995, том 2, стр.7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00000" y="134136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I21-I22 Острый инфаркт миокaрд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I24.-  Другие формы острой ишемической болезни сердц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I26.-  Легочная эмболи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I30.-  Острый перикарди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I33.-  Острый и подострый эндокарди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I40.-  Острый миокарди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I44.-  Предсердно-желудочковая [атриовентрикулярная] блокада и блокада левой ножки пучка Гис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I45.-  Другие нарушения проводимост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I46.-   Остановка сердц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I47.-  Пароксизмальная тахикарди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I48   Фибрилляция и трепетание предсерди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I49.-  Другие нарушения сердечного ритм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I50.-  Сердечная недостаточность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I51.8  Другие неточно обозначенные болезни сердц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I60-I68 Цереброваскулярные болезни, кроме относящихся к подрубрикам I67.0-I67.5 и I67.9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250920" y="1627200"/>
            <a:ext cx="7921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ри составлении Формы для отнесения заболеваний к той или иной нозологической форме или классу заболеваний, следует руководствоваться заключительным клиническим диагнозом, а в случае смерти – первоначальной причиной смер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 Форму включаются только те заболевания, которые выставлены в качестве «основного заболевания». Если состояния, указанные в строках 10.6.5, 10.6.6 и 10.6.7,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сердно-желудочковая (атриовентрикулярная) блока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елудочковая тахикардия, фибрилляция и трепетание предсердий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являются осложнением «основного заболевания», они в Форму не включаются.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ВЫДЕРЖКА ИЗ УКАЗАНИЯ ПО ЗАПОЛНЕНИЮ ФОРМЫ ФЕДЕРАЛЬНОГО СТАТИСТИЧЕСКОГО НАБЛЮ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Calibri"/>
              </a:rPr>
              <a:t>Диабет-ассоциированные причины</a:t>
            </a:r>
            <a:br>
              <a:rPr sz="25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КБ-10 содержит список состояний, которые не могут быть первоначальной причиной смерти, если у пациенты имеется сахарный диабет  (диабет-ассоциированные причины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116000" y="1341360"/>
          <a:ext cx="4317840" cy="4413240"/>
        </p:xfrm>
        <a:graphic>
          <a:graphicData uri="http://schemas.openxmlformats.org/drawingml/2006/table">
            <a:tbl>
              <a:tblPr/>
              <a:tblGrid>
                <a:gridCol w="4317840"/>
              </a:tblGrid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ыбранная прич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87.2 (Ацидоз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88.8 (Другие уточненные нарушения обмена веществ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58 -. (Другие мононевропати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62.9 (Полиневропатия неуточненнa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64 (Другие нарушения периферической нервной системы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70.9 (Нарушение нервно-мышечного синапса неуточненно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71.8 (Другие первичные поражения мышц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90.9 (Расстройство вегетативной нервной системы неуточненное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20.9 (Иридоциклит неуточненный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26.9 (Катаракта неуточненнa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30.9 (Хориоретинальное воспаление неуточненное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34 (Окклюзии сосудов сетчатки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35.0 (Фоновая ретинопатия и ретинальные сосудистые изменени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35.2 (Другая пролиферативная ретинопати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35.6 (Ретинальное кровоизлияние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35.9 (Болезнь сетчатки неуточненнa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49.9 (Паралитическое косоглазие неуточненное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54 (Слепота и пониженное зрени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70.2 (Атеросклероз артерий конечносте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5435640" y="1341360"/>
          <a:ext cx="3098880" cy="4413240"/>
        </p:xfrm>
        <a:graphic>
          <a:graphicData uri="http://schemas.openxmlformats.org/drawingml/2006/table">
            <a:tbl>
              <a:tblPr/>
              <a:tblGrid>
                <a:gridCol w="3098880"/>
              </a:tblGrid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ервоначальной причиной должно быт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Calibri"/>
              </a:rPr>
              <a:t>Диабет-ассоциированные причины (продолжение)</a:t>
            </a:r>
            <a:br>
              <a:rPr sz="25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КБ-10 содержит список состояний, которые не могут быть первоначальной причиной смерти, если у пациенты имеется сахарный диабет  (диабет-ассоциированные причины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116000" y="1341360"/>
          <a:ext cx="4317840" cy="4523040"/>
        </p:xfrm>
        <a:graphic>
          <a:graphicData uri="http://schemas.openxmlformats.org/drawingml/2006/table">
            <a:tbl>
              <a:tblPr/>
              <a:tblGrid>
                <a:gridCol w="4317840"/>
              </a:tblGrid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ыбранная прич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73.9 (Болезнь периферических сосудов неуточненнa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99 (Другие и неуточненные нарушения системы кровообращени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30.9 (Дерматит неуточненный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92.1 (Некробиоз липоидный, не классифицированный в других рубрика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13.9 (Артрит неуточненный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79.2 (Невралгия и неврит неуточненные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89.9 (Болезнь костей неуточненнa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03-N05 (Нефротический синдром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18.- (Хроническая почечная недостаточность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19 (Почечная недостаточность неуточненнa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26 (Сморщенная почка неуточненнa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28.9 (Болезни почки и мочеточника неуточненные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39.0 (Инфекция мочевыводящих путей без установленной локaлизaции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39.1 (Стойкая протеинурия неуточненнa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02 (Гангрена, не классифицированная в других рубриках) R40.2 (Кома неуточненнa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79.8 (Другие уточненные отклонения от нормы химического состава кров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бинация любых из вышеназванных прич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5435640" y="1341360"/>
          <a:ext cx="3098880" cy="4523040"/>
        </p:xfrm>
        <a:graphic>
          <a:graphicData uri="http://schemas.openxmlformats.org/drawingml/2006/table">
            <a:tbl>
              <a:tblPr/>
              <a:tblGrid>
                <a:gridCol w="3098880"/>
              </a:tblGrid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ервоначальной причиной должно быт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ли ангиопатия, то E10-E14 с четвертым знаком 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ли ацетонемия, азотемия и связывающие условия, то E10E14 с четвертым знаком .1 E10-E14 с четвертым знаком 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Таблица 3000 «Состав новорожденных с заболеваниями, поступивших в возрасте 0-6 дней жизни, и исходы их лечен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2"/>
          <p:cNvSpPr/>
          <p:nvPr/>
        </p:nvSpPr>
        <p:spPr>
          <a:xfrm>
            <a:off x="2286000" y="21366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"/>
          <p:cNvSpPr/>
          <p:nvPr/>
        </p:nvSpPr>
        <p:spPr>
          <a:xfrm>
            <a:off x="755640" y="1773360"/>
            <a:ext cx="777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блицу заполняют только учреждения, имеющие отделения (койки) патологии новорожденных и недоношенных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аблицу не включают сведения о больных и заболевших детях, оставленных в палатах новорожденных родовспомогательных учреждений (отделений), сведения о заболеваниях этих новорожденных показывают в таблице 2000 в соответствующих стро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Таблица 40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4, 4000, 1, 03:28 = 14, 4000, 2+3+4+5+6+7+8+9+10+11+12+13+14+15+16=17+18+19+20, 03: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4, 4000, 8, 03:28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14, 4000, 81+82, 03: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4, 4000, 2, 03:28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14, 4000, 21П29+210+211, 03: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ерации на сосудах  (строка 8) и операции на нервной системе (2)  не должны дублироваться. Если данные операции подходят как для строки 8, так и для строки 2, следует  отметить их только в одной строк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чие операции, которые вошли в строки 2 и 8, но не вошли в предлагаемый перечень операций,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язательн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ледует расшифровать – приложить список операций и их количество. То же касается строки 20 -Прочие операции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ез данной  расшифровки отчет приниматься не буд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250920" y="809280"/>
            <a:ext cx="8642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400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раф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7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ru-RU" sz="1800" spc="-1" strike="noStrike" u="sng">
                <a:solidFill>
                  <a:srgbClr val="996633"/>
                </a:solidFill>
                <a:uFillTx/>
                <a:latin typeface="Arial"/>
              </a:rPr>
              <a:t>закрещенных и незакрещенных графоклетках в строк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асто указываетс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достовер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нформация о проведенных операциях по поводу злокачественных новообразований: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трока  7 – 3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случаев (операции на сердце), строка 9.7 – 518 случаев (геморро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400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раф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одим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азывать число направленных материалов на морфологическое исследование </a:t>
            </a:r>
            <a:r>
              <a:rPr b="1" lang="ru-RU" sz="1800" spc="-1" strike="noStrike" u="sng">
                <a:solidFill>
                  <a:srgbClr val="cc3300"/>
                </a:solidFill>
                <a:uFillTx/>
                <a:latin typeface="Arial"/>
              </a:rPr>
              <a:t>по числу операций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аз МЗ РФ от 24 марта 2016 г. №179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420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раф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обходим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азывать число направленных материалов на морфологическое исследование </a:t>
            </a:r>
            <a:r>
              <a:rPr b="1" lang="ru-RU" sz="1800" spc="-1" strike="noStrike" u="sng">
                <a:solidFill>
                  <a:srgbClr val="cc3300"/>
                </a:solidFill>
                <a:uFillTx/>
                <a:latin typeface="Arial"/>
              </a:rPr>
              <a:t>по числу трансплантаций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аз МЗ РФ от 24 марта 2016 г. № 179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 правил проведения патолого-анатомических исследований  (Приложение к приказу МЗ РФ от 24 марта 2016 г. N 179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6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Учет числа проведенных прижизненных патолого-анатомических исследований и связанных с ним показателей производится по числу случаев исследования на основании оформленных Протоколов. Под случаем понимается исследование биопсийного (операционного) материала, полученного от пациента в рамках одного посещения (обращения, госпитализации) по поводу одного заболевания, включающее все этапы, указанные в пункте 16 настоящих Правил, и дополнительные методы исследования, указанные в пункте 17 настоящих Правил (в случае, если данные методы назначены врачом-патологоанатомо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457200" y="11354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Таблица  4110    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50920" y="1754280"/>
          <a:ext cx="8642160" cy="4435560"/>
        </p:xfrm>
        <a:graphic>
          <a:graphicData uri="http://schemas.openxmlformats.org/drawingml/2006/table">
            <a:tbl>
              <a:tblPr/>
              <a:tblGrid>
                <a:gridCol w="3676680"/>
                <a:gridCol w="1054080"/>
                <a:gridCol w="1058760"/>
                <a:gridCol w="1058760"/>
                <a:gridCol w="179388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анестез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анестез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госед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пидуральная анесте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нальная (субарахноидальная) анесте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нально-эпидуральная анесте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тальная внутривенная анесте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инированный эндотрахеальный нарко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етанная анесте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кральная анесте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полостная анесте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Calibri"/>
              </a:rPr>
              <a:t>Форма №14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Arial"/>
                <a:ea typeface="Arial"/>
              </a:rPr>
              <a:t>Таблица 4201 Трансплант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нные, представленные в таблице, должно соответствовать данным, представленным в форме 63 «Сведения о донорстве органов и тканей и трансплантации в медицинских организациях» (Приказ МЗ РФ от 8 июня 2016 г. № 355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едует обратить внимание, что строка 1 равна сумме строк 2-9 по всем графам. Строка 10 не суммиру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едует предоставить расшифровку строки 9 – трансплантация </a:t>
            </a: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прочих орган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26560" y="836280"/>
            <a:ext cx="7907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олжен проводитьс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формой 12 «Сведения о числе заболеваний, зарегистрированных у пациентов, проживающих в районе обслуживания медицинской организаци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формой 13 «Сведения о беременности с абортивным исходом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формой 30 «Сведения о медицинской организации»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формой 32 «Сведения о медицинской помощи беременным, роженицам и родильницам»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53964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Arial"/>
              </a:rPr>
              <a:t>14 форма  Межформенный контроль </a:t>
            </a:r>
            <a:r>
              <a:rPr b="1" lang="ru-RU" sz="25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26560" y="1700280"/>
            <a:ext cx="7907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 2000, 319+320, 04 + 14, 2000, 319+320,0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12, 3000, 307+308,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острый и повторный инфаркт миокард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 2000, 317,04 + 14, 2000, 317,0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 12,3000, 305,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стенокард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 2000, 318,04 + 2000, 318,0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2, 3000. 306,0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нестабильная стенокард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 2000, 380,04 + 14, 2000, 380,0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2, 3000, 316,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субарахноидальное кровоизлияни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 2000, 381,04+14, 2000, 381, 0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2, 3000, 317, 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внутримозговое и другое внутричерепное кровоизлияни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539640" y="189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14 форма  Межформенный контро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с 12 формой </a:t>
            </a:r>
            <a:r>
              <a:rPr b="1" lang="ru-RU" sz="25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ведения о числе заболеваний, зарегистрированных у пациентов, проживающих в районе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Calibri"/>
              </a:rPr>
              <a:t>Источником информации </a:t>
            </a:r>
            <a:br>
              <a:rPr sz="2500"/>
            </a:br>
            <a:r>
              <a:rPr b="1" lang="ru-RU" sz="2500" spc="-1" strike="noStrike">
                <a:solidFill>
                  <a:srgbClr val="660033"/>
                </a:solidFill>
                <a:latin typeface="Calibri"/>
              </a:rPr>
              <a:t>при составлении формы №14 являются: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42920" y="11966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форма №066/у-02 «Статистическая карта выбывшего из стационара круглосуточного пребывания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форма №016/у-02 «Ведомость учета движения пациентов и коечного фонда стационара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форма №001 «Журнал учета приема больных и отказов в госпитализаци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Форма №106/у-08 «Медицинское свидетельство о смерти и форма №106-2/у-08 «Медицинское свидетельство о перинатальной смертност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26560" y="1700280"/>
            <a:ext cx="7907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 2000, 333, 04 + 14, 2000, 333,0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12, 3000, 318,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инфаркт мозг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 2000, 334,04 + 14, 2000, 334,0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=12,3000, 319,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инсульт не уточненный, как кровоизлияние или инфаркт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 2000, 335,04 + 2000, 335,0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12, 3000. 320,0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закупорка и стеноз прецеребральных артерий, не приводящие к инфаркту мозг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 2000, 113, 22 + 14, 2000, 113,2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12, 1000, 113,04+ 12, 2000, 113,04 (пневмонии у детей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539640" y="189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14 форма  Межформенный контро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с 12 формой </a:t>
            </a:r>
            <a:r>
              <a:rPr b="1" lang="ru-RU" sz="25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ведения о числе заболеваний, зарегистрированных у пациентов, проживающих в районе обслуживания 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26920" y="2133360"/>
            <a:ext cx="77630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70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исло заболеваний (острые и повторные инфаркты миокарда и острые формы цереброваскулярных болезней, пневмонии и другие заболевания, требующие лечения в стационарных условиях, в форме №12 должно быть больше или равно числу лиц, показанных в форме №14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0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вышение количества заболеваний в форме №14 над заболеваниями, показанными в форме №12, указывает на отсутствие преемственности между поликлиникой и стационар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0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ключение: число заболеваний в форме №14 может быть больше, чем в форме №12, только в случае госпитализации лиц с вышеуказанными нозологическими единицами, не проживающими на территории обслуживания учреждения здравоохран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02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02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539640" y="83664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Arial"/>
              </a:rPr>
              <a:t>14 форма  Межформенный контро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Arial"/>
              </a:rPr>
              <a:t>с 12 формой </a:t>
            </a: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ведения о числе заболеваний, зарегистрированных у пациентов, проживающих в районе обслуж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26560" y="1700280"/>
            <a:ext cx="7907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водится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 количеству выполненных абор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 4000, 146, 0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= 13,1000, 1, 04 + 13, 2000, 1,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 количеству умерших после абор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 4000, 146, 1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= 13, 3000, 1, 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 числу операций, при проведении которых наблюдались осложнения в стационар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4000,146,1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 13,1100,1 + 13,2100,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539640" y="189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14 форма  Межформенный контро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с 13 формой </a:t>
            </a:r>
            <a:r>
              <a:rPr b="1" lang="ru-RU" sz="25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ведения о беременности с абортивным исходо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61128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ежформенный контроль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продолжение):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826920" y="692280"/>
          <a:ext cx="7705800" cy="334800"/>
        </p:xfrm>
        <a:graphic>
          <a:graphicData uri="http://schemas.openxmlformats.org/drawingml/2006/table">
            <a:tbl>
              <a:tblPr/>
              <a:tblGrid>
                <a:gridCol w="3673800"/>
                <a:gridCol w="502920"/>
                <a:gridCol w="3529080"/>
              </a:tblGrid>
              <a:tr h="33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1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Rectangle 13"/>
          <p:cNvSpPr/>
          <p:nvPr/>
        </p:nvSpPr>
        <p:spPr>
          <a:xfrm>
            <a:off x="2124000" y="3284640"/>
            <a:ext cx="59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826920" y="1700280"/>
          <a:ext cx="7705800" cy="2809800"/>
        </p:xfrm>
        <a:graphic>
          <a:graphicData uri="http://schemas.openxmlformats.org/drawingml/2006/table">
            <a:tbl>
              <a:tblPr/>
              <a:tblGrid>
                <a:gridCol w="3673800"/>
                <a:gridCol w="502920"/>
                <a:gridCol w="3529080"/>
              </a:tblGrid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4000 стр. 14.6, гр. 3 (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-O07)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&l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1000 стр. 1, гр.4 (аборты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2 нед.)+ т. 2000 стр. 1, гр.4 (аборты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12 нед. до 22 нед.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4000 стр. 14.6, «аборт» гр. 19 (умерло оперированных в стационаре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&lt;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3000 гр.4, стр.1 (умерло от беременности с  абортивным исходо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4000 гр.11, стр.14.6 «Число операций, при которых наблюдались осложнени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&l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1100 +2100 «Осложнения, вызванные абор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Rectangle 47"/>
          <p:cNvSpPr/>
          <p:nvPr/>
        </p:nvSpPr>
        <p:spPr>
          <a:xfrm>
            <a:off x="900000" y="1052640"/>
            <a:ext cx="7632720" cy="580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количеству выполненных абортов, осложнений и смертей вызванных аборт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826560" y="1700280"/>
            <a:ext cx="7907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водится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 количеству выбывших всего (выписано + умерло + переведено) пацие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2000,10,04+14,2000,10,22+14,2000,210,04+14,2000,210,22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2100,10,01+14,2000,10,08+14,2000,10,28 =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0,3100,01,10+30,3100,78,10+30,3100,01,13+30,3100,78,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539640" y="189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14 форма  Межформенный контро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с 30 формой </a:t>
            </a:r>
            <a:r>
              <a:rPr b="1" lang="ru-RU" sz="25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ведения о медицинской организа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24000" y="765000"/>
            <a:ext cx="8712000" cy="50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t">
            <a:normAutofit fontScale="84000"/>
          </a:bodyPr>
          <a:p>
            <a:pPr marL="432000" indent="-4320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ислу выбывших всего (выписано + умерло + переведен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611280" y="333360"/>
            <a:ext cx="82296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Межформенный контроль (продолжение):</a:t>
            </a:r>
            <a:r>
              <a:rPr b="1" lang="ru-RU" sz="25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23720" y="1557360"/>
          <a:ext cx="8604360" cy="4319640"/>
        </p:xfrm>
        <a:graphic>
          <a:graphicData uri="http://schemas.openxmlformats.org/drawingml/2006/table">
            <a:tbl>
              <a:tblPr/>
              <a:tblGrid>
                <a:gridCol w="4608720"/>
                <a:gridCol w="503280"/>
                <a:gridCol w="3492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1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3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00 стр.1 гр.4 (выписано взрослых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A00-T98)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стр.1 гр.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выписано детей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A00-T98)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00 стр. 21 гр. 4 (выписано взрослых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Z00-Z99»)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стр. 21 гр. 22 (выписано детей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Z00-Z99)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100 стр. 1 гр.1 (переведено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00 стр.1 гр.8 (умерло взрослых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стр.1 гр.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умерло детей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Здоровые новорожденные  показываются только в тех учреждениях, где есть профильные  койки для новорожденных указанные по строке </a:t>
                      </a:r>
                      <a:r>
                        <a:rPr b="1" lang="ru-RU" sz="15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1.0 «Z00-Z99»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Больные  новорожденные показываются всеми учреждениями в строке «отдельные состояния, возникающие в перинатальном периоде»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3100 стр. 1 гр. 10 (выписано всего)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. 78 гр. 10 «кроме того больные новорожденные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3100 стр. 1 гр. 13 (умерло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3100 стр. 78 «кроме того больные новорожденные гр. 13 (умерло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чреждения, имеющие  койки для новорожденных показывают всех новорожденных, учреждения не имеющие таких коек показывают только больных новорожденных по строке  «кроме того больные новорожденные»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AutoShape 18"/>
          <p:cNvSpPr/>
          <p:nvPr/>
        </p:nvSpPr>
        <p:spPr>
          <a:xfrm>
            <a:off x="468360" y="2133720"/>
            <a:ext cx="142920" cy="1942920"/>
          </a:xfrm>
          <a:custGeom>
            <a:avLst/>
            <a:gdLst>
              <a:gd name="textAreaLeft" fmla="*/ 91440 w 142920"/>
              <a:gd name="textAreaRight" fmla="*/ 143280 w 142920"/>
              <a:gd name="textAreaTop" fmla="*/ 32400 h 1942920"/>
              <a:gd name="textAreaBottom" fmla="*/ 191052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76"/>
                  <a:pt x="10800" y="1151"/>
                </a:cubicBezTo>
                <a:lnTo>
                  <a:pt x="10800" y="9649"/>
                </a:lnTo>
                <a:cubicBezTo>
                  <a:pt x="10800" y="10225"/>
                  <a:pt x="5400" y="10800"/>
                  <a:pt x="0" y="10800"/>
                </a:cubicBezTo>
                <a:cubicBezTo>
                  <a:pt x="5400" y="10800"/>
                  <a:pt x="10800" y="11376"/>
                  <a:pt x="10800" y="11951"/>
                </a:cubicBezTo>
                <a:lnTo>
                  <a:pt x="10800" y="20449"/>
                </a:lnTo>
                <a:cubicBezTo>
                  <a:pt x="10800" y="2102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9"/>
          <p:cNvSpPr/>
          <p:nvPr/>
        </p:nvSpPr>
        <p:spPr>
          <a:xfrm>
            <a:off x="5508720" y="1944720"/>
            <a:ext cx="215640" cy="1638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34920 h 1638360"/>
              <a:gd name="textAreaBottom" fmla="*/ 1603440 h 163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40"/>
                  <a:pt x="10800" y="1479"/>
                </a:cubicBezTo>
                <a:lnTo>
                  <a:pt x="10800" y="9321"/>
                </a:lnTo>
                <a:cubicBezTo>
                  <a:pt x="10800" y="10061"/>
                  <a:pt x="5400" y="10800"/>
                  <a:pt x="0" y="10800"/>
                </a:cubicBezTo>
                <a:cubicBezTo>
                  <a:pt x="5400" y="10800"/>
                  <a:pt x="10800" y="11540"/>
                  <a:pt x="10800" y="12279"/>
                </a:cubicBezTo>
                <a:lnTo>
                  <a:pt x="10800" y="20121"/>
                </a:lnTo>
                <a:cubicBezTo>
                  <a:pt x="10800" y="2086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26560" y="1700280"/>
            <a:ext cx="7907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водится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632523"/>
                </a:solidFill>
                <a:latin typeface="Arial"/>
                <a:ea typeface="Arial"/>
              </a:rPr>
              <a:t>по количеству выписанных пацие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4,2000,10,04+14,2000,10,22+14,2000,210,04+14,2000,210,22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4,2100,01,01 =  30,3100,01,10+30,3100,78,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632523"/>
                </a:solidFill>
                <a:latin typeface="Arial"/>
                <a:ea typeface="Arial"/>
              </a:rPr>
              <a:t>по количеству умерших пацие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2000,10,08+14,2000,10,28  =  30,3100,01,13+30,3100,78,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539640" y="189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14 форма  Межформенный контро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с 30 формой </a:t>
            </a:r>
            <a:r>
              <a:rPr b="1" lang="ru-RU" sz="25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ведения о медицинской организа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826560" y="549000"/>
            <a:ext cx="8085240" cy="360360"/>
          </a:xfrm>
          <a:prstGeom prst="rect">
            <a:avLst/>
          </a:prstGeom>
          <a:solidFill>
            <a:srgbClr val="3ba0bb"/>
          </a:solidFill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ислу выписанны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611280" y="26028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Межформенный контроль (продолжение):</a:t>
            </a:r>
            <a:r>
              <a:rPr b="1" lang="ru-RU" sz="25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lang="ru-RU" sz="25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24000" y="1084320"/>
          <a:ext cx="8569080" cy="3425760"/>
        </p:xfrm>
        <a:graphic>
          <a:graphicData uri="http://schemas.openxmlformats.org/drawingml/2006/table">
            <a:tbl>
              <a:tblPr/>
              <a:tblGrid>
                <a:gridCol w="4529160"/>
                <a:gridCol w="365040"/>
                <a:gridCol w="3674880"/>
              </a:tblGrid>
              <a:tr h="466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3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00 стр.1 гр.4 (выписано взрослых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A00-T98)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00 стр.1 гр.22 (выписано детей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A00-T98)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00 стр. 21 гр. 4 (выписано взрослых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-Z99)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00 стр. 21 гр. 22 (выписано детей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-Z99)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100 1 гр.1 (переведен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Здоровые новорожденные  показываются только в тех учреждениях, где есть  профильные,  штатные койки   для новорожденных, по строке 21.0 «Z00-Z99»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Больные новорожденные показываются во всех учреждениях в строке «отдельные состояния, возникающие в перинатальном периоде»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3100 стр. 1 гр. 10 (выписано всего)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. 78 гр. 10 «кроме того больные новорожденны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Учреждения имеющие в штате койки для новорожденных показывают всех новорожденных, учреждения не имеющие таких коек показывают только больных новорожденных по строк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«кроме того больные новорожденные»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AutoShape 18"/>
          <p:cNvSpPr/>
          <p:nvPr/>
        </p:nvSpPr>
        <p:spPr>
          <a:xfrm>
            <a:off x="324000" y="1563840"/>
            <a:ext cx="214200" cy="1439640"/>
          </a:xfrm>
          <a:custGeom>
            <a:avLst/>
            <a:gdLst>
              <a:gd name="textAreaLeft" fmla="*/ 136800 w 214200"/>
              <a:gd name="textAreaRight" fmla="*/ 214560 w 214200"/>
              <a:gd name="textAreaTop" fmla="*/ 25200 h 1439640"/>
              <a:gd name="textAreaBottom" fmla="*/ 141444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07"/>
                  <a:pt x="10800" y="1214"/>
                </a:cubicBezTo>
                <a:lnTo>
                  <a:pt x="10800" y="9586"/>
                </a:lnTo>
                <a:cubicBezTo>
                  <a:pt x="10800" y="10193"/>
                  <a:pt x="5400" y="10800"/>
                  <a:pt x="0" y="10800"/>
                </a:cubicBezTo>
                <a:cubicBezTo>
                  <a:pt x="5400" y="10800"/>
                  <a:pt x="10800" y="11407"/>
                  <a:pt x="10800" y="12014"/>
                </a:cubicBezTo>
                <a:lnTo>
                  <a:pt x="10800" y="20386"/>
                </a:lnTo>
                <a:cubicBezTo>
                  <a:pt x="10800" y="2099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8"/>
          <p:cNvSpPr/>
          <p:nvPr/>
        </p:nvSpPr>
        <p:spPr>
          <a:xfrm>
            <a:off x="5148360" y="1603440"/>
            <a:ext cx="287280" cy="745920"/>
          </a:xfrm>
          <a:custGeom>
            <a:avLst/>
            <a:gdLst>
              <a:gd name="textAreaLeft" fmla="*/ 183600 w 287280"/>
              <a:gd name="textAreaRight" fmla="*/ 287640 w 287280"/>
              <a:gd name="textAreaTop" fmla="*/ 22320 h 745920"/>
              <a:gd name="textAreaBottom" fmla="*/ 723600 h 74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39"/>
                  <a:pt x="10800" y="2078"/>
                </a:cubicBezTo>
                <a:lnTo>
                  <a:pt x="10800" y="8722"/>
                </a:lnTo>
                <a:cubicBezTo>
                  <a:pt x="10800" y="9761"/>
                  <a:pt x="5400" y="10800"/>
                  <a:pt x="0" y="10800"/>
                </a:cubicBezTo>
                <a:cubicBezTo>
                  <a:pt x="5400" y="10800"/>
                  <a:pt x="10800" y="11839"/>
                  <a:pt x="10800" y="12878"/>
                </a:cubicBezTo>
                <a:lnTo>
                  <a:pt x="10800" y="19522"/>
                </a:lnTo>
                <a:cubicBezTo>
                  <a:pt x="10800" y="2056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24000" y="4797360"/>
          <a:ext cx="8569080" cy="1365480"/>
        </p:xfrm>
        <a:graphic>
          <a:graphicData uri="http://schemas.openxmlformats.org/drawingml/2006/table">
            <a:tbl>
              <a:tblPr/>
              <a:tblGrid>
                <a:gridCol w="4535280"/>
                <a:gridCol w="360360"/>
                <a:gridCol w="367344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3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00 стр.1 гр.8 (умерло взрослых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00 стр.1 гр.28 (умерло детей)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3100 стр. 1 гр. 13 (умерло всего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3100 стр. 78  «кроме того больные новорожденные»  гр. 13 (умерл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Прямоугольник 2"/>
          <p:cNvSpPr/>
          <p:nvPr/>
        </p:nvSpPr>
        <p:spPr>
          <a:xfrm>
            <a:off x="755640" y="4508640"/>
            <a:ext cx="8085240" cy="368280"/>
          </a:xfrm>
          <a:prstGeom prst="rect">
            <a:avLst/>
          </a:prstGeom>
          <a:solidFill>
            <a:srgbClr val="3ba0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числу умерши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Левая фигурная скобка 3"/>
          <p:cNvSpPr/>
          <p:nvPr/>
        </p:nvSpPr>
        <p:spPr>
          <a:xfrm>
            <a:off x="468360" y="5445000"/>
            <a:ext cx="69840" cy="360360"/>
          </a:xfrm>
          <a:custGeom>
            <a:avLst/>
            <a:gdLst>
              <a:gd name="textAreaLeft" fmla="*/ 44640 w 69840"/>
              <a:gd name="textAreaRight" fmla="*/ 69840 w 69840"/>
              <a:gd name="textAreaTop" fmla="*/ 1800 h 360360"/>
              <a:gd name="textAreaBottom" fmla="*/ 35856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5"/>
                  <a:pt x="10800" y="349"/>
                </a:cubicBezTo>
                <a:lnTo>
                  <a:pt x="10800" y="10451"/>
                </a:lnTo>
                <a:cubicBezTo>
                  <a:pt x="10800" y="10626"/>
                  <a:pt x="5400" y="10800"/>
                  <a:pt x="0" y="10800"/>
                </a:cubicBezTo>
                <a:cubicBezTo>
                  <a:pt x="5400" y="10800"/>
                  <a:pt x="10800" y="10975"/>
                  <a:pt x="10800" y="11149"/>
                </a:cubicBezTo>
                <a:lnTo>
                  <a:pt x="10800" y="21251"/>
                </a:lnTo>
                <a:cubicBezTo>
                  <a:pt x="10800" y="2142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Левая фигурная скобка 5"/>
          <p:cNvSpPr/>
          <p:nvPr/>
        </p:nvSpPr>
        <p:spPr>
          <a:xfrm>
            <a:off x="281160" y="5442120"/>
            <a:ext cx="266400" cy="579240"/>
          </a:xfrm>
          <a:custGeom>
            <a:avLst/>
            <a:gdLst>
              <a:gd name="textAreaLeft" fmla="*/ 170280 w 266400"/>
              <a:gd name="textAreaRight" fmla="*/ 266760 w 266400"/>
              <a:gd name="textAreaTop" fmla="*/ 6840 h 579240"/>
              <a:gd name="textAreaBottom" fmla="*/ 572400 h 57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14"/>
                  <a:pt x="10800" y="828"/>
                </a:cubicBezTo>
                <a:lnTo>
                  <a:pt x="10800" y="11605"/>
                </a:lnTo>
                <a:cubicBezTo>
                  <a:pt x="10800" y="12019"/>
                  <a:pt x="5400" y="12433"/>
                  <a:pt x="0" y="12433"/>
                </a:cubicBezTo>
                <a:cubicBezTo>
                  <a:pt x="5400" y="12433"/>
                  <a:pt x="10800" y="12847"/>
                  <a:pt x="10800" y="13261"/>
                </a:cubicBezTo>
                <a:lnTo>
                  <a:pt x="10800" y="20772"/>
                </a:lnTo>
                <a:cubicBezTo>
                  <a:pt x="10800" y="2118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Левая фигурная скобка 6"/>
          <p:cNvSpPr/>
          <p:nvPr/>
        </p:nvSpPr>
        <p:spPr>
          <a:xfrm>
            <a:off x="971640" y="5229360"/>
            <a:ext cx="647640" cy="1152360"/>
          </a:xfrm>
          <a:custGeom>
            <a:avLst/>
            <a:gdLst>
              <a:gd name="textAreaLeft" fmla="*/ 414000 w 647640"/>
              <a:gd name="textAreaRight" fmla="*/ 648000 w 647640"/>
              <a:gd name="textAreaTop" fmla="*/ 16560 h 1152360"/>
              <a:gd name="textAreaBottom" fmla="*/ 113580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6"/>
                  <a:pt x="10800" y="1012"/>
                </a:cubicBezTo>
                <a:lnTo>
                  <a:pt x="10800" y="9788"/>
                </a:lnTo>
                <a:cubicBezTo>
                  <a:pt x="10800" y="10294"/>
                  <a:pt x="5400" y="10800"/>
                  <a:pt x="0" y="10800"/>
                </a:cubicBezTo>
                <a:cubicBezTo>
                  <a:pt x="5400" y="10800"/>
                  <a:pt x="10800" y="11306"/>
                  <a:pt x="10800" y="11812"/>
                </a:cubicBezTo>
                <a:lnTo>
                  <a:pt x="10800" y="20588"/>
                </a:lnTo>
                <a:cubicBezTo>
                  <a:pt x="10800" y="2109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Левая фигурная скобка 12"/>
          <p:cNvSpPr/>
          <p:nvPr/>
        </p:nvSpPr>
        <p:spPr>
          <a:xfrm>
            <a:off x="5148360" y="5445000"/>
            <a:ext cx="358560" cy="939960"/>
          </a:xfrm>
          <a:custGeom>
            <a:avLst/>
            <a:gdLst>
              <a:gd name="textAreaLeft" fmla="*/ 228960 w 358560"/>
              <a:gd name="textAreaRight" fmla="*/ 358560 w 358560"/>
              <a:gd name="textAreaTop" fmla="*/ 9000 h 939960"/>
              <a:gd name="textAreaBottom" fmla="*/ 930960 h 93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4"/>
                  <a:pt x="10800" y="687"/>
                </a:cubicBezTo>
                <a:lnTo>
                  <a:pt x="10800" y="9341"/>
                </a:lnTo>
                <a:cubicBezTo>
                  <a:pt x="10800" y="9685"/>
                  <a:pt x="5400" y="10028"/>
                  <a:pt x="0" y="10028"/>
                </a:cubicBezTo>
                <a:cubicBezTo>
                  <a:pt x="5400" y="10028"/>
                  <a:pt x="10800" y="10372"/>
                  <a:pt x="10800" y="10715"/>
                </a:cubicBezTo>
                <a:lnTo>
                  <a:pt x="10800" y="20913"/>
                </a:lnTo>
                <a:cubicBezTo>
                  <a:pt x="10800" y="2125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26560" y="1700280"/>
            <a:ext cx="7907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водится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 </a:t>
            </a:r>
            <a:r>
              <a:rPr b="0" lang="ru-RU" sz="2400" spc="-1" strike="noStrike">
                <a:solidFill>
                  <a:srgbClr val="632523"/>
                </a:solidFill>
                <a:latin typeface="Arial"/>
                <a:ea typeface="Arial"/>
              </a:rPr>
              <a:t>количеству переведенных пацие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2100,1,0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 30,3101,1,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2100,1,01 – 14,2100,1,02 = 30,3101,1,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539640" y="189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14 форма  Межформенный контро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с 30 формой </a:t>
            </a:r>
            <a:r>
              <a:rPr b="1" lang="ru-RU" sz="25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ведения о медицинской организа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476000" y="836640"/>
            <a:ext cx="7201080" cy="433440"/>
          </a:xfrm>
          <a:prstGeom prst="rect">
            <a:avLst/>
          </a:prstGeom>
          <a:solidFill>
            <a:srgbClr val="3ba0bb"/>
          </a:solidFill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ислу переведенны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611280" y="174600"/>
            <a:ext cx="8229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Межформенный контроль (продолжение):</a:t>
            </a:r>
            <a:r>
              <a:rPr b="1" lang="ru-RU" sz="25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lang="ru-RU" sz="25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755640" y="1773360"/>
          <a:ext cx="8209080" cy="3598920"/>
        </p:xfrm>
        <a:graphic>
          <a:graphicData uri="http://schemas.openxmlformats.org/drawingml/2006/table">
            <a:tbl>
              <a:tblPr/>
              <a:tblGrid>
                <a:gridCol w="3583080"/>
                <a:gridCol w="664920"/>
                <a:gridCol w="3961080"/>
              </a:tblGrid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Форма  № 1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3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100 гр.1 «переведен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Следует учитывать, что в эту графу входят больные новорожд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&lt;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 3101 гр. 1 «переведено»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едует учитывать, что в эту графу  не включена строка «Кроме того больные новорожденны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Может быть больше, за счет новорожденных переведенных с профильных ко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НЕКОТОРЫЕ УСЛОВИЯ КОНТРОЛЯ</a:t>
            </a:r>
            <a:br>
              <a:rPr sz="2800"/>
            </a:br>
            <a:r>
              <a:rPr b="1" lang="ru-RU" sz="2000" spc="-1" strike="noStrike">
                <a:solidFill>
                  <a:srgbClr val="800000"/>
                </a:solidFill>
                <a:latin typeface="Calibri"/>
              </a:rPr>
              <a:t>(Таблица 20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Calibri"/>
              </a:rPr>
              <a:t>ИШЕМИЧЕСКИЕ БОЛЕЗНИ СЕРД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Таблица 2000: СТРОКА 10.4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по графам 4-12, 13-21,  22-33 должна быть равна сумме строк: 10.4.1 + 10.4.2 + 10.4.3  +10.4.4 +10.4.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Calibri"/>
              </a:rPr>
              <a:t>ЦЕРЕБРОВАСКУЛЯРНЫЕ БОЛЕЗ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Таблица 2000: СТРОКА 10.7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 графам 4-7, 13-16,  22-27 должна быть равна сумме строк: 10.7.1 + 10.7.2 + 10.7.3 + 10.7.4 + 10.7.5 + 10.7.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Таблица 2000: СТРОКА 10.7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 графам 8-12,  17- 21, 28-33 может быть больше суммы строк: 10.7.1 + 10.7.2 + 10.7.3 + 10.7.4 + 10.7.5 + 10.7.6 за счет рубрики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69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«Последствия цереброваскулярных болезней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26560" y="1700280"/>
            <a:ext cx="7907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водится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 количеству патологоанатомических вскрыт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  <a:ea typeface="Arial"/>
              </a:rPr>
              <a:t>Всего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14,2000,10,09+14,2000,10,29 = 30,5503,11,03 – 30,5503,11,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  <a:ea typeface="Arial"/>
              </a:rPr>
              <a:t>Взросл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: 14,2000,10,09 = (30,5503,11,03 – 30,5503,111,03) – (30,5503,11,09 – 30,5503,111,0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  <a:ea typeface="Arial"/>
              </a:rPr>
              <a:t>Дети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14,2000,10,29 = 30,5503,111,03 – 30,5503,111,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539640" y="189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14 форма  Межформенный контро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с 30 формой </a:t>
            </a:r>
            <a:r>
              <a:rPr b="1" lang="ru-RU" sz="25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ведения о медицинской организа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61128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ежформенный контроль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продолжение):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611280" y="692280"/>
          <a:ext cx="8064360" cy="334800"/>
        </p:xfrm>
        <a:graphic>
          <a:graphicData uri="http://schemas.openxmlformats.org/drawingml/2006/table">
            <a:tbl>
              <a:tblPr/>
              <a:tblGrid>
                <a:gridCol w="4219560"/>
                <a:gridCol w="528480"/>
                <a:gridCol w="3316320"/>
              </a:tblGrid>
              <a:tr h="33480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3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Rectangle 14"/>
          <p:cNvSpPr/>
          <p:nvPr/>
        </p:nvSpPr>
        <p:spPr>
          <a:xfrm>
            <a:off x="2124000" y="3284640"/>
            <a:ext cx="59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539640" y="1413000"/>
          <a:ext cx="8209080" cy="2403360"/>
        </p:xfrm>
        <a:graphic>
          <a:graphicData uri="http://schemas.openxmlformats.org/drawingml/2006/table">
            <a:tbl>
              <a:tblPr/>
              <a:tblGrid>
                <a:gridCol w="4295880"/>
                <a:gridCol w="538200"/>
                <a:gridCol w="3375000"/>
              </a:tblGrid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сего: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т. 2000 «Взрослые» стр.1, гр. 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т. 2000 «Дети от 0-17 лет»  стр. 1, гр. 29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5503 гр. 3, стр. 1.1 - гр. 9, стр. 1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зрослые: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т. 2000 «Взрослые» стр.1, гр. 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5503 гр. 3, (стр. 1.1 - стр.1.1.1)  - гр. 9, (стр. 1.1 – стр. 1.1.1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ети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т. 2000  стр. 1, гр. 2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5503 гр. 3, стр.1.1.1  - гр. 9,  стр. 1.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тарше трудоспособ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:  т. 2000 стр. 1, гр.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5503 гр. 11, стр.1.1.3 - гр. 9,  стр. 1.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Rectangle 37"/>
          <p:cNvSpPr/>
          <p:nvPr/>
        </p:nvSpPr>
        <p:spPr>
          <a:xfrm>
            <a:off x="826920" y="3860640"/>
            <a:ext cx="7993080" cy="916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количеству умерших новорожденных в первые 168 часов жизни в стационаре и вскрытиям новорожденных умерших в первые 0-6 суток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539640" y="4869000"/>
          <a:ext cx="8280360" cy="1279440"/>
        </p:xfrm>
        <a:graphic>
          <a:graphicData uri="http://schemas.openxmlformats.org/drawingml/2006/table">
            <a:tbl>
              <a:tblPr/>
              <a:tblGrid>
                <a:gridCol w="4256280"/>
                <a:gridCol w="542880"/>
                <a:gridCol w="3481200"/>
              </a:tblGrid>
              <a:tr h="128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200 гр. 1 «умерло новорожденных в первые 168 ч. жизни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жет быть больше, так как не всегда дети вскрываются (например по религиозным взглядам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5503 гр. 3,  стр.4  - гр. 9, стр. 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вскрыто новорожденных умерших в 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первые 0-6 суток (168 ч.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Rectangle 50"/>
          <p:cNvSpPr/>
          <p:nvPr/>
        </p:nvSpPr>
        <p:spPr>
          <a:xfrm>
            <a:off x="971640" y="1052640"/>
            <a:ext cx="770400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паталогоанатомическим вскрыт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914400" y="836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формой 32 «Сведения о медицинской помощи беременным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женицам и родильницам»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личеству переведенных новорожденны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2100,1,0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2, 2247,1,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ислу умерших новорожденных в первые 0-6 дней жиз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2200,1,01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2,2250,1,06 + 32,2260,1,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61128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Межформенный контроль</a:t>
            </a:r>
            <a:r>
              <a:rPr b="1" lang="ru-RU" sz="25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61128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ежформенный контроль</a:t>
            </a:r>
            <a:r>
              <a:rPr b="1" lang="en-US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одолжение):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755640" y="2060640"/>
          <a:ext cx="7993080" cy="2286000"/>
        </p:xfrm>
        <a:graphic>
          <a:graphicData uri="http://schemas.openxmlformats.org/drawingml/2006/table">
            <a:tbl>
              <a:tblPr/>
              <a:tblGrid>
                <a:gridCol w="3665520"/>
                <a:gridCol w="515880"/>
                <a:gridCol w="3811680"/>
              </a:tblGrid>
              <a:tr h="2289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. 2100 гр.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переведено новорожденных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. 2247 «переведено новорожденных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учитываются только переводы в др. учреждения на  койки выхаживания недоношенных и патологии новорожденных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Rectangle 36"/>
          <p:cNvSpPr/>
          <p:nvPr/>
        </p:nvSpPr>
        <p:spPr>
          <a:xfrm>
            <a:off x="826920" y="3716280"/>
            <a:ext cx="7632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7"/>
          <p:cNvSpPr/>
          <p:nvPr/>
        </p:nvSpPr>
        <p:spPr>
          <a:xfrm flipV="1" rot="10800000">
            <a:off x="1042560" y="835560"/>
            <a:ext cx="741996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количеству переводов новорожд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7"/>
          <p:cNvSpPr/>
          <p:nvPr/>
        </p:nvSpPr>
        <p:spPr>
          <a:xfrm>
            <a:off x="900000" y="4869000"/>
            <a:ext cx="7848720" cy="82404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&gt;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так как в форме №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14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 дети переводятся  в разные учреждения на разные профили коек и с разных профильных коек (не только родильных, например с детских (пат. нов.), на которые они поступают переводом с родильных коек - внутри учреждения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82"/>
          <p:cNvSpPr/>
          <p:nvPr/>
        </p:nvSpPr>
        <p:spPr>
          <a:xfrm>
            <a:off x="4427640" y="3789360"/>
            <a:ext cx="503280" cy="1008000"/>
          </a:xfrm>
          <a:prstGeom prst="downArrow">
            <a:avLst>
              <a:gd name="adj1" fmla="val 50000"/>
              <a:gd name="adj2" fmla="val 5007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755640" y="1628640"/>
          <a:ext cx="7993080" cy="432000"/>
        </p:xfrm>
        <a:graphic>
          <a:graphicData uri="http://schemas.openxmlformats.org/drawingml/2006/table">
            <a:tbl>
              <a:tblPr/>
              <a:tblGrid>
                <a:gridCol w="3672000"/>
                <a:gridCol w="504720"/>
                <a:gridCol w="3816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1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3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61128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ежформенный контроль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продолжение):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826920" y="907920"/>
          <a:ext cx="7777440" cy="365400"/>
        </p:xfrm>
        <a:graphic>
          <a:graphicData uri="http://schemas.openxmlformats.org/drawingml/2006/table">
            <a:tbl>
              <a:tblPr/>
              <a:tblGrid>
                <a:gridCol w="3240360"/>
                <a:gridCol w="576000"/>
                <a:gridCol w="3961080"/>
              </a:tblGrid>
              <a:tr h="36540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1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3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Rectangle 23"/>
          <p:cNvSpPr/>
          <p:nvPr/>
        </p:nvSpPr>
        <p:spPr>
          <a:xfrm>
            <a:off x="826920" y="1700280"/>
            <a:ext cx="7632720" cy="703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количеству умерших новорожденных в первые 168 часов жизни в стациона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755640" y="2809800"/>
          <a:ext cx="7777080" cy="2395440"/>
        </p:xfrm>
        <a:graphic>
          <a:graphicData uri="http://schemas.openxmlformats.org/drawingml/2006/table">
            <a:tbl>
              <a:tblPr/>
              <a:tblGrid>
                <a:gridCol w="3240000"/>
                <a:gridCol w="576360"/>
                <a:gridCol w="3960720"/>
              </a:tblGrid>
              <a:tr h="2400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200  стр.1, гр. 1, (умерло  новорожденных в первые 168 часов жизн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&gt;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250 стр. 1, гр.6 «умерло новор. в возрасте 0-6 дней жизни» + т. 2260 стр. 1, гр.8 «умерло новор. в возрасте 0-6 дней жизн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учитываются только новорожденные, умершие  в родильных отделениях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Rectangle 43"/>
          <p:cNvSpPr/>
          <p:nvPr/>
        </p:nvSpPr>
        <p:spPr>
          <a:xfrm>
            <a:off x="826920" y="51577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G Times"/>
              </a:rPr>
              <a:t>    </a:t>
            </a:r>
            <a:r>
              <a:rPr b="0" lang="ru-RU" sz="1800" spc="-1" strike="noStrike">
                <a:solidFill>
                  <a:srgbClr val="000099"/>
                </a:solidFill>
                <a:latin typeface="CG Times"/>
              </a:rPr>
              <a:t>Т.к. умирают не только в учреждениях родовспоможения, но и в других учреждениях на детских кой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71"/>
          <p:cNvSpPr/>
          <p:nvPr/>
        </p:nvSpPr>
        <p:spPr>
          <a:xfrm>
            <a:off x="3995640" y="4070520"/>
            <a:ext cx="486000" cy="1087200"/>
          </a:xfrm>
          <a:prstGeom prst="downArrow">
            <a:avLst>
              <a:gd name="adj1" fmla="val 50000"/>
              <a:gd name="adj2" fmla="val 6138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128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Zdravmanager.r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763640" y="3789360"/>
            <a:ext cx="66103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libri"/>
              </a:rPr>
              <a:t>БЛАГОДАРЮ ЗА ВНИМ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Голубые холмы"/>
          <p:cNvPicPr/>
          <p:nvPr/>
        </p:nvPicPr>
        <p:blipFill>
          <a:blip r:embed="rId1"/>
          <a:stretch/>
        </p:blipFill>
        <p:spPr>
          <a:xfrm>
            <a:off x="1692360" y="907920"/>
            <a:ext cx="5833800" cy="26942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"/>
          <p:cNvPicPr/>
          <p:nvPr/>
        </p:nvPicPr>
        <p:blipFill>
          <a:blip r:embed="rId2"/>
          <a:stretch/>
        </p:blipFill>
        <p:spPr>
          <a:xfrm>
            <a:off x="468360" y="4005360"/>
            <a:ext cx="1439640" cy="115236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5"/>
          <p:cNvSpPr/>
          <p:nvPr/>
        </p:nvSpPr>
        <p:spPr>
          <a:xfrm>
            <a:off x="3192480" y="5071320"/>
            <a:ext cx="29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б.т. +7 925 -299-78-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179280" y="1484280"/>
          <a:ext cx="8642520" cy="4046400"/>
        </p:xfrm>
        <a:graphic>
          <a:graphicData uri="http://schemas.openxmlformats.org/drawingml/2006/table">
            <a:tbl>
              <a:tblPr/>
              <a:tblGrid>
                <a:gridCol w="4248360"/>
                <a:gridCol w="1062000"/>
                <a:gridCol w="915840"/>
                <a:gridCol w="476280"/>
                <a:gridCol w="476280"/>
                <a:gridCol w="399960"/>
                <a:gridCol w="1063800"/>
              </a:tblGrid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болезни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п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КБ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1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нхит хронический и неуточненный, эмфизем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40-J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ая хроническая обструктивная легочная болезн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нхоэктатическая болез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сфункция яич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тройства менстр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91-N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ременность, роды и послеродовый 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00-O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НЕКОТОРЫЕ УСЛОВИЯ КОНТРОЛЯ</a:t>
            </a:r>
            <a:br>
              <a:rPr sz="2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(продолжение)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(Таблица 2000 - ДЕТ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67"/>
          <p:cNvSpPr/>
          <p:nvPr/>
        </p:nvSpPr>
        <p:spPr>
          <a:xfrm>
            <a:off x="395280" y="5660280"/>
            <a:ext cx="84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Эти диагнозы не могут быть причиной болезни детей в возрасте до 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Необходимо представить подтверждения на следующие случаи смер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псис (А40-41, строка 2.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емии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50-D6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трока 4.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дельные нарушения, вовлекающие иммунный механизм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80-D8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трока 4.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жирение (Е66, строка 5.1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сихические расстройства и расстройства поведения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01-F9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трока 6.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трая ревматическая лихорадка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00-I0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трока 10.1) – для детей до 1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ронические ревматические болезни сердца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05-I0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трока 10.2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ля детей до 1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Необходимо представить подтверждения на следующие случаи смерти (продолжение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ипп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09-J1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трока 11.2 )– для детей 0-17 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трые респираторные  инфекции верхних дыхательных путей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00-J06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трока 11.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зва желудка и двенадцатиперстной кишки (К25-К26, строка 12.1) – для детей 0-17 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астрит и дуоденит (К29, строка 12.2) – для взрослых 18 лет и старш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стемные поражения соединительной ткани (М30-М35, строка 14.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Необходимо представить подтверждения на следующие случаи смерти (продолжение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случаи смерти женщин (от внематочной беременности, аборта, беременных, рожениц и родильниц) (О00-О99, строка 16.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уберкулез органов дыхания (А15-А16, строка 2.2) – для детей 0 - 17 л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7T11:05:35Z</dcterms:created>
  <dc:creator>Арсений А. Кучерявый</dc:creator>
  <dc:description/>
  <dc:language>en-US</dc:language>
  <cp:lastModifiedBy>Пользователь Windows</cp:lastModifiedBy>
  <dcterms:modified xsi:type="dcterms:W3CDTF">2017-12-12T09:59:08Z</dcterms:modified>
  <cp:revision>319</cp:revision>
  <dc:subject/>
  <dc:title>Видеотрансляция по вопросам мониторинга донорских органов и тканей человека, доноров органов и тканей, пациентов (реципиентов)</dc:title>
</cp:coreProperties>
</file>