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4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 type="sldNum" idx="4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9B0FB-F849-460F-8BF5-33C5AF93CD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CDD8-7B8E-468A-A409-F2F7472A8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B5DF-2DBE-469A-BBAA-1D26EB288A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B0B1C-E078-4509-9843-8AA41ACC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79312-D509-4A09-9B78-CBEE7B26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DF02C-18AE-42C1-A63F-2EDA9131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537BA-4945-487E-ADE1-18CBB6B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10FE6-D486-4AB2-AF94-F668F6F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C38E0-F7B7-49FF-B4D0-A7BB9BC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25213-3AC4-40A6-A656-D1913407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91140-664D-4F05-80B3-296D395C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99285-BF5A-451B-9E46-17A992CE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DDDE7-B5AC-46B9-A4AB-21DC0360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B396-FEA6-4C41-B897-06C7C6885D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1C795-DDB6-48A1-B841-AAF1F7CC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AE146-2454-4B8F-AAB5-7553FBC1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55D50-DFB7-4FDF-86FF-F70F387A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05C1E-8D97-4485-BE7F-9391C512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7BE35-16CF-4A03-BA66-D491BC53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62978-7119-433A-8003-67BD37E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D69AF-B716-4BF9-8946-E502E752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8BF18-5353-48B0-B6A4-3AE49B33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B51AA-E0C0-4EFD-8A52-84025513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0FA3C-4EE0-48D8-982C-D6FAD8B4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56D9-57FF-4649-A47A-5979D17F11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A4053-B7F6-49D4-8937-344206C2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BF2FD5-10E9-4431-A53F-46538404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F3C261-0F19-483D-9C40-60FE9570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35F0F8-BB94-4F7A-9D6A-6D1A643D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C57490-93F9-402E-89BD-28737124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C51205-898F-4A44-AC07-B3B6E05C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31814E-04FC-480D-BBB1-E475FA25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7C2A1D-D280-4214-AC6A-FF87B3D4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839275-7745-4C77-918E-DD04428A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F44C78-3E03-41D0-84DF-85ADD1BA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54F7F-28D5-4837-9A43-42ED9CB5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C8ED5B-5905-47F6-AC70-7B0B7095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11D769-2B28-4272-ACA1-DDA2CBFC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354694-0C16-4EAD-B407-8268202B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CA6B2-B42A-451E-BB51-D9506488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696F1-4689-4224-A3EB-19BD7129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A39C7-B5E0-4F51-B607-5CE98553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81B3B-313D-4116-B8D0-7F7364D3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A8757-1683-4796-8E86-C8DACE51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02FD7-7881-4075-B3EF-DBBD07AF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B36A1-0B92-4882-8B11-FCFCED9A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97542-DDC4-4500-B3FA-52DEFECB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7670F-67A6-4575-A87D-3C55B34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5AFBD-B743-4084-85C4-F3E9B91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FF3F5-3B3C-4F77-91C7-C63FF97D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BF6ED-5B9B-4102-B72A-4DE467EC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21D88-7351-4F33-936E-C7ED70DA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E3099F-DFAD-4519-988F-7BF2EFC5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A06337-4683-44BC-B46F-F2B2938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25575B-2389-4628-A4DC-44BC719F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BB9FE7-B8A1-4144-99A9-96A0F276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75F1A9-AEB4-444C-88B6-27B8DC04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E299E-4BE7-4288-A09E-256D5A08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31EAEF-966C-4AE5-85F2-A637528F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50E36A-E9C4-435F-9D32-C384F727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3BD81D-122C-4191-946E-59D27F52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8F341A-BF9B-46F4-8DB3-F83F2203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F7DD09-DC1F-4790-AC75-FC85C571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6E479F-8BCB-49C8-8C16-05AACF6E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46126E-F4AE-4585-8C55-D495BDF2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44A878-AFF4-4422-8951-8D983E99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32B8D7-489D-4347-9AB1-0D4D3000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828B10-130E-4BA4-A78F-36054D8C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CFA90-4970-496E-8FEF-21E4A95F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0B5C48-7484-4798-A372-AF36B07A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ECCD74-B542-47AE-9AE2-5F18990C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911DB2-918A-4F11-8961-FA20E0F5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2692D9-3123-48FB-AFDD-13E0C3E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196254-50AB-498B-961F-DAF11EDC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14922A-13CA-4626-AC72-429B0F35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E5ED74-2B2A-42A2-8FDB-BE23025F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E0E3BF-0114-4211-813E-7D467F49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D2211C-3911-4398-9EA0-156FBF56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DBE602-996B-4D74-9FC5-17EB2185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AA207-EF38-416A-ADE6-E82B3A4E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0C7416-BF22-4A5D-A1DA-D10545A6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47D182-0F7E-42CE-9347-440894EF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A4066F-340B-4112-BD76-35D6D80C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82CFBC-2CB9-4845-BEAA-C6253DB1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1A2DD3-C7CC-4D80-80E0-1A2EB115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7851D5-BFCE-4B5D-B876-A6DBF89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86F3A5-7D88-42AB-82D2-1D0AAA0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0BD971-6A16-42EF-8AE1-AE832547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1C2BDA-8C23-4E9F-A7D7-F174BB7C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1C1B9B-2B56-4DEC-8025-2A481BD2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70463-CCA1-4002-B394-97702569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69F44A-09A6-47FD-9EA6-04AF94DC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16A0D-6E26-4233-8CB2-FB454229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D6D9-EB4A-4976-A322-A343A6E41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3A5AF-F1A6-412B-BBC0-F8B207C7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D14A2-DBDC-4610-9D0B-2F89E80E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8298C-08CB-4F83-A227-A02BD48C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8D1FE-6795-4F2D-9801-A847F21B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40A55-A1F9-49B5-843D-3A0C6980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B155-68CA-4430-9A66-DF674CC51F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9D68-FAFE-4315-A8D6-E7ADBBF97C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8508-E332-4FC5-B4F3-85C38529BD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80D0-B109-42FF-A6B1-FD698D7025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9CD7-FF05-4882-8C47-F8167249A1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64D9-60DC-4052-88FC-F250F69A43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D238-C032-44F8-AD6E-EA50C83052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E7B7-CE2C-477F-897C-AAD96ED6EE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E93F-0CD2-4A45-87D7-5213D8866C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05FE-0696-48BE-95E9-94680FA409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0AAF-D752-4208-BA3D-CE9F30D1B3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BF64-AAC4-44F9-AA3F-F30E40AC1A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6123-D726-4553-8BD7-C75157A26B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4CC44F-3DF8-49C5-A931-5DD7587D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75089-3FC8-47AA-9AE0-AA193A1F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3F9BC-BFD5-41BC-9A8E-B0711AF9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376A-A65D-4AD8-A99B-AA0FA28109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907A6-FEA5-42E6-A63A-F5D4D244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0933C-73A0-4D70-A21F-3F280CEF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836C8-0BFB-4704-838F-B087C8CE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1EA17-4C22-4E0C-B31A-EA894D5B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120E3-8809-474C-8EA2-DE2F6B51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B6F96-DF36-4126-8E4A-3481FF6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866BD-FCBB-4A3F-89DE-C64F08B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A6A06-438C-4B5A-ACFB-F4E43730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599A3-2AA7-4F4C-9909-72A4DA6E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BB583-CE95-45DF-88ED-B5D6402C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A6CD-9FC5-4E01-B606-6B39E1FF48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CC85E0-69BD-4B54-9457-EDEE3AC9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BFD74-1C89-4051-AAD6-83AEBAD5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98BA92-00B1-4498-AC18-81A9D994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D2F361-A7A5-4985-9D07-0B35D760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AA32DA-A9BA-4125-890A-E1E39CFC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3168E-C9CC-4F89-B478-BED149F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7AD34A-6546-4C70-AB4C-0B963F28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256784-0132-4CC0-8759-986E981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848D26-5F40-44F3-815F-798FC88C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A0B7E6-A1CF-4BB2-A113-D3507680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75B1-FEB0-4A57-8CD8-B69479868A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833E84-F2CF-4E3A-A108-8C164416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8B2281-77B8-4A03-874C-19D86661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72027B-BE5A-4476-A262-67592272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17799E-988D-4C6B-8C7E-2A70770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A5CBC0-66B3-476D-BD60-D75A44A3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59C4AE-3F9E-408B-845D-BEB307A2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C81FB2-A65E-436E-B181-BCB85E05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3A1346-C46B-43C3-A5D3-90EE007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5AEF4-7698-4E12-8D2E-C1367E15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7FBC44-9DF1-445E-95C9-B727D1F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796D-8C18-4A33-AB2E-C9CC6D922C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88AE96-3E71-4284-869B-ABD5330D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27FC75-ABF5-49CC-A601-F76FE405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7FF60-62B7-43F5-B102-4FDBC34D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5A4D9-B82F-4786-B67A-CFBCAAE3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DAC1C0-1098-46D9-AB92-C2553F89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242A9F-439E-407D-BCAE-6913A25E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90A1BB-EB21-4993-A4D0-A11AED51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C16F69-57C8-485D-A077-A593577B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AAA123-7E4D-4740-A8EC-2893E2A8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1697E3-5097-43D8-9F4F-B608862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A86F-C9B4-4C2B-B77B-7B23AB9931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3BE111-CD51-4A0C-B8CA-B95F817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26BF38-3742-4D33-A17C-3B61BA5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2F2937-607F-44BB-8382-BA73E3A7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DFDBDB-406D-4325-B5E3-405537D2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4014C4-C29D-4CB0-A3B6-DF9AB171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80012B-9D8C-4458-B305-B53A51CE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E3C04F-129D-4744-839F-56D6D363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2E07D2-5FD3-4928-BB7A-B978DF16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57505-A5D1-4DA3-8B03-0F4E139A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8BC7D-C162-494C-9856-C2B231B3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E4C4-EED2-43CC-9DED-7FCE1217EF3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C368A-9AB5-4AFF-9D75-5F4305BA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7C9E99-4C26-408A-89C3-B1502600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0E4A61-9BDA-4F9E-8C27-629FC1D4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9F6B51-F820-4204-B5FD-81881173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EDBEDD-3989-4805-ADA3-58821899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4ACB03-45A3-4D85-A18B-53E3AC49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625B74-A730-433A-8BF3-BFB24601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650E1-9BD0-4A3B-9E6A-92E9BA91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D04DF-3E0D-444F-A67B-4E14E7E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55F05-FBA8-475D-A0BC-95E98964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165640" y="6427440"/>
            <a:ext cx="28958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6320" y="6424200"/>
            <a:ext cx="48276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08E2C-322E-44C7-AFD0-5062B6BBF39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5" descr="SANOFI_Logo_H_2011_Quadri copie"/>
          <p:cNvPicPr/>
          <p:nvPr/>
        </p:nvPicPr>
        <p:blipFill>
          <a:blip r:embed="rId3"/>
          <a:stretch/>
        </p:blipFill>
        <p:spPr>
          <a:xfrm>
            <a:off x="595440" y="6308640"/>
            <a:ext cx="1584360" cy="365040"/>
          </a:xfrm>
          <a:prstGeom prst="rect">
            <a:avLst/>
          </a:prstGeom>
          <a:ln w="0">
            <a:noFill/>
          </a:ln>
        </p:spPr>
      </p:pic>
      <p:pic>
        <p:nvPicPr>
          <p:cNvPr id="5" name="Object 1" descr=""/>
          <p:cNvPicPr/>
          <p:nvPr/>
        </p:nvPicPr>
        <p:blipFill>
          <a:blip r:embed="rId4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5032D3-D30B-4D99-A656-02D7E758693C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9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0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1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3392F6-5D96-4A52-9383-040AAEA69F9B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2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3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4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09408E-B900-4C18-AC6C-428A045CF04D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5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6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7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442456-981C-473E-A44E-8A346AC14988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8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9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0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E96590-460B-473D-9D92-BF28BBE21D07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51B952-0683-4714-996A-54990647C96A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33D78-9BBE-4A5A-B2A1-178E7BAADE21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9" descr="fond_150dpi_bleu"/>
          <p:cNvPicPr/>
          <p:nvPr/>
        </p:nvPicPr>
        <p:blipFill>
          <a:blip r:embed="rId2"/>
          <a:stretch/>
        </p:blipFill>
        <p:spPr>
          <a:xfrm>
            <a:off x="631800" y="625320"/>
            <a:ext cx="7935840" cy="552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2" descr="SANOFI_Logo_H_2011_Quadri copie"/>
          <p:cNvPicPr/>
          <p:nvPr/>
        </p:nvPicPr>
        <p:blipFill>
          <a:blip r:embed="rId3"/>
          <a:stretch/>
        </p:blipFill>
        <p:spPr>
          <a:xfrm>
            <a:off x="595440" y="6308640"/>
            <a:ext cx="1584360" cy="365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8086320" y="6424200"/>
            <a:ext cx="48276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F384E-BB5C-493D-80E4-40CED96F7C2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5165640" y="6427440"/>
            <a:ext cx="28958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612E86-7B1D-4064-9088-3AFE3A89F3B5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C41B68-C55F-48E5-BB04-1F8E50735143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4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5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6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891EDD-AF85-46F2-8F66-9554ECF2A471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7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8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9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F207E9-E2CB-42A0-B490-DF945BB8AD8E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0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1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2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76315E-5E9C-4F64-98B9-B3EBAE3A5CA6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982164-72DE-42B4-A59F-D410123273EC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90680" y="2211120"/>
            <a:ext cx="7967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Новая отчетная форма №13</a:t>
            </a:r>
            <a:br>
              <a:rPr sz="4800"/>
            </a:br>
            <a:r>
              <a:rPr b="0" i="1" lang="ru-RU" sz="4800" spc="-1" strike="noStrike">
                <a:solidFill>
                  <a:srgbClr val="c00000"/>
                </a:solidFill>
                <a:latin typeface="Tahoma"/>
              </a:rPr>
              <a:t>«Сведения о прерывании беременности»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2166840" y="4471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З.З. Ток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344160" y="1938240"/>
            <a:ext cx="84582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Проблема абортов тесно связана с </a:t>
            </a: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контрацепцией.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Поэтому следует обратить внимание на операции по поводу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32640" indent="-33264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стерилизация женщин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- табл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4 000 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56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13.4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400" indent="-32940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стерилизация женщин с использованием    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эндоскопической аппаратуры 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- табл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4100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70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6-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400" indent="-32940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стерилизация мужчин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– табл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4 000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56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12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40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44160" y="2101680"/>
            <a:ext cx="8458200" cy="48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таблица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2 401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39: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1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- состоит под наблюдением на конец года женщин, имеющих внутриматочные спирал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2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- использующих гормональные контрацептивы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3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- введено внутриматочных спиралей (в амбулаторных и стационарных условиях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Прямоугольник 1"/>
          <p:cNvSpPr/>
          <p:nvPr/>
        </p:nvSpPr>
        <p:spPr>
          <a:xfrm>
            <a:off x="1555920" y="239760"/>
            <a:ext cx="69897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№ 30  </a:t>
            </a:r>
            <a:endParaRPr b="0" lang="en-US" sz="54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«Сведения о медицинской организации»: </a:t>
            </a: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344160" y="3274560"/>
            <a:ext cx="84582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таблица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2210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1-2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граф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3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регистрирует 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роды у девочек до 14 лет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и их называют «дети до 14 лет» (включает в себя возраст 14 лет 11 месяцев 29 дней) – из общего числа родов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принято родов у детей до 14 л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Прямоугольник 1"/>
          <p:cNvSpPr/>
          <p:nvPr/>
        </p:nvSpPr>
        <p:spPr>
          <a:xfrm>
            <a:off x="1555920" y="239760"/>
            <a:ext cx="72468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№ 32</a:t>
            </a:r>
            <a:r>
              <a:rPr b="0" i="1" lang="ru-RU" sz="5400" spc="-1" strike="noStrike">
                <a:solidFill>
                  <a:srgbClr val="16165d"/>
                </a:solidFill>
                <a:latin typeface="Calibri"/>
                <a:ea typeface="MS PGothic"/>
              </a:rPr>
              <a:t> </a:t>
            </a:r>
            <a:endParaRPr b="0" lang="en-US" sz="54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«Сведения о медицинской помощи беременным, роженицам и родильницам» </a:t>
            </a: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раздел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2.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 Родовспоможение в стационаре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  </a:t>
            </a:r>
            <a:endParaRPr b="0" lang="en-US" sz="4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44160" y="248400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таблица 5 000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«Диспансерное наблюдение за беременными, роженицами и родильницами, больными ВИЧ-инфекцией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1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– число беременных женщин¸ больных ВИЧ-инфекцией всего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2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– число женщин, больных ВИЧ-инфекцией, завершивших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Прямоугольник 1"/>
          <p:cNvSpPr/>
          <p:nvPr/>
        </p:nvSpPr>
        <p:spPr>
          <a:xfrm>
            <a:off x="1255680" y="239760"/>
            <a:ext cx="75470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№ 61</a:t>
            </a:r>
            <a:r>
              <a:rPr b="0" i="1" lang="ru-RU" sz="5400" spc="-1" strike="noStrike">
                <a:solidFill>
                  <a:srgbClr val="16165d"/>
                </a:solidFill>
                <a:latin typeface="Calibri"/>
                <a:ea typeface="MS PGothic"/>
              </a:rPr>
              <a:t> </a:t>
            </a:r>
            <a:endParaRPr b="0" lang="en-US" sz="5400" spc="-1" strike="noStrike">
              <a:solidFill>
                <a:srgbClr val="444492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«Сведения о болезни, вызванной вирусом иммунодефицита человека»:</a:t>
            </a: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841320" y="750600"/>
            <a:ext cx="812808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66/у-02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03-1/у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медицинская карта  прерывания беременности» для всех случаев прерывания кроме аборта по медпоказаниям и при наличии  тяжелых сопутствующих заболеваний;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03/у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медицинская карта стационарного больного» при   производстве аборта по медпоказаниям и при наличии тяжелых  сопутствующих заболеваний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111/у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индивидуальная карта беременной и родильницы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02/у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журнал учета приема беременных, рожениц и родильниц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Прямоугольник 1"/>
          <p:cNvSpPr/>
          <p:nvPr/>
        </p:nvSpPr>
        <p:spPr>
          <a:xfrm>
            <a:off x="841320" y="544680"/>
            <a:ext cx="79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S PGothic"/>
              </a:rPr>
              <a:t>Источники информации</a:t>
            </a:r>
            <a:endParaRPr b="0" lang="en-US" sz="44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67920" y="2443320"/>
            <a:ext cx="838044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другие анормальные продукты зачатия (строка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 самопроизвольный аборт (строка 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 медицинский аборт  (строка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другие виды аборта  (строка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аборт неуточненный (строка 6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Прямоугольник 1"/>
          <p:cNvSpPr/>
          <p:nvPr/>
        </p:nvSpPr>
        <p:spPr>
          <a:xfrm>
            <a:off x="0" y="54468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MS PGothic"/>
              </a:rPr>
              <a:t>Настоящая форма № 13 состоит из 2-х таблиц и 2-х подтабличных строк.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236919"/>
                </a:solidFill>
                <a:latin typeface="Calibri"/>
                <a:ea typeface="MS PGothic"/>
              </a:rPr>
              <a:t>Таблица 1000 «Прерывание беременности в срок до 12 недель» включает рубрики О02-О06: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0" y="860040"/>
            <a:ext cx="914400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роме того, в эту таблицу добавлен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рубрики О00, О01, О07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- внематочная беременность (строка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      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- пузырный занос (строка 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 algn="ctr">
              <a:lnSpc>
                <a:spcPct val="115000"/>
              </a:lnSpc>
              <a:buClr>
                <a:srgbClr val="333399"/>
              </a:buClr>
              <a:buFont typeface="Calibri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неудачная попытка аборта (строка 9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6919"/>
                </a:solidFill>
                <a:latin typeface="Calibri"/>
                <a:ea typeface="Calibri"/>
              </a:rPr>
              <a:t>В графах 5-9 отражается распределение женщин по возрасту, в графах 10-11 – аборты у первобеременных, у ВИЧ-инфицирован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6919"/>
                </a:solidFill>
                <a:latin typeface="Calibri"/>
                <a:ea typeface="Calibri"/>
              </a:rPr>
              <a:t>В</a:t>
            </a:r>
            <a:r>
              <a:rPr b="1" lang="en-US" sz="2800" spc="-1" strike="noStrike">
                <a:solidFill>
                  <a:srgbClr val="236919"/>
                </a:solidFill>
                <a:latin typeface="Calibri"/>
                <a:ea typeface="Calibri"/>
              </a:rPr>
              <a:t> 1</a:t>
            </a:r>
            <a:r>
              <a:rPr b="1" lang="ru-RU" sz="2800" spc="-1" strike="noStrike">
                <a:solidFill>
                  <a:srgbClr val="236919"/>
                </a:solidFill>
                <a:latin typeface="Calibri"/>
                <a:ea typeface="Calibri"/>
              </a:rPr>
              <a:t>части т.1000 строка 1 равна сумме строк 2-6 по всем граф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510840" y="1255320"/>
            <a:ext cx="845820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Медицинский аборт легальный, медицинский аборт  по медицинским показаниям, из них проведено медикаментозным методо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ahoma"/>
              </a:rPr>
              <a:t>Из числа легальных абортов, абортов по медицинским показаниям выполнено в возрастной группе до 14 лет, 15-17 лет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22228b"/>
                </a:solidFill>
                <a:latin typeface="Tahoma"/>
              </a:rPr>
              <a:t>Число первобеременных, ВИЧ-инфицированных в возрастной группе до 14 лет, 15-17 ле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</a:rPr>
              <a:t>Из числа неудачных попыток аборта (О07) проведено медикаментозным методо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сложнения, вызванные абортом (О08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Прямоугольник 1"/>
          <p:cNvSpPr/>
          <p:nvPr/>
        </p:nvSpPr>
        <p:spPr>
          <a:xfrm>
            <a:off x="1228680" y="544680"/>
            <a:ext cx="75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  <a:ea typeface="MS PGothic"/>
              </a:rPr>
              <a:t>Подтабличные строки 1100-1105:</a:t>
            </a:r>
            <a:endParaRPr b="0" lang="en-US" sz="36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04840" y="3193920"/>
            <a:ext cx="850248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Arial"/>
                <a:ea typeface="Calibri"/>
              </a:rPr>
              <a:t>Расположение строк, граф аналогично предыдущей таблице. Строка 1 равна сумме строк 2-6 по всем граф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Прямоугольник 1"/>
          <p:cNvSpPr/>
          <p:nvPr/>
        </p:nvSpPr>
        <p:spPr>
          <a:xfrm>
            <a:off x="1555920" y="293760"/>
            <a:ext cx="6868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MS PGothic"/>
              </a:rPr>
              <a:t>Таблица 2000 «Прерывание беременности в срок с 12 до 22 недель» включает те же рубрики, что и таблица 1000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44160" y="2252160"/>
            <a:ext cx="8458200" cy="47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Медицинский аборт, проведенный по социальным показаниям, по медицинским показаниям – всего, из них медикаментозным методом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Из числа абортов по социальным показаниям, по медицинским показаниям выполнено в возрастной группе до 14 лет, 15-17 ле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Из числа абортов по медицинским показаниям проведено в связи с выявленными врожденными пороками развития плод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Число первобеременных, ВИЧ-инфицированных в возрастной группе до 14 лет, 15-17 ле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Из числа неудачных попыток аборта (О07) проведено медикаментозным метод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ложнения, вызванные абортом (О0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Прямоугольник 1"/>
          <p:cNvSpPr/>
          <p:nvPr/>
        </p:nvSpPr>
        <p:spPr>
          <a:xfrm>
            <a:off x="1555920" y="544680"/>
            <a:ext cx="657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MS PGothic"/>
              </a:rPr>
              <a:t>Подтабличные строки 2100-2105 </a:t>
            </a:r>
            <a:endParaRPr b="0" lang="en-US" sz="40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344160" y="3301920"/>
            <a:ext cx="84582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 издании документа в этой подтабличной строке допущена техническая ошибка – в скобке вместо рубрик О02-О06 напечатано О02-О0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Прямоугольник 1"/>
          <p:cNvSpPr/>
          <p:nvPr/>
        </p:nvSpPr>
        <p:spPr>
          <a:xfrm>
            <a:off x="1555920" y="544680"/>
            <a:ext cx="657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дельной строкой  3000 выделено число  женщин, умерших от прерывания беременности (О02-О06). 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344160" y="1828800"/>
            <a:ext cx="845820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ведения о деятельности подразделений медицинской организации, оказывающих медицинскую помощь в </a:t>
            </a:r>
            <a:r>
              <a:rPr b="1" i="1" lang="ru-RU" sz="2400" spc="-1" strike="noStrike">
                <a:solidFill>
                  <a:srgbClr val="236919"/>
                </a:solidFill>
                <a:latin typeface="Times New Roman"/>
                <a:ea typeface="Times New Roman"/>
              </a:rPr>
              <a:t>стационарных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условиях»  (в отличие от формы № 13, учитывающей и амбулаторные аборты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Таблица 4 000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Раздел 3. «Хирургическая работа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организации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5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1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– внематочная беременность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5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аборт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60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-  число абортов с осложнениям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64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6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– умерло после абор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Прямоугольник 1"/>
          <p:cNvSpPr/>
          <p:nvPr/>
        </p:nvSpPr>
        <p:spPr>
          <a:xfrm>
            <a:off x="695160" y="239760"/>
            <a:ext cx="827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alibri"/>
                <a:ea typeface="MS PGothic"/>
              </a:rPr>
              <a:t>Межформенный контроль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         Форма № 14  </a:t>
            </a:r>
            <a:endParaRPr b="0" lang="en-US" sz="4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3:24:50Z</dcterms:created>
  <dc:creator>Юля</dc:creator>
  <dc:description/>
  <dc:language>en-US</dc:language>
  <cp:lastModifiedBy>Valentin Fomin</cp:lastModifiedBy>
  <cp:lastPrinted>2016-06-21T09:02:45Z</cp:lastPrinted>
  <dcterms:modified xsi:type="dcterms:W3CDTF">2017-12-13T06:42:01Z</dcterms:modified>
  <cp:revision>313</cp:revision>
  <dc:subject/>
  <dc:title>Слайд 1</dc:title>
</cp:coreProperties>
</file>