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A4400-DD8E-4B4C-90A3-B6E635F6A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B8B57-C3DD-4A57-8611-39F5BBA9BF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2AD-8DBA-46DE-A3FF-61F226A6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BFE-353E-40B2-A4CC-370EC8EE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D3C-7788-4118-B275-7F7AF089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067-30F7-4F80-9844-56A0A2C7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671D-E45A-4651-B2F4-E6E40712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7043-C7CD-482C-96DF-17C8326B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4FB-2F9D-48C9-BF23-3C5B06D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7103-B349-4205-B217-0CA9AD9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B487-0CBD-436E-BFF8-AF402A9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05BD-F1E0-4217-A8F9-0F54B6C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DC27-DA0D-408E-BF99-3CB259E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4E7-ECD6-44D8-B330-BE54083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C6E7-6209-4EB8-9100-3F96101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3784-5403-40AE-98BE-D408AFB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BB5F-9E6A-422C-8815-E57EF0E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FBE4-ABBB-4AE4-B8EA-48BFB623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15D2-28E4-4952-B8B6-5D5F7D6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AA37A-A23E-4033-AFF8-BE7410E7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A5B9-6DDB-4AE8-A0F0-2BFFD79D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86BF-8A7B-4021-B574-27E87A4B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C362-A55B-4D2A-AEC0-ADAD69B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16AB-F4BF-42E0-A4CA-0B67984A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73A-469C-4732-983F-1A8763CD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5D5B-AB87-49F5-927D-3264DBA5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D967-B5DA-4FA6-90F1-5215EC59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1039-54E6-4C2C-8DF8-40C8475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EBEB-1CD0-436A-8CC1-EA6F3868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DA15-B83B-4822-AC88-FA0630D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8D63-947F-4BB6-AA00-AD556C24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6BE8-A67A-4788-A188-37DFCFE3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3C09B-07C7-4FFF-B0BD-35582E38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A089-1E78-4AAD-AE0D-11A9CE6C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50D1-AE0B-4492-A39B-29DE8F1B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4CD-0555-40D6-ABCC-26933CDE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6B59-89CB-4D3A-B031-8562185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7B1D-6F5E-4774-97A8-FF8D7688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449A-25E6-41AB-8C29-1CB73F3E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C3CD-088A-4B73-B29D-48682808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F65C-0AFE-43DD-AE7F-9FAA423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9298-61AE-41DC-BC23-AEC9172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DF4F-9A8A-49D9-A24B-DE75467A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111E-1499-45FA-8EFF-E3E8495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437D-9B8F-42D1-AD92-8AB8318B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69719-C556-47B8-8E59-4796757E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6F9-873C-47AD-9220-529F85AE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921F-DD1B-42A0-9865-CACD66F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0AF0-B507-4E95-A6A6-1AA5E95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0291-BA0D-4A5C-9817-9553239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EA89-9B8E-418D-94CE-76F44E79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70D4-894A-4B12-B158-C5783816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FB0B-156E-47D2-AA6E-F1A52EF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120A-9B1B-43B6-BC54-10554A80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E5893-9AF2-4241-ABF8-8B311155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7187-4A47-4456-8128-5655BD2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ACF2-ECD7-40D4-BA26-064D2D81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10A-E1C8-4FA6-B155-F3773037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8BFB-F699-4D27-87BF-541D651D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444C-E82E-43DA-9C13-E83D8404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DD0C-8B04-47C2-824F-2B43CFC1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55DB-621A-407E-9C60-A529465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1115-2A0D-4B2D-A231-8BB07039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87931-6B81-434B-9F2D-446D15EB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EAE0E-058D-4FCC-8892-116AE2E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1216-D033-4076-8362-F897ABD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6013-3E1C-4FAF-9301-CD97FFF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D34E-6B27-4D29-B1FA-FBD9A663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63A-AC55-4742-A24E-3AE7B08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812E-25EF-4AD0-9105-F2C98A1D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A7276-737A-4CD6-8576-EB04D1E0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8205-A6AE-4378-9232-C1CD444E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78B6-25BC-43E1-BC6B-3ACBD583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8D2D1-6460-4401-9BD0-189A0B3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F705-65C2-46A2-8E5F-A02B4A4F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EFE27-90DF-48BB-B4D0-714443C0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872F-E8D7-4E32-96AA-462E98F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ED3A-4148-44AC-8095-E9463131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A519-B0EF-40AE-AB8C-072DBB1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A2F-AFDF-44F7-8A1D-2980788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9371E-E0AF-41FD-A203-D4710296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D1E7C-6471-4BB9-9798-078BD1C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159E-18F7-43FC-BB72-C291EAF0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85BB-697F-4A97-A223-72A9A648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D6D25-3479-4EB7-A533-6C419508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DF43-0F72-406E-9414-25B105EE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93C62-D3B4-40F8-93FE-A44B894FBF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>
              <a:gd name="textAreaLeft" fmla="*/ 319680 w 2184480"/>
              <a:gd name="textAreaRight" fmla="*/ 1864800 w 218448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2184401" h="1638300">
                <a:moveTo>
                  <a:pt x="2184401" y="819150"/>
                </a:moveTo>
                <a:lnTo>
                  <a:pt x="2184401" y="819150"/>
                </a:lnTo>
                <a:arcTo wR="1092201" hR="819150" stAng="0" swAng="5402124"/>
                <a:lnTo>
                  <a:pt x="10922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205DB-7AA0-43DC-AE58-4935AD9A57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16B18-0D73-4B76-9EEB-4FA70035811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7A3E8-A8CD-4FEB-BB5E-DDF89E145C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45822-3234-446D-B5E1-87666473A5A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F9760-592C-4A06-98B8-176C25ED5E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AB72B-6FBE-4722-9A4F-D62FD8AD63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108172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№12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2600" y="2241720"/>
            <a:ext cx="10369800" cy="424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 ЧИСЛЕ ЗАБОЛЕВАНИЙ, ЗАРЕГИСТРИРОВАННЫХ У ПАЦИЕНТОВ, ПРОЖИВАЮЩИХ В РАЙОНЕ ОБСЛУЖИВАНИЯ МЕДИЦИНСКОЙ ОРГАНИЗАЦИИ </a:t>
            </a:r>
            <a:br>
              <a:rPr sz="2800"/>
            </a:br>
            <a:r>
              <a:rPr b="1" i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за  2016 год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ськов Ю.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ГБУ «ЦНИИОИЗ» Минздрава России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.Москва                                                                                                14 декабря 2016 г</a:t>
            </a:r>
            <a:r>
              <a:rPr b="1" lang="ru-RU" sz="1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484280" y="757080"/>
          <a:ext cx="10472760" cy="5905800"/>
        </p:xfrm>
        <a:graphic>
          <a:graphicData uri="http://schemas.openxmlformats.org/drawingml/2006/table">
            <a:tbl>
              <a:tblPr/>
              <a:tblGrid>
                <a:gridCol w="3060720"/>
                <a:gridCol w="581040"/>
                <a:gridCol w="779400"/>
                <a:gridCol w="677880"/>
                <a:gridCol w="677880"/>
                <a:gridCol w="754200"/>
                <a:gridCol w="920520"/>
                <a:gridCol w="922320"/>
                <a:gridCol w="719280"/>
                <a:gridCol w="619200"/>
                <a:gridCol w="76032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37800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432080" y="1467000"/>
          <a:ext cx="10523520" cy="4209840"/>
        </p:xfrm>
        <a:graphic>
          <a:graphicData uri="http://schemas.openxmlformats.org/drawingml/2006/table">
            <a:tbl>
              <a:tblPr/>
              <a:tblGrid>
                <a:gridCol w="5891040"/>
                <a:gridCol w="990720"/>
                <a:gridCol w="1380960"/>
                <a:gridCol w="1131840"/>
                <a:gridCol w="1128960"/>
              </a:tblGrid>
              <a:tr h="185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Прямоугольник 6"/>
          <p:cNvSpPr/>
          <p:nvPr/>
        </p:nvSpPr>
        <p:spPr>
          <a:xfrm>
            <a:off x="1432080" y="5900760"/>
            <a:ext cx="10507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слуха   1 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4"/>
          <p:cNvSpPr/>
          <p:nvPr/>
        </p:nvSpPr>
        <p:spPr>
          <a:xfrm>
            <a:off x="1432080" y="1668600"/>
            <a:ext cx="10455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432080" y="2536920"/>
          <a:ext cx="10540800" cy="1706400"/>
        </p:xfrm>
        <a:graphic>
          <a:graphicData uri="http://schemas.openxmlformats.org/drawingml/2006/table">
            <a:tbl>
              <a:tblPr/>
              <a:tblGrid>
                <a:gridCol w="5510160"/>
                <a:gridCol w="503064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3"/>
          <p:cNvSpPr/>
          <p:nvPr/>
        </p:nvSpPr>
        <p:spPr>
          <a:xfrm>
            <a:off x="1432080" y="3816360"/>
            <a:ext cx="10523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-755640"/>
            <a:ext cx="12192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Таблица 2" descr=""/>
          <p:cNvPicPr/>
          <p:nvPr/>
        </p:nvPicPr>
        <p:blipFill>
          <a:blip r:embed="rId1"/>
          <a:stretch/>
        </p:blipFill>
        <p:spPr>
          <a:xfrm>
            <a:off x="1427040" y="1481040"/>
            <a:ext cx="10599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0" y="-268920"/>
            <a:ext cx="12192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Таблица 2" descr=""/>
          <p:cNvPicPr/>
          <p:nvPr/>
        </p:nvPicPr>
        <p:blipFill>
          <a:blip r:embed="rId1"/>
          <a:stretch/>
        </p:blipFill>
        <p:spPr>
          <a:xfrm>
            <a:off x="1407960" y="890640"/>
            <a:ext cx="10638000" cy="43639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6640" y="5210280"/>
            <a:ext cx="1050588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выявлено при диспансеризации определенных групп взрослого населения (гр. 12) – следует читать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выявлено при диспансеризации</a:t>
            </a:r>
            <a:br>
              <a:rPr sz="2200"/>
            </a:br>
            <a:r>
              <a:rPr b="0" lang="ru-RU" sz="1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из заболеваний с впервые в жизни установленным диагнозом (из гр. 10) юноши (гр. 13) –следует читать </a:t>
            </a:r>
            <a:r>
              <a:rPr b="0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заболеваний с впервые в жизни установленным диагнозом (из гр. 9) юноши </a:t>
            </a:r>
            <a:br>
              <a:rPr sz="2200"/>
            </a:br>
            <a:br>
              <a:rPr sz="1300"/>
            </a:br>
            <a:br>
              <a:rPr sz="13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32080" y="2027160"/>
            <a:ext cx="10507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Число физических лиц зарегистрированных пациентов – всего  1 _______________, из них с диагнозом, установл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первые в жизни  2 _________________ ,   состоит под диспансерным наблюдением на конец отче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да (из стр.1.0, гр. 15)  3 _____________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ередано под наблюдение во взрослую поликлинику  4 __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89480"/>
                <a:tab algn="l" pos="54687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449280" y="-357480"/>
            <a:ext cx="11742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4. Взрослые 18 лет 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3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467000" y="1467000"/>
          <a:ext cx="10507680" cy="4192560"/>
        </p:xfrm>
        <a:graphic>
          <a:graphicData uri="http://schemas.openxmlformats.org/drawingml/2006/table">
            <a:tbl>
              <a:tblPr/>
              <a:tblGrid>
                <a:gridCol w="3136680"/>
                <a:gridCol w="620640"/>
                <a:gridCol w="900360"/>
                <a:gridCol w="699840"/>
                <a:gridCol w="803520"/>
                <a:gridCol w="699840"/>
                <a:gridCol w="700200"/>
                <a:gridCol w="803160"/>
                <a:gridCol w="803520"/>
                <a:gridCol w="600120"/>
                <a:gridCol w="739800"/>
              </a:tblGrid>
              <a:tr h="2300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 при 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708120" y="1158120"/>
            <a:ext cx="1109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4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32080" y="2001960"/>
          <a:ext cx="10523520" cy="3830400"/>
        </p:xfrm>
        <a:graphic>
          <a:graphicData uri="http://schemas.openxmlformats.org/drawingml/2006/table">
            <a:tbl>
              <a:tblPr/>
              <a:tblGrid>
                <a:gridCol w="3141360"/>
                <a:gridCol w="623880"/>
                <a:gridCol w="900360"/>
                <a:gridCol w="699840"/>
                <a:gridCol w="806760"/>
                <a:gridCol w="699840"/>
                <a:gridCol w="700200"/>
                <a:gridCol w="806400"/>
                <a:gridCol w="804960"/>
                <a:gridCol w="600120"/>
                <a:gridCol w="739800"/>
              </a:tblGrid>
              <a:tr h="2109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84280" y="1268280"/>
            <a:ext cx="1028232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000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исло студентов, подлежавших диспансеризации в отчетном году  1 _________,   число студентов, прошедших диспансеризацию в отчетном году  2 __________, выявлено у них заболеваний с диагнозом, установленным впервые в жизни – всего  3 _________, из них: взято под диспансерное наблюдение  4 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5100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илактические медицинские осмотры обучающихся в общеобразовательных организациях и профессиональных образовательных организациях, а также образовательных организациях высшего образования в целях раннего выявления незаконного потребления наркотических средств и психотропных веществ: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лежало осмотру  1 _____________,  осмотрено 2 ___________ .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79120" y="6445440"/>
            <a:ext cx="10209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320e04"/>
              </a:solidFill>
              <a:latin typeface="Corbe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0" y="4320"/>
            <a:ext cx="121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6. Диспансеризация студентов выс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б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2215800"/>
            <a:ext cx="10351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в таблицах сопоставимы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909440" y="1544400"/>
            <a:ext cx="9875880" cy="29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Заболеваемость - важнейший показатель состояния обществен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ного здоровья, характеризующий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распространенность, струк-</a:t>
            </a:r>
            <a:br>
              <a:rPr sz="28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туру и динамику зарегистрированных врачами болезней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среди населения в целом или в отдельных его группах (возрас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тных, половых, территориальных, профессиональных и др.) и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</a:rPr>
              <a:t>служащий одним из критериев оценки работы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 врача, меди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</a:rPr>
              <a:t>цинской организации, органа здравоохране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1720" y="691920"/>
            <a:ext cx="104727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тчет представляется в 2 разрезах: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0 – о заболеваниях всего населения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субъекта РФ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01 – о заболеваниях сельского  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населения субъекта РФ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8400" y="4508280"/>
            <a:ext cx="105058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рещенные графоклетки не заполняютс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Городское население</a:t>
            </a:r>
            <a:br>
              <a:rPr sz="3600"/>
            </a:br>
            <a:r>
              <a:rPr b="0" lang="ru-RU" sz="3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Сельское население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1720" y="274680"/>
            <a:ext cx="101502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оответствии с Указаниями по заполнению формы федерального статистического наблюдения №12</a:t>
            </a:r>
            <a:br>
              <a:rPr sz="4300"/>
            </a:br>
            <a:r>
              <a:rPr b="0" lang="ru-RU" sz="4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таблицы формы заполняются по всем строкам и графам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6021000"/>
            <a:ext cx="109728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97160" y="274320"/>
            <a:ext cx="101851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rbel"/>
              </a:rPr>
              <a:t>ИСКЛЮЧЕНИЕ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480" y="5805000"/>
            <a:ext cx="109728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97160" y="691920"/>
            <a:ext cx="10199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е:</a:t>
            </a:r>
            <a:br>
              <a:rPr sz="43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0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яется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физическим лицам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ы 4 и 9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5877000"/>
            <a:ext cx="10972800" cy="2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346040" y="1052280"/>
            <a:ext cx="10236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2203"/>
                </a:solidFill>
                <a:latin typeface="Corbel"/>
              </a:rPr>
              <a:t>ЗАПОЛНЕНИЕ ФОРМ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66640" y="360360"/>
            <a:ext cx="103186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Форма федерального статистического наблюдения № 12 «Сведения о числе заболеваний, зарегистрированных у пациентов, проживающих в районе обслуживания медицинской организации», составляется всеми медицинскими организациями, входящие в номенклатуру медицинских организаций, оказывающие медицинскую помощь в амбулаторных условиях (приказ Минздрава России от 6 августа 2013 г. № 529н «Об утверждении номенклатуры медицинских организаций», зарегистрирован Министерством юстиции Российской Федерации 13.09.2013 № 29950), в соответствии с приказом от 21 июля 2016 года № 355 «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охраны здоровья» Федеральной службы государственной статистики. </a:t>
            </a:r>
            <a:br>
              <a:rPr sz="2200"/>
            </a:br>
            <a:br>
              <a:rPr sz="2200"/>
            </a:br>
            <a:br>
              <a:rPr sz="2500"/>
            </a:br>
            <a:r>
              <a:rPr b="0" lang="ru-RU" sz="25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br>
              <a:rPr sz="11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96400" y="5552640"/>
            <a:ext cx="103698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14080" y="274320"/>
            <a:ext cx="1054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ЕМСТВЕННОСТЬ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22520" y="274680"/>
            <a:ext cx="10247040" cy="58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ещение - это контакт пациента с врачом амбулаторно-поликлинического учреждения (подразделения) или стационара (без последующей госпитализации) по любому поводу с последующей записью в "Медицинской карте амбулаторного больного", включающей жалобы, анамнез, объективные данные, диагнозы с кодированием  их по МКБ-10, группу здоровья, данные обследования и динамического наблюдения, назначенное лечение, рекомендации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6948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и ведущая только консультативный прием (в основном областные учреждения), составляет форму 12 по соответствующим строкам лишь в том случае, если в данной организации у пациентов не только выявляются эти заболевания, но и осуществляется их лечение, а также и диспансерное наблюдение за пациентами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В остальных случаях они обязаны всю информацию о больном передать в медицинскую организацию по месту жительств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 flipV="1">
            <a:off x="8504280" y="3610800"/>
            <a:ext cx="1309680" cy="320760"/>
          </a:xfrm>
          <a:prstGeom prst="rect">
            <a:avLst/>
          </a:prstGeom>
          <a:solidFill>
            <a:srgbClr val="f2f2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40160" y="25884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ДЕРАЛЬНОЕ СТАТИСТИЧЕСКОЕ НАБЛЮД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540160" y="533520"/>
          <a:ext cx="7111800" cy="24444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24444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НФИДЕНЦИАЛЬНОСТЬ ГАРАНТИРУЕТСЯ ПОЛУЧАТЕЛЕМ ИНФОРМ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381400" y="884160"/>
          <a:ext cx="7540560" cy="838440"/>
        </p:xfrm>
        <a:graphic>
          <a:graphicData uri="http://schemas.openxmlformats.org/drawingml/2006/table">
            <a:tbl>
              <a:tblPr/>
              <a:tblGrid>
                <a:gridCol w="7540560"/>
              </a:tblGrid>
              <a:tr h="8384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е порядка представления статистической информации, а равно представление недостоверной статистической информации влечет ответственность, установленную статьей 13.19 Кодекса Российской Федерации об административных правонарушениях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30.12.2001 № 195-ФЗ, а также статьей 3 Закона Российской Федерации от 13.05.1992 № 2761-1 “Об ответственности за нарушение порядка представления государственной статистической отчетности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540160" y="1722600"/>
          <a:ext cx="7111800" cy="198360"/>
        </p:xfrm>
        <a:graphic>
          <a:graphicData uri="http://schemas.openxmlformats.org/drawingml/2006/table">
            <a:tbl>
              <a:tblPr/>
              <a:tblGrid>
                <a:gridCol w="7111800"/>
              </a:tblGrid>
              <a:tr h="19836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ОЗМОЖНО ПРЕДОСТАВЛЕНИЕ В ЭЛЕКТРОННОМ ВИ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2031840" y="2027160"/>
          <a:ext cx="8128080" cy="487440"/>
        </p:xfrm>
        <a:graphic>
          <a:graphicData uri="http://schemas.openxmlformats.org/drawingml/2006/table">
            <a:tbl>
              <a:tblPr/>
              <a:tblGrid>
                <a:gridCol w="1528920"/>
                <a:gridCol w="5308560"/>
                <a:gridCol w="1290600"/>
              </a:tblGrid>
              <a:tr h="48744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ВЕДЕНИЯ О ЧИСЛЕ ЗАБОЛЕВАНИЙ, ЗАРЕГИСТРИРОВАННЫХ У ПАЦИЕНТОВ, ПРОЖИВАЮЩИХ В РАЙОНЕ ОБСЛУЖИВАНИЯ МЕДИЦИНСКОЙ ОРГАНИЗАЦИИ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  20___  г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03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016000" y="2590920"/>
          <a:ext cx="8128080" cy="2193840"/>
        </p:xfrm>
        <a:graphic>
          <a:graphicData uri="http://schemas.openxmlformats.org/drawingml/2006/table">
            <a:tbl>
              <a:tblPr/>
              <a:tblGrid>
                <a:gridCol w="4339440"/>
                <a:gridCol w="1736280"/>
                <a:gridCol w="115200"/>
                <a:gridCol w="1937160"/>
              </a:tblGrid>
              <a:tr h="1411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едоставляют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роки предостав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а № 1</a:t>
                      </a:r>
                      <a:r>
                        <a:rPr b="1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юридические лица - медицинские организации, оказывающие медицинскую помощь в амбулаторных условиях и медицинские организации, имеющие подразделения, оказывающие медицинскую помощь в амбулаторных условия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местного самоуправления, осуществляющему полномочия  в сфере охраны здоров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местного самоуправления, осуществляющие полномочия 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органу исполнительной власти субъекта Российской Федерации, осуществляющему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лномочия  в сфере охраны здоровь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рганы исполнительной власти субъекта Российской Федерации, осуществляющие полномочия в сфере охраны здоровь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Министерству здравоохранения Российской Фед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- территориальному органу Росстата в субъекте Российской Федерации по установленному им адрес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0 янв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20 февра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о 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5 мар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риказ Росстата: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б утверждении формы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21.07.2016 № 3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 внесении изменений (при наличи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  __________ № 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Годов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986120" y="4846680"/>
          <a:ext cx="9039240" cy="1814400"/>
        </p:xfrm>
        <a:graphic>
          <a:graphicData uri="http://schemas.openxmlformats.org/drawingml/2006/table">
            <a:tbl>
              <a:tblPr/>
              <a:tblGrid>
                <a:gridCol w="974520"/>
                <a:gridCol w="2687760"/>
                <a:gridCol w="2687400"/>
                <a:gridCol w="2689560"/>
              </a:tblGrid>
              <a:tr h="21600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отчитывающейся организации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4"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чтовый адрес</a:t>
                      </a: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 _________________________________________________________________________________________________________________________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ормы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У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тчитывающейся организац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ОК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60934</a:t>
                      </a:r>
                      <a:r>
                        <a:rPr b="0" lang="en-US" sz="9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66640" y="414360"/>
            <a:ext cx="1042020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ного эпикриза". При этом если пациент пришел на прием, то в Талоне производится отметка о регистрации всех заболеваний для включения этих сведений в форму федерального статистического наблюдения № 12 и вносится отметка о посещении. Если пациент на прием не пришел, то в Талоне регистрируются все заболевания без отметки о посещении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В Талоне также должно быть зарегистрировано обращение по поводу заболевания, включающее в себя одно или несколько посещений, в результате которых цель обращения достигнута.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и заполнении Талона врач также делает отметки о дате впервые выявленного основного и сопутствующих заболеваний, взятии и снятии с диспансерного учета. Эта данные необходимы для заполнения формы федерального статистического наблюдения № 12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исьма Министерства здравоохранения Российской Федерации: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26 апреля 2011 г. № 14-9/10/2-4150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т 14 марта 2013 г. № 13-7/10/2-1691 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азания по заполнению формы 12 за 1991 год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4480" y="914040"/>
            <a:ext cx="99964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о отдельным узким специальностям – включаются сведения о всех случаях зарегистрированных заболеваний у больных и обо всех больных, состоящих под диспансерным наблюдением, проживающих не только на территории, закрепленной для обслуживания за данной медицинской организацией в целом, но и на территории, закрепленной за отдельными специалистами, которая может быть шире и охватывать территорию обслуживания других поликлиник, если они не имеют в своих штатах соответствующих специалистов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84280" y="274320"/>
            <a:ext cx="1038528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форму не включают сведения о заболеваниях с кодами по МКБ-10, отмеченных  звездочкой (*)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Форму включают один раз в год сведения об основном, фоновом, конкурирующем и сопутствующем заболеваниях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ведения об осложнениях основного и других заболеваний в Форму не включают</a:t>
            </a:r>
            <a:br>
              <a:rPr sz="2800"/>
            </a:br>
            <a:br>
              <a:rPr sz="40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ри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 хронические заболевания, а не их острые формы</a:t>
            </a:r>
            <a:br>
              <a:rPr sz="40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34680" y="1197000"/>
            <a:ext cx="10317240" cy="32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ациенты, имеющие два и более заболевания, показываются по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соответствующим строкам по числу выявленных и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зарегистрированных заболеваний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828440" y="6065280"/>
            <a:ext cx="85345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orbel"/>
              </a:rPr>
              <a:t>     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4b2203"/>
                </a:solidFill>
                <a:latin typeface="Corbel"/>
              </a:rPr>
              <a:t>Ф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орма 12 должна совпадать со специализированными формами по количеству зарегистрированных заболеваний. Движение диспансерных групп в данных формах совпадает с движением диспансерных групп в форме 12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1720" y="620640"/>
            <a:ext cx="10334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году (+ и -)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при этом графа 4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br>
              <a:rPr sz="28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098000" cy="59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0 - взято под диспансерное наблюдение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 течение года (+) , из графы 9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1 – выявлено при профосмотре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2 – выявлено  при  диспансеризации определенных групп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взрослого населения, из графы 9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аблице 2000 - выявлено  при  диспансеризации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4 – снято с диспансерного наблюдения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а 15 – состоит под диспансерным наблюдением на конец     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отчетного года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 графы 7,13,16 - в таблице 2000 – все данные о юношах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01920" y="845640"/>
            <a:ext cx="1045368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. «Болезни системы кровообращения» 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9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9000" y="810720"/>
            <a:ext cx="10455480" cy="60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Продолжительность стенокардии в МКБ-10 не определена, поэтому стенокардия (таблицы 2000, 3000 и 4000, строка 10.4.1) регистрируется как самостоятельное заболевание, впервые выявленное – первый раз в жизни, а затем – один раз в год со знаком (–).  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br>
              <a:rPr sz="2800"/>
            </a:br>
            <a:br>
              <a:rPr sz="2800"/>
            </a:b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1600"/>
            </a:b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828440" y="6524280"/>
            <a:ext cx="8534520" cy="73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1720" y="441360"/>
            <a:ext cx="101502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делы формы №1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 Дети (0-14 лет включительно) – таблица 1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Дети первого года жизни – таблица 15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Дети  (15-17 лет включительно) – таблица 2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Взрослые 18 лет  и старше - таблица 3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4000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учреждений </a:t>
            </a:r>
            <a:br>
              <a:rPr sz="1600"/>
            </a:b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67000" y="836280"/>
            <a:ext cx="101152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Corbel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, повторными инфарктами миокарда и острыми нарушениями мозгового кровообращения наблюдаются в течение 28-30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87240" y="549360"/>
            <a:ext cx="988524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9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В строке 10.6.7 заполняются графы 4, 9 и они равны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00240" y="1052280"/>
            <a:ext cx="9983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0. «Болезни органов дыхания</a:t>
            </a:r>
            <a:r>
              <a:rPr b="1" lang="ru-RU" sz="32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 таблице 1500 показываются дети которые заболели пневмонией во второй половине  первого года жизн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17760" y="1501560"/>
            <a:ext cx="10316880" cy="39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вторно возникающие в течение года острые пневмонии, острая ревматическая лихорадка, острые и повторные инфаркты миокарда, острые нарушения мозгового кровообращения регистрируются как острые (со знаком  +).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По этим строкам графы 4 и 9 таблиц 1000, 2000, 3000 и 4000 равны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828440" y="620892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52320" y="896400"/>
            <a:ext cx="104202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 «Отдельные состояния, возникающие в перинатальном периоде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-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ают только тех детей, у которых эти состояния развились в декабре месяце. </a:t>
            </a:r>
            <a:br>
              <a:rPr sz="2800"/>
            </a:br>
            <a:br>
              <a:rPr sz="2200"/>
            </a:br>
            <a:br>
              <a:rPr sz="21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569600" y="5865840"/>
            <a:ext cx="1016172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2920" y="654120"/>
            <a:ext cx="10099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7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а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517400" y="1196640"/>
            <a:ext cx="10434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Класс 18. «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остояния из 18 класса (стр. 19.0), как правило, не должны регистрироваться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78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остояния, входящие в стр. 19.0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класс МКБ-10), как правило, не должны регистрироваться (могут быть единичные случаи, когда не было возможности установить диагноз заболевания), и на учет не берутся»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о поводу бессимптомного инфекционного статуса, вызванного ВИЧ, кодируется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21, а н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, и включае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бенок, рожденный от ВИЧ-инфицированной матери подлежит обследованию. Если тест положительный, ребенок обследован и заболевание установлено, код В20 – В24. Если ребенок обследован и требуется наблюдение и дальнейшее обследование (неоконченный тест на ВИЧ), показывается ребенок в таб.1100 по Z-классу.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Наблюдение при подозрениях на какое-либо заболевание кодируется рубрикой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: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туберкулез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0;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- на ВИЧ-инфекцию, сахарный диабет –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03.8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Эти состояния включаются в таблицы 1100, 2100, 3100 и 4100, а не в строку 19.0!</a:t>
            </a: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Результаты проведенных анализов, исследований, проб и т.д. (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3,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75 и т.д.)  кодируются в классе </a:t>
            </a:r>
            <a:r>
              <a:rPr b="0" lang="en-US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, в строку 19.0 не включаются и на учет не берутс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83920" y="811080"/>
            <a:ext cx="104886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Графа 4 и 9 могут быть не равны, в случае наличия вибрационной болезни, терапевтически и хирургических последствий и травм лечение, которых превышает года.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ледствия травм относятся к 19 классу и кодируютс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ами Т90-Т98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828440" y="5298120"/>
            <a:ext cx="853452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6640" y="1017360"/>
            <a:ext cx="991044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которые острые заболевания и состояния (острый отит, острый миокардит, острые респираторные инфекции верхних и нижних дыхательных путей, грипп, а также травмы, за исключением последствий и др.) регистрируются столько раз, сколько они возникают в течение отчетного года. При этом графа 4 должна быть равна графе 9 по соответствующим строкам таблиц 1000, 2000, 3000 и 4000. Это не относится к тем заболеваниям, при которых острые формы могут переходить в хронические. При обострении хронических заболеваний регистрируют эти хронические заболевания, а не их острые формы.</a:t>
            </a:r>
            <a:br>
              <a:rPr sz="2200"/>
            </a:b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828440" y="6246000"/>
            <a:ext cx="85345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9440" y="360000"/>
            <a:ext cx="9875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ЗМЕНЕНИЯ В ФОРМ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564920" y="2069640"/>
            <a:ext cx="9448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-40680"/>
            <a:ext cx="10972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87160" y="1197000"/>
            <a:ext cx="8545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4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6 декабря 2012 г. № 1011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0 ноября 2009 г. № 9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2 июля 2013 г. № 45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1 апреля 2013 г. № 21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марта 2011 г. № 163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15 февраля 2013 г. № 72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1 января 2012 г. № 70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4 февраля 2010 г. № 55н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3 февраля 2015 г. № 36а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ИКАЗ от 21 декабря 2012 г. № 1346н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500, 1600, 1650 заполняются с 01 января 2015 года по 31 декабря 2016 года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ети, которым исполнился год, начиная с 01 января 2016 года - они входят в отчет данный отчет, соответственно все заболевания, которые были зарегистрированы с 01 января 2015 года)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700, 1800, 1900 заполняются с 01 января по 31 декабря 2016 года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535040" y="757080"/>
          <a:ext cx="10153800" cy="5916600"/>
        </p:xfrm>
        <a:graphic>
          <a:graphicData uri="http://schemas.openxmlformats.org/drawingml/2006/table">
            <a:tbl>
              <a:tblPr/>
              <a:tblGrid>
                <a:gridCol w="2968560"/>
                <a:gridCol w="561960"/>
                <a:gridCol w="755640"/>
                <a:gridCol w="657360"/>
                <a:gridCol w="657360"/>
                <a:gridCol w="731880"/>
                <a:gridCol w="892080"/>
                <a:gridCol w="893880"/>
                <a:gridCol w="698400"/>
                <a:gridCol w="598320"/>
                <a:gridCol w="738360"/>
              </a:tblGrid>
              <a:tr h="182880"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о 1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агно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испансер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ыявле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17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32400" rIns="3240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P05-P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рубри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marL="856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Прямоугольник 2"/>
          <p:cNvSpPr/>
          <p:nvPr/>
        </p:nvSpPr>
        <p:spPr>
          <a:xfrm>
            <a:off x="690480" y="217440"/>
            <a:ext cx="1097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. Дети первого год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50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17400" y="274680"/>
            <a:ext cx="103345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а 1500 заполняется на детей, которым в 2016 году исполнился год. Соответственно данная таблица заполняется с 01 января 2015 года по 31 декабря 2016 года. Медицинская орган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ция включает в таблицу 1500 информацию о заболеваниях заре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истрированных  у детей, которым 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мент проживания на дан-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й территории исполнился год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4 равна графе 9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84280" y="274680"/>
            <a:ext cx="104378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графе 5 таблицы 1500 представляется информация о заболеваниях детей первого месяца жизни из графы 4 (заболевания детей первого года жизни - всего)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4 представляется информация о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ыздоровевших и умерших.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ехавшие дети не учитываются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В графе 15 представляется информация о детях состоящих под диспансерном  наблюдением по заболеванию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170280"/>
            <a:ext cx="1219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Дети первого года жизн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Факторы, влияющие на состояние здоровья населения и обращения в 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01920" y="1233360"/>
          <a:ext cx="10437840" cy="3942000"/>
        </p:xfrm>
        <a:graphic>
          <a:graphicData uri="http://schemas.openxmlformats.org/drawingml/2006/table">
            <a:tbl>
              <a:tblPr/>
              <a:tblGrid>
                <a:gridCol w="5843520"/>
                <a:gridCol w="982440"/>
                <a:gridCol w="1368720"/>
                <a:gridCol w="1122120"/>
                <a:gridCol w="112104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повто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для медицинского осмотра и об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00-Z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инфекционными болезн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20-Z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бращения в медицинские организации в связи с необходимостью проведения специфических процедур и получения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40-Z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мощь, включающая исполь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реабилитацион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1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с социально-экономическими и психосоциальными обстоя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55-Z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потенциальная опасность для здоровья, связанная  с личным или семейным анамнезом и определенными обстоятельствами, влияющими на здоров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заболевания в семейном анамне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80-Z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глухота и потеря сл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1.7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2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8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Прямоугольник 6"/>
          <p:cNvSpPr/>
          <p:nvPr/>
        </p:nvSpPr>
        <p:spPr>
          <a:xfrm>
            <a:off x="1484280" y="5472000"/>
            <a:ext cx="104378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6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Из стр. 1.7.1.1. таблицы 1600: обследовано на выявление кондуктивной и нейросенсорной поте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слуха   1 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4"/>
          <p:cNvSpPr/>
          <p:nvPr/>
        </p:nvSpPr>
        <p:spPr>
          <a:xfrm>
            <a:off x="1517760" y="1668600"/>
            <a:ext cx="101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Arial"/>
              </a:rPr>
              <a:t>(17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611617"/>
                </a:solidFill>
                <a:latin typeface="Arial"/>
              </a:rPr>
              <a:t>Число новорожденных, поступивших под наблюдение данной организации   – всего  1  _________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01920" y="2536920"/>
          <a:ext cx="10690200" cy="1706400"/>
        </p:xfrm>
        <a:graphic>
          <a:graphicData uri="http://schemas.openxmlformats.org/drawingml/2006/table">
            <a:tbl>
              <a:tblPr/>
              <a:tblGrid>
                <a:gridCol w="5141880"/>
                <a:gridCol w="5548320"/>
              </a:tblGrid>
              <a:tr h="73188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(18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Осмотрено новорожденных на 1 этапе аудиологического скрининга  1 _________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2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числа выявленных с нарушением слуха на I этапе аудиологического скрининга обследовано на 2 этапе аудиологического скрининга  3 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11617"/>
                          </a:solidFill>
                          <a:latin typeface="Times New Roman"/>
                          <a:ea typeface="Times New Roman"/>
                        </a:rPr>
                        <a:t>из них: выявлено с нарушениями слуха  4 ___________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Rectangle 3"/>
          <p:cNvSpPr/>
          <p:nvPr/>
        </p:nvSpPr>
        <p:spPr>
          <a:xfrm>
            <a:off x="1517760" y="4070880"/>
            <a:ext cx="10231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(19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Из числа новорожденных поступивших под наблюдение (табл. 1700)  обследовано на: фенилкетонурию   5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рожденный гипотиреоз  6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адреногенитальный синдром   7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_ 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галактоземию   8  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____________  ,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муковисцидоз   9</a:t>
            </a:r>
            <a:r>
              <a:rPr b="0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___________ .</a:t>
            </a:r>
            <a:r>
              <a:rPr b="0" lang="en-US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017880"/>
                <a:tab algn="r" pos="4006800"/>
                <a:tab algn="l" pos="5178600"/>
                <a:tab algn="l" pos="6167520"/>
                <a:tab algn="l" pos="7337520"/>
                <a:tab algn="l" pos="832788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4680" y="1052280"/>
            <a:ext cx="103698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БЛИЦЫ 1100,  1600, 2100, 3100,410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Источником информации для заполнения таблиц 1100,  1600, 2100, 3100 и 4100 служит «Талон пациента, получающего медици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скую помощь в амбулаторных условиях»(учетная форма 025-1/у)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828440" y="5225400"/>
            <a:ext cx="853452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0"/>
          <p:cNvSpPr/>
          <p:nvPr/>
        </p:nvSpPr>
        <p:spPr>
          <a:xfrm>
            <a:off x="1517760" y="907920"/>
            <a:ext cx="1042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ТАЛОН ПАЦИЕНТА, ПОЛУЧАЮЩЕГО МЕДИЦИНСКУЮ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АМБУЛАТОРНЫХ УСЛОВИЯХ, № 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1. Посещения: по заболеваниям (коды А00-Т98) - 1, из них: в неотложной форме - 1.1;  активное посещение - 1.2; диспансерное наблюдение-1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: медицинский осмотр - 2.1;  диспансеризация - 2.2; комплексный медицинский осмотр - 2.3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аллиативная медицинская помощь - 2.4;  патронаж - 2.5; другие обстоятельства - 2.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2. Обращение (цель): по заболеванию (коды А00-Т98) – 1, с профилактической целью (коды 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00-</a:t>
            </a:r>
            <a:r>
              <a:rPr b="0" lang="en-US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Z</a:t>
            </a: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99) –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3. Обращение (законченный случай лечения): да – 1; нет – 2   24. Обращение: первичное – 1, повторное – 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25. Результат обращения: выздоровление – 1, без изменения – 2, улучшение – 3, ухудшение – 4, летальный исход – 5, дано на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госпитализацию – 6, из них: по  экстренным показаниям – 7, в дневной стационар – 8, на обследование – 9, на консультацию – 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 санаторно-курортное лечение – 1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432080" y="1447920"/>
          <a:ext cx="10540800" cy="4389480"/>
        </p:xfrm>
        <a:graphic>
          <a:graphicData uri="http://schemas.openxmlformats.org/drawingml/2006/table">
            <a:tbl>
              <a:tblPr/>
              <a:tblGrid>
                <a:gridCol w="2844720"/>
                <a:gridCol w="695160"/>
                <a:gridCol w="895320"/>
                <a:gridCol w="595440"/>
                <a:gridCol w="598320"/>
                <a:gridCol w="695520"/>
                <a:gridCol w="696960"/>
                <a:gridCol w="696960"/>
                <a:gridCol w="695160"/>
                <a:gridCol w="684360"/>
                <a:gridCol w="645840"/>
                <a:gridCol w="797040"/>
              </a:tblGrid>
              <a:tr h="25056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59400" rIns="5940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1"/>
          <p:cNvSpPr/>
          <p:nvPr/>
        </p:nvSpPr>
        <p:spPr>
          <a:xfrm flipV="1" rot="10800000">
            <a:off x="-360" y="567000"/>
            <a:ext cx="1219212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Дети (0-14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4b2203"/>
              </a:buClr>
              <a:buFont typeface="Times New Roman"/>
              <a:buAutoNum type="arabicPeriod"/>
              <a:tabLst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(1000) </a:t>
            </a:r>
            <a:r>
              <a:rPr b="1" lang="ru-RU" sz="1200" spc="-1" strike="noStrike">
                <a:solidFill>
                  <a:srgbClr val="4b2203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b2203"/>
                </a:solidFill>
                <a:latin typeface="Arial"/>
                <a:ea typeface="Times New Roman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17400" y="475920"/>
            <a:ext cx="10007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ядок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полнения учетной формы 025-1/у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Талон пациента, получающего медицинскую помощь</a:t>
            </a:r>
            <a:br>
              <a:rPr sz="2000"/>
            </a:br>
            <a:r>
              <a:rPr b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амбулаторных условиях»</a:t>
            </a:r>
            <a:br>
              <a:rPr sz="18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552320" y="1915920"/>
            <a:ext cx="10402920" cy="4321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 23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. Обращение как законченный случай представляет собой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ервичной врачебной медико-санитарной помощи и первичной специализированной медико-санитарной помощи - это одно обращение и одно или несколько посещений пациента(ки), в результате которых цель обращения достигнута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- при паллиативной медицинской помощи - это одно обращение пациента(ки) и одно (разовое) посещение, при котором цель обращения достигнут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Если цель обращения достигнута не была, случай отмечают как не законченный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ункте 24</a:t>
            </a:r>
            <a:r>
              <a:rPr b="0" lang="ru-RU" sz="20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 отмечают первичное или повторное в текущем календарном году обращение пациента(ки) с одной и той же целью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22160" y="1915920"/>
            <a:ext cx="102121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язательно проводить внутриформенный, межформенный и межгодовой контроли. </a:t>
            </a:r>
            <a:br>
              <a:rPr sz="2900"/>
            </a:b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14120" y="274680"/>
            <a:ext cx="929340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ля проверки формы 12 по разрезам 00 и 01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окне  КОНТРОЛИ есть новое кнопка КОНТРОЛЬ ДЛЯ ФОРМ С РАЗРЕЗОМ 00-01, межформенный контроль по ф12 проводите через данное окно. Перед началом контро-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я в окне РАЗРЕЗ ФОРМЫ необходимо поставить разрез 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нутриформенный контроль таблицы 2000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с впервые в жизни …» (гр.9) – «из заболеваний … юноши» (гр.13) = «девушки впервые»</a:t>
            </a:r>
            <a:br>
              <a:rPr sz="2800"/>
            </a:b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Итого: «всего девушки» - «девушки впервые» - не должно быть отрицательных значений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87600" y="378000"/>
            <a:ext cx="1036800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жгодовой контроль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вижение диспансерной группы: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графа 13 таблиц 1000,2000,3000,4000 за 2015 год + графа 8 таблиц 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1000,2000,3000,4000 за 2016 год – графа 14 таблиц 1000,2000,3000,4000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за 2016 год = графе 15 таблиц 1000,2000,3000,4000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Таблица 1500  - диспансерная группа на начало года всегда имеет 0.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914480" y="2277720"/>
            <a:ext cx="87472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17200" y="274680"/>
            <a:ext cx="10193400" cy="60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 острым заболеваниям по которым динамическое наблюдение не устанавливается (ОРВИ и др.) графа взятия на Д-учет не заполняетс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Постинфарктный кардиосклероз» - диагноз устанавливается через четыре недели после острого инфаркта миокарда, на основании жалоб пациента, осмотра и дополнительного обследования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31600" y="274320"/>
            <a:ext cx="101790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кусы клеща  - Т14.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96520" y="274320"/>
            <a:ext cx="1069524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И 10.6.1 - 10.6.4 </a:t>
            </a:r>
            <a:br>
              <a:rPr sz="28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е нарушения мозгового кровообращения – всегда первичные (+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афа 4 равна графе 9. С данным диагнозом больные подлежат диспансерному наблюдению на протяжении 30 дней от момента начальных проявлений или более в пределах одного случая лечения. В дальнейшем диспансерное наблюдение осуществляется по последствиям инсульта — парезы, параличи, энцефалопатия, речевые нарушения и т.д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379520" y="822240"/>
          <a:ext cx="10490040" cy="5499360"/>
        </p:xfrm>
        <a:graphic>
          <a:graphicData uri="http://schemas.openxmlformats.org/drawingml/2006/table">
            <a:tbl>
              <a:tblPr/>
              <a:tblGrid>
                <a:gridCol w="2830680"/>
                <a:gridCol w="693720"/>
                <a:gridCol w="888840"/>
                <a:gridCol w="593640"/>
                <a:gridCol w="594000"/>
                <a:gridCol w="691920"/>
                <a:gridCol w="693720"/>
                <a:gridCol w="693720"/>
                <a:gridCol w="690840"/>
                <a:gridCol w="682560"/>
                <a:gridCol w="644400"/>
                <a:gridCol w="7920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адреногенитальные рас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ожир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фенилкетону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алакт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(галактозем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болезнь Го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7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рушения обмена гликозаминогликанов (мукополисахаридоз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Е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муковисц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E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35120" y="274680"/>
            <a:ext cx="10275840" cy="60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ребральный паралич (G80-G83) – используется, как основное заболевание и кодируется кодом последстви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ирование заболевания, если пациент умер, будет зависеть даты смерти от начала заболев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д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69 используется только в случае смерти больного.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735280" y="720720"/>
            <a:ext cx="6721560" cy="907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КОДИРОВАНИЕ ОСТ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ЦЕРЕБРОВАСКУЛЯРНЫХ БОЛЕЗ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Arial"/>
              </a:rPr>
              <a:t>И И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"/>
          <p:cNvSpPr/>
          <p:nvPr/>
        </p:nvSpPr>
        <p:spPr>
          <a:xfrm>
            <a:off x="2973240" y="1685880"/>
            <a:ext cx="4813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"/>
          <p:cNvSpPr/>
          <p:nvPr/>
        </p:nvSpPr>
        <p:spPr>
          <a:xfrm>
            <a:off x="1776240" y="2030400"/>
            <a:ext cx="288000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5"/>
          <p:cNvSpPr/>
          <p:nvPr/>
        </p:nvSpPr>
        <p:spPr>
          <a:xfrm>
            <a:off x="6095880" y="1857240"/>
            <a:ext cx="480960" cy="1211400"/>
          </a:xfrm>
          <a:prstGeom prst="downArrow">
            <a:avLst>
              <a:gd name="adj1" fmla="val 50000"/>
              <a:gd name="adj2" fmla="val 9978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8977320" y="168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7"/>
          <p:cNvSpPr/>
          <p:nvPr/>
        </p:nvSpPr>
        <p:spPr>
          <a:xfrm>
            <a:off x="8015400" y="2216160"/>
            <a:ext cx="2400120" cy="987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776240" y="2349360"/>
            <a:ext cx="28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ЦИЕНТЫ, НАХОДЯЩИЕСЯ ПОД НАБЛЮДЕНИЕМ И СЛУЧАИ ЛЕТАЛЬНОГО ИСХОДА В СРОКИ ДО 30 СУ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8015400" y="2478240"/>
            <a:ext cx="2400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ЛУЧАИ ЛЕТАЛЬНОГО ИСХОДА В СРОКИ 30 СУТ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>
            <a:off x="1776240" y="3189240"/>
            <a:ext cx="479520" cy="477720"/>
          </a:xfrm>
          <a:prstGeom prst="downArrow">
            <a:avLst>
              <a:gd name="adj1" fmla="val 50000"/>
              <a:gd name="adj2" fmla="val 3314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1"/>
          <p:cNvSpPr/>
          <p:nvPr/>
        </p:nvSpPr>
        <p:spPr>
          <a:xfrm>
            <a:off x="9936000" y="3125880"/>
            <a:ext cx="479520" cy="30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2"/>
          <p:cNvSpPr/>
          <p:nvPr/>
        </p:nvSpPr>
        <p:spPr>
          <a:xfrm>
            <a:off x="814320" y="3666960"/>
            <a:ext cx="240048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8977320" y="3429000"/>
            <a:ext cx="240012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9456840" y="3789360"/>
            <a:ext cx="143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8977320" y="3643200"/>
            <a:ext cx="24001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6"/>
          <p:cNvSpPr/>
          <p:nvPr/>
        </p:nvSpPr>
        <p:spPr>
          <a:xfrm>
            <a:off x="814320" y="3789360"/>
            <a:ext cx="2400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60-I6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ilecab2"/>
          <p:cNvSpPr/>
          <p:nvPr/>
        </p:nvSpPr>
        <p:spPr>
          <a:xfrm>
            <a:off x="4656240" y="3233880"/>
            <a:ext cx="3359160" cy="879480"/>
          </a:xfrm>
          <a:custGeom>
            <a:avLst/>
            <a:gdLst>
              <a:gd name="textAreaLeft" fmla="*/ 155880 w 3359160"/>
              <a:gd name="textAreaRight" fmla="*/ 3194640 w 3359160"/>
              <a:gd name="textAreaTop" fmla="*/ 20520 h 879480"/>
              <a:gd name="textAreaBottom" fmla="*/ 804960 h 879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4656240" y="3276720"/>
            <a:ext cx="335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 ПАЦИЕНТОВ, НАХОДЯЩИХСЯ ПОД НАБЛЮДЕНИЕМ С ПОСЛЕДСТВИЯМИ ОСТРЫХ ЦВБ В СРОКИ 30 СУТОК И 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9"/>
          <p:cNvSpPr/>
          <p:nvPr/>
        </p:nvSpPr>
        <p:spPr>
          <a:xfrm>
            <a:off x="6095880" y="4175280"/>
            <a:ext cx="480960" cy="333360"/>
          </a:xfrm>
          <a:prstGeom prst="downArrow">
            <a:avLst>
              <a:gd name="adj1" fmla="val 50000"/>
              <a:gd name="adj2" fmla="val 2742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0"/>
          <p:cNvSpPr/>
          <p:nvPr/>
        </p:nvSpPr>
        <p:spPr>
          <a:xfrm>
            <a:off x="4176720" y="4794120"/>
            <a:ext cx="4319640" cy="15145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4656240" y="4906800"/>
            <a:ext cx="3359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"/>
          <p:cNvSpPr/>
          <p:nvPr/>
        </p:nvSpPr>
        <p:spPr>
          <a:xfrm>
            <a:off x="4176720" y="495144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ДИРУЮТСЯ ОСТАТОЧНЫЕ СОМАТИЧЕСКИЕ СОСТОЯНИЯ  ОСТРЫХ ЦЕРЕБРОВАСКУЛЯРНЫХ БОЛЕЗ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атистика заболеваемости в амбулаторно-поликлинических учреждениях базируется на регистрации и кодировании всех болезней и других причин обращения за медицинской помощью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ет статистической информации о заболеваемости в амбулаторно-поликлинических</a:t>
            </a:r>
            <a:r>
              <a:rPr b="0" lang="en-US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учреждениях осуществляется для формирования государственной статистической отчетности учреждений здравоохранения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914120" y="1869840"/>
            <a:ext cx="4876920" cy="61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СОСТОЯНИЯ ПОДЛЕЖАЩИЕ КОДИРОВАНИЮ ПОСЛЕ ОКОНЧАНИЯ ОСТРОГО ПЕРИОД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(через 30 дней)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1. Параличи и парез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2. Изменения тонуса мышц      паретичных конечносте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3. Постинсультные трофически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4. Нарушение чувствительн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5. Центральный болевой синдром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6. Речев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7. Нарушения высших психических функций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203"/>
                </a:solidFill>
                <a:latin typeface="Corbel"/>
              </a:rPr>
              <a:t>8. Зрительные нарушени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33680" y="2050920"/>
            <a:ext cx="48769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ВОЗМОЖНЫЕ ВТОРИЧНЫЕ ОСЛОЖНЕНИ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Контрактуры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невмони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Пролеж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Деменция (слабоумие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Эпилепсия (судороги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orbel"/>
              </a:rPr>
              <a:t>Нарушение функции тазовых органов (задержка или недержание мочи, кала) и др.</a:t>
            </a:r>
            <a:r>
              <a:rPr b="0" lang="ru-RU" sz="2000" spc="-1" strike="noStrike">
                <a:solidFill>
                  <a:srgbClr val="6633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447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14480" y="415440"/>
            <a:ext cx="999648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2203"/>
                </a:solidFill>
                <a:latin typeface="Corbel"/>
              </a:rPr>
              <a:t>ПОСЛЕДСТВИЯ ИНФАРКТА МОЗГА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Двигательные нарушения, слабость или паралич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глота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реч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роблемы восприят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Когнитивны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я повед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Может появиться агрессия, замедленная реакция, пугливость, эмоциональная нестабильность, дезорганизация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Нарушение мочеиспускания и дефекации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Психологические нарушения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Эпилепсия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развивается у 7-20 % людей, перенесших инсульт. </a:t>
            </a:r>
            <a:br>
              <a:rPr sz="1600"/>
            </a:b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Болевой синдром.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550880" y="1125360"/>
          <a:ext cx="10404720" cy="5202360"/>
        </p:xfrm>
        <a:graphic>
          <a:graphicData uri="http://schemas.openxmlformats.org/drawingml/2006/table">
            <a:tbl>
              <a:tblPr/>
              <a:tblGrid>
                <a:gridCol w="10404720"/>
              </a:tblGrid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также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32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4b2203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7920" y="274680"/>
            <a:ext cx="103633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b2203"/>
                </a:solidFill>
                <a:latin typeface="Corbel"/>
              </a:rPr>
              <a:t>САМЫЕ РАСПРОСТРАНЕННЫЕ ПОСЛЕДСТВИЯ ВНУТРИМОЗГОВОГО КРОВОИЗЛИЯНИЯ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органов дыхан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трый, подострый бронхит –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онхит, не уточненный как острый или хронический :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детей до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0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у лиц старше 15 лет - </a:t>
            </a: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40</a:t>
            </a:r>
            <a:br>
              <a:rPr sz="2800"/>
            </a:br>
            <a:r>
              <a:rPr b="0" lang="en-US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J21-J22 - </a:t>
            </a: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пользуются для кодирования включенных в них состояний независимо от возраст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томатолог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аз от 30 мая 1986 г. № 770 "О порядке проведения всеобщей диспансеризации населения«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роки развит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олезни ротовой полости, включая гнойн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оский лишай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ножественный кариес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ый плоский лишай и др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еретинопатии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рока 5.9 – Рахит – строка проходит по таблицам 1000 и 1500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яжелые заболевания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дкие заболевания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регистры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крепленный участок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цент взятия на диспансерный уче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449360" y="966960"/>
          <a:ext cx="10523520" cy="5010120"/>
        </p:xfrm>
        <a:graphic>
          <a:graphicData uri="http://schemas.openxmlformats.org/drawingml/2006/table">
            <a:tbl>
              <a:tblPr/>
              <a:tblGrid>
                <a:gridCol w="2840040"/>
                <a:gridCol w="693720"/>
                <a:gridCol w="895320"/>
                <a:gridCol w="593640"/>
                <a:gridCol w="595440"/>
                <a:gridCol w="696960"/>
                <a:gridCol w="695160"/>
                <a:gridCol w="695520"/>
                <a:gridCol w="693720"/>
                <a:gridCol w="684360"/>
                <a:gridCol w="645840"/>
                <a:gridCol w="793800"/>
              </a:tblGrid>
              <a:tr h="210240"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(из гр. 9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0-4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воз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-9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установ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л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01, F03-F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, связанные с употреблением психоактивных веще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4b2203"/>
                          </a:solidFill>
                          <a:latin typeface="Times New Roman"/>
                          <a:ea typeface="Times New Roman"/>
                        </a:rPr>
                        <a:t>F10-F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59400" rIns="5940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етский аутизм, атипичный аутизм, синдром Ретта, дезинтегративное расстройство детского возрас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84.0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лагодарность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14480" y="0"/>
            <a:ext cx="9996480" cy="62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нтральный федеральный округ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елгород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Бря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ладими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роне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ван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уж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стром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ипец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лов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Рязанская область 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молен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амбо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вер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уль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рославская область       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сква </a:t>
            </a:r>
            <a:br>
              <a:rPr sz="2800"/>
            </a:b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Западный федеральный округ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рел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оми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рхангель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г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ли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Ленин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урм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горо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ск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нкт-Петербур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ж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дыге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алмыкия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Крым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да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страх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гоград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остовская область 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астополь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веро-Кавказ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Даге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Ингушетия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бардино-Балкар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рачаево-Черкес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еверная Осетия - Алан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чен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тавропольский край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14480" y="274680"/>
            <a:ext cx="99964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волж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ашкорто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арий Эл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Мордов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атарстан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дмурт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вашская Республик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рм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и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ижегород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Оренбург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ензен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марская область 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Сарат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льянов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раль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ург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вердл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юме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еляб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нты-Мансийский автономный округ — Югр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Ямало-Ненец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ибирски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Алт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Бурят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Тыва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Хакасия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лтай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байкаль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расноя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ркут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емеров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овосиби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м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омская область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 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альневосточный федеральный округ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еспублика Саха (Якутия)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амчат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имор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Хабаровский край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мур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агада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ахалинск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Еврейская автономная область       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Чукотский автономный округ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17760" y="690120"/>
            <a:ext cx="10369440" cy="65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Юрий Иванович</a:t>
            </a:r>
            <a:br>
              <a:rPr sz="4800"/>
            </a:br>
            <a:r>
              <a:rPr b="0" lang="ru-RU" sz="4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ьков</a:t>
            </a:r>
            <a:br>
              <a:rPr sz="3900"/>
            </a:br>
            <a:br>
              <a:rPr sz="39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 05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8-31-83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 06 февраля 2017 года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8-495-611-51-47</a:t>
            </a: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OskovYI@mail.ru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28440" y="5262480"/>
            <a:ext cx="85345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449360" y="2530440"/>
          <a:ext cx="10490400" cy="1020960"/>
        </p:xfrm>
        <a:graphic>
          <a:graphicData uri="http://schemas.openxmlformats.org/drawingml/2006/table">
            <a:tbl>
              <a:tblPr/>
              <a:tblGrid>
                <a:gridCol w="5675400"/>
                <a:gridCol w="4815000"/>
              </a:tblGrid>
              <a:tr h="10209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1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 (из стр. 1.0 гр. 15) детей  в возраст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-4 года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__________,       5-9 лет    2  _________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02880" y="731520"/>
            <a:ext cx="99982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b2203"/>
                </a:solidFill>
                <a:latin typeface="Times New Roman"/>
              </a:rPr>
              <a:t>Благодарю за внимание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9T08:18:36Z</dcterms:created>
  <dc:creator>Елена Д. Дмитриева</dc:creator>
  <dc:description/>
  <dc:language>en-US</dc:language>
  <cp:lastModifiedBy>u.oskov</cp:lastModifiedBy>
  <dcterms:modified xsi:type="dcterms:W3CDTF">2016-12-14T11:23:29Z</dcterms:modified>
  <cp:revision>140</cp:revision>
  <dc:subject/>
  <dc:title>Презентация PowerPoint</dc:title>
</cp:coreProperties>
</file>