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CF91-14CD-4AFB-A4C7-10143573ED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B80D-D018-469D-B4C5-1691942505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2B6A0-9303-4FE5-A9B2-EFAE5442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5289F-A30B-425D-AE54-36895902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171A5-49E1-4031-A7E3-428BA9F0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53766-AC14-44C0-B641-8DE7BA2D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12E2-FFF0-48C7-A62D-56396037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FD58-9C6C-4CD0-8F86-06D296F0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4715-BB79-40B4-9ACA-01D2BDD7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5823-8C18-48EE-97FB-85C971E9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7AAE-85F0-48AB-9015-1F7F1EB7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1F5D-D621-4C42-B2CE-5446D353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9431-87D5-4AD1-BA96-6393B8D3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7EC4B-D22C-409E-9567-F92163A1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D0FC-0403-43B7-AC44-993B5061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2C71-1EB9-4E9B-9A5B-A8FB6FDC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EC86-D89B-434B-B859-F781FF5B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81E6-6C13-476A-97BB-C333B827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6C76-B679-4ABD-A376-7F388904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253CE-709E-4709-A411-63A5AA2F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08A4C-2652-420D-BE8E-258F27F1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C1B4C-8BA5-4F60-894D-D990ACBC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17334-E1ED-4A73-9D4E-6F105CD3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AB9BF-EDDC-4BD9-B159-9E1D4F65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DE39-213A-40C4-93B3-5EBC49EA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0F64-5E67-445F-BE59-0B55B27B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BD46-37F0-4D19-911A-B69D04EFE88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C747-3AC0-404E-AC94-865B8DA42B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ocs.cntd.ru/document/925211098" TargetMode="External"/><Relationship Id="rId2" Type="http://schemas.openxmlformats.org/officeDocument/2006/relationships/hyperlink" Target="http://docs.cntd.ru/document/493592134" TargetMode="External"/><Relationship Id="rId3" Type="http://schemas.openxmlformats.org/officeDocument/2006/relationships/hyperlink" Target="http://docs.cntd.ru/document/493549233" TargetMode="External"/><Relationship Id="rId4" Type="http://schemas.openxmlformats.org/officeDocument/2006/relationships/hyperlink" Target="http://docs.cntd.ru/document/677081899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ocs.cntd.ru/document/493536804" TargetMode="External"/><Relationship Id="rId2" Type="http://schemas.openxmlformats.org/officeDocument/2006/relationships/hyperlink" Target="http://docs.cntd.ru/document/493536805" TargetMode="External"/><Relationship Id="rId3" Type="http://schemas.openxmlformats.org/officeDocument/2006/relationships/hyperlink" Target="http://docs.cntd.ru/document/493536806" TargetMode="External"/><Relationship Id="rId4" Type="http://schemas.openxmlformats.org/officeDocument/2006/relationships/hyperlink" Target="http://docs.cntd.ru/document/473976015" TargetMode="External"/><Relationship Id="rId5" Type="http://schemas.openxmlformats.org/officeDocument/2006/relationships/hyperlink" Target="http://docs.cntd.ru/document/493536807" TargetMode="External"/><Relationship Id="rId6" Type="http://schemas.openxmlformats.org/officeDocument/2006/relationships/hyperlink" Target="http://docs.cntd.ru/document/493536808" TargetMode="External"/><Relationship Id="rId7" Type="http://schemas.openxmlformats.org/officeDocument/2006/relationships/hyperlink" Target="http://docs.cntd.ru/document/493536809" TargetMode="External"/><Relationship Id="rId8" Type="http://schemas.openxmlformats.org/officeDocument/2006/relationships/hyperlink" Target="http://docs.cntd.ru/document/493536810" TargetMode="External"/><Relationship Id="rId9" Type="http://schemas.openxmlformats.org/officeDocument/2006/relationships/hyperlink" Target="http://docs.cntd.ru/document/493536810" TargetMode="External"/><Relationship Id="rId10" Type="http://schemas.openxmlformats.org/officeDocument/2006/relationships/hyperlink" Target="http://docs.cntd.ru/document/493536811" TargetMode="External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8487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1. Должности руководит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главный врач (начальник) медицинской организ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директор больницы (дома) сестринского ухода, хоспис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заместитель руководителя (начальника) медицинской организ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заведующий (начальник) структурного подразделения (отде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тделения, лаборатории, кабинета, отряда и другое) медици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рганизации - врач-специалис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ведующий (главный врач, начальник) структурного подраздел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уществляющего медицинскую деятельность, иной орган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главная медицинская сестра (главная акушерка, главный фельдшер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22860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менклатура должностей медицинских работников и фармацевтических работни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риказ МЗ РФ от 20.12.2012 г. №1183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4876920"/>
            <a:ext cx="8991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вильному подбору и расстановке кадров, а также обеспечению единства подходов при определении должностных обязанностей этих категорий работников и предъявляемых к ним квалификационных требований способствует Единый квалификационный справочник должностей руководителей, специалистов и служащих, утвержденный приказом Министерства здравоохранения и социального развития Российской Федерации от 23.07.2010 года №541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Примеч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Наименование должности врача формируется с учетом специальности, по которой работник имеет соответствующую подготовку и работа по которой вменяется в круг его обязанностей. Например, "врач-терапевт"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. Наименования должностей заведующих (начальников) структурных подразделений (отделов, отделений, лабораторий, кабинетов, отрядов и другое) дополняются наименованием должности врача, соответствующей профилю структурного подразделения. Например, "заведующий хирургическим отделением - врач-хирург"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В медицинской организации, оказывающей специализированную медицинскую помощь, или при наличии в медицинской организации структурного подразделения, оказывающего специализированную медицинскую помощь, наименование должности "врач приемного отделения" дополняется наименованием должности врача соответствующей специальности. Например, "врач приемного отделения - врач скорой медицинской помощи"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22860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менклатура должностей медицинских работников и фармацевтических работни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риказ МЗ РФ от 20.12.2012 г. №1183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таблицу включаются сведения о должностях, физических лицах отделений (кабинетов) </a:t>
            </a:r>
            <a:r>
              <a:rPr b="1" lang="ru-RU" sz="1800" spc="-1" strike="noStrike">
                <a:solidFill>
                  <a:srgbClr val="cc0066"/>
                </a:solidFill>
                <a:latin typeface="Times New Roman"/>
              </a:rPr>
              <a:t>платных услуг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и о должностях и физических лицах специалистов, в том числе, станции (отделения скорой медицинской помощ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графы 9, 10 и 11 «Число физических лиц основных работников на занятых должностях» включаются только основные работники (т.е. те, кто имеет трудовые книжки в данной организаци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ца, находящиеся в декретном отпуске или длительной командировке, указываются по тем должностям, с которых состоялся декретный отпуск, команди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ешние совместители в графы с 9 по 11 не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число физических лиц специалистов с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Times New Roman"/>
              </a:rPr>
              <a:t>высшим немедицинским  образованием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 основных работников, занимающих должности врачей клинической лабораторной диагностики, врачей-статистиков и врачей по лечебной физкультуре указывается в строках 223-225 в графе 9. Штатные и занятые должности, занимаемые ими показываются по соответствующим строкам врачебных дол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33"/>
                </a:solidFill>
                <a:uFillTx/>
                <a:latin typeface="Times New Roman"/>
              </a:rPr>
              <a:t>вакантные должности в поликлинике или в стационаре (разность между штатными и занятыми должностями) не может быть больше, чем в целом по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457200" y="609480"/>
            <a:ext cx="8381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таблицы 1100 следует иметь в вид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медицинских организациях, имеющих в своем составе подразделения (для оказания медицинской помощи в амбулаторных, стационарных условиях), в графах 3 и 4 показывают общую штатную численность персонала юридического лица в целом по организации в соответствии со штатным расписа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графах 5 и 6 (из граф 3 и 4 соответственно) - штатную численность подразделений,  оказывающих медицинскую помощь в амбулаторных условиях, включая вспомогательные отделения и кабин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графах 7 и 8 (из граф 3 и 4) – штатную численность подразделений, оказывающих медицинскую помощь в стационарных  условиях, включая вспомогательные отделения и кабин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28600" y="320040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все должности врачей в туберкулезных больницах,  противотуберкулезных диспансерах, фтизиопульмонологических центрах (кроме должностей вспомогательных отделений  - рентгеновского, физиотерапевтического, лабораторий и т.д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. </a:t>
            </a:r>
            <a:r>
              <a:rPr b="0" lang="ru-RU" sz="1600" spc="-1" strike="noStrike" u="sng">
                <a:solidFill>
                  <a:srgbClr val="c00000"/>
                </a:solidFill>
                <a:uFillTx/>
                <a:latin typeface="Times New Roman"/>
              </a:rPr>
              <a:t>и специалистов-консультантов не фтизиатров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)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, туберкулезных отделениях (кабинетах) больниц и поликлиник относятся к должностям фтизиатр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 должности врачей в онкологических диспансерах и онкологических больницах (кроме должностей радиологов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 других должностей консультантов-специалисто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, онкологических отделениях и кабинетах других больниц и поликлиник относятся к должностям врачей-онколог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рачей - заведующих отделениями (кабинетами) показывают как специалистов в соответствующих строках (терапевтическими отделениями – как терапевтов и т.д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" y="685800"/>
          <a:ext cx="8686800" cy="3032280"/>
        </p:xfrm>
        <a:graphic>
          <a:graphicData uri="http://schemas.openxmlformats.org/drawingml/2006/table">
            <a:tbl>
              <a:tblPr/>
              <a:tblGrid>
                <a:gridCol w="3619440"/>
                <a:gridCol w="706320"/>
                <a:gridCol w="990720"/>
                <a:gridCol w="959040"/>
                <a:gridCol w="1057320"/>
                <a:gridCol w="135396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538"/>
          <p:cNvSpPr/>
          <p:nvPr/>
        </p:nvSpPr>
        <p:spPr>
          <a:xfrm>
            <a:off x="228600" y="4038480"/>
            <a:ext cx="8763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афы 12-14 заполняются на основании удостоверений о присвоении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дицинские и фармацевтические работники, имеющие категории по нескольким специальностям, показываются в отчете 1 раз – по основной долж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афа 15 заполняется на основании сертификатов специалис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33"/>
                </a:solidFill>
                <a:uFillTx/>
                <a:latin typeface="Times New Roman"/>
              </a:rPr>
              <a:t>медицинские и фармацевтические работники, имеющие сертификаты по нескольким специальностям, показываются в отчете 1 раз – по основной долж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76320" y="533520"/>
          <a:ext cx="8915400" cy="307800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609480"/>
                <a:gridCol w="685800"/>
                <a:gridCol w="685800"/>
                <a:gridCol w="609840"/>
                <a:gridCol w="685800"/>
                <a:gridCol w="609480"/>
                <a:gridCol w="1066680"/>
                <a:gridCol w="990720"/>
                <a:gridCol w="990720"/>
              </a:tblGrid>
              <a:tr h="946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08"/>
          <p:cNvSpPr/>
          <p:nvPr/>
        </p:nvSpPr>
        <p:spPr>
          <a:xfrm>
            <a:off x="228600" y="3962520"/>
            <a:ext cx="8610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зываем все должности врачей приемного поко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Обратить внимание!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казываем должности «врач приемного отделения», независимо от клинической специальности, которую  он име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76320" y="533520"/>
          <a:ext cx="8915400" cy="508932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609480"/>
                <a:gridCol w="685800"/>
                <a:gridCol w="685800"/>
                <a:gridCol w="609840"/>
                <a:gridCol w="685800"/>
                <a:gridCol w="609480"/>
                <a:gridCol w="1066680"/>
                <a:gridCol w="990720"/>
                <a:gridCol w="990720"/>
              </a:tblGrid>
              <a:tr h="946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здравпун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общей пр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 участк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 райо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  участк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</a:tr>
            </a:tbl>
          </a:graphicData>
        </a:graphic>
      </p:graphicFrame>
      <p:sp>
        <p:nvSpPr>
          <p:cNvPr id="161" name="TextBox 3"/>
          <p:cNvSpPr/>
          <p:nvPr/>
        </p:nvSpPr>
        <p:spPr>
          <a:xfrm>
            <a:off x="228600" y="571500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И так далее по строкам – 70,72,74,97,98,99,100,110,147,171,186,1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76320" y="533520"/>
          <a:ext cx="8915400" cy="5029200"/>
        </p:xfrm>
        <a:graphic>
          <a:graphicData uri="http://schemas.openxmlformats.org/drawingml/2006/table">
            <a:tbl>
              <a:tblPr/>
              <a:tblGrid>
                <a:gridCol w="1633320"/>
                <a:gridCol w="500040"/>
                <a:gridCol w="617760"/>
                <a:gridCol w="657000"/>
                <a:gridCol w="706680"/>
                <a:gridCol w="639720"/>
                <a:gridCol w="691920"/>
                <a:gridCol w="623880"/>
                <a:gridCol w="863640"/>
                <a:gridCol w="990720"/>
                <a:gridCol w="990720"/>
              </a:tblGrid>
              <a:tr h="946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терапевты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рапевты участко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участковые цеховых врачебных участ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ы подростк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1534"/>
          <p:cNvSpPr/>
          <p:nvPr/>
        </p:nvSpPr>
        <p:spPr>
          <a:xfrm>
            <a:off x="152280" y="571500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астковые терапевты, работающих в амбулаториях, показываются по строке 97 и в 99 строку не входя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строка 99 заполняется если в амбулатории есть должности терапев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538"/>
          <p:cNvSpPr/>
          <p:nvPr/>
        </p:nvSpPr>
        <p:spPr>
          <a:xfrm>
            <a:off x="2743200" y="3581280"/>
            <a:ext cx="5486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96 может быть больше суммы строк с 97 по 100 за счет заведующих терапевтическим отделением и врачей-терапев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52280" y="533520"/>
          <a:ext cx="8763120" cy="5843520"/>
        </p:xfrm>
        <a:graphic>
          <a:graphicData uri="http://schemas.openxmlformats.org/drawingml/2006/table">
            <a:tbl>
              <a:tblPr/>
              <a:tblGrid>
                <a:gridCol w="1667160"/>
                <a:gridCol w="433080"/>
                <a:gridCol w="655920"/>
                <a:gridCol w="639720"/>
                <a:gridCol w="690480"/>
                <a:gridCol w="623880"/>
                <a:gridCol w="671400"/>
                <a:gridCol w="609840"/>
                <a:gridCol w="866520"/>
                <a:gridCol w="879480"/>
                <a:gridCol w="1025640"/>
              </a:tblGrid>
              <a:tr h="8859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врачей (стр.1):                                                   </a:t>
                      </a:r>
                      <a:r>
                        <a:rPr b="1" lang="ru-RU" sz="13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рачи клинических  специаль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 </a:t>
                      </a:r>
                      <a:r>
                        <a:rPr b="1" lang="ru-RU" sz="13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AutoShape 627"/>
          <p:cNvSpPr/>
          <p:nvPr/>
        </p:nvSpPr>
        <p:spPr>
          <a:xfrm>
            <a:off x="2286000" y="4800600"/>
            <a:ext cx="6553080" cy="685800"/>
          </a:xfrm>
          <a:prstGeom prst="wedgeRoundRectCallout">
            <a:avLst>
              <a:gd name="adj1" fmla="val 15648"/>
              <a:gd name="adj2" fmla="val 9583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казываются сведения о числе физических лиц врачей, имеющих два и более сертифика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28"/>
          <p:cNvSpPr/>
          <p:nvPr/>
        </p:nvSpPr>
        <p:spPr>
          <a:xfrm>
            <a:off x="2590920" y="3962520"/>
            <a:ext cx="518148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Внимание :  Сумма строк 124 и 125 равна строке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29"/>
          <p:cNvSpPr/>
          <p:nvPr/>
        </p:nvSpPr>
        <p:spPr>
          <a:xfrm>
            <a:off x="2286000" y="3124080"/>
            <a:ext cx="57150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в строке 123 не могут превышать значения, указанные в строке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к врачам клинических специальнос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сятся: терапевты, пульмонологи, кардиологи, детские кардиологи, ревматологи, гастроэнтерологи, нефрологи, диабетологи, эндокринологи, эндокринологи детские, аллергологи- иммунологи, гематологи, профпатологи, онкологи, онкологи детские, хирурги, хирурги детские, нейрохирурги, хирурги пластические, сердечно-сосудистые хирурги, торакальные хирурги, травматологи и ортопеды, урологи, урологи-андрологи детские, колопроктологи, челюстно-лицевые хирурги, акушеры-гинекологи, педиатры, неонатологи, офтальмологи, отоларингологи, фтизиатры, неврологи, психиатры, гериатры, психиатры-наркологи, дерматовенерологи, врачи скорой медицинской помощи, инфекционисты, врачи общей практики (семейные), врачи по рентгеноваскулярной диагностики и ле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подчиненности (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Федеральное, подчине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бъекта Российской Федерации) медицинские организации распределяются по состоянию на конец отчетного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7631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ФФСН №30 следует иметь в вид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а федерального статистического наблюдения № 30 составляется всеми медицинскими организациями, входящими в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номенклатуру медицинских организа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приказ Минздрава России от 06.08.2013 № 529н, зарегистрирован в Министерстве юстиции Российской Федерации 13.09.2013 № 2995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ФФСН №30 заполняется всеми юридическими лицами в целом по организации, включая структурные подразделения (районные больницы, участковые больницы, амбулатории, филиалы, обособленные подразделения); каждым структурным подразделением юридического лица и отдельно по юридическому лицу без учета структурных подразд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4038480"/>
          <a:ext cx="4267080" cy="215424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д по юридическому лицу (районная боль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центральная)), включая структурные подразделе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ая больница (центральная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ая боль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овая боль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собленное подраз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724280" y="4114800"/>
          <a:ext cx="4038840" cy="106668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изиопульмонологически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изиопульмонологически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2280" y="16761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3. Должности специалистов с высшим профессиональным (немедицинским) образованием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биоло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зооло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инструктор-методист по лечебной физкультур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медицинский психоло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медицинский физи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судебный эксперт (эксперт-биохимик, эксперт-генетик, эксперт-химик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7"/>
              </a:rPr>
              <a:t>химик-эксперт медицинской организ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8"/>
              </a:rPr>
              <a:t>эксперт-физик по контролю за источниками ионизирующих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9"/>
              </a:rPr>
              <a:t>неионизирующих излучен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10"/>
              </a:rPr>
              <a:t>эмбриоло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нтом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2860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менклатура должностей медицинских работников и фармацевтических работни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риказ МЗ РФ от 20.12.2012 г. №1183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76320" y="457200"/>
          <a:ext cx="8839080" cy="5802480"/>
        </p:xfrm>
        <a:graphic>
          <a:graphicData uri="http://schemas.openxmlformats.org/drawingml/2006/table">
            <a:tbl>
              <a:tblPr/>
              <a:tblGrid>
                <a:gridCol w="2057400"/>
                <a:gridCol w="457200"/>
                <a:gridCol w="609480"/>
                <a:gridCol w="609480"/>
                <a:gridCol w="685800"/>
                <a:gridCol w="533520"/>
                <a:gridCol w="685800"/>
                <a:gridCol w="609480"/>
                <a:gridCol w="838440"/>
                <a:gridCol w="838080"/>
                <a:gridCol w="91440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пециалисты: биолог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-методисты по  лечебной физкультур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физ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медицин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ебные экспер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ки-экспер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Rectangle 915"/>
          <p:cNvSpPr/>
          <p:nvPr/>
        </p:nvSpPr>
        <p:spPr>
          <a:xfrm>
            <a:off x="2666880" y="2666880"/>
            <a:ext cx="624852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року 127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не включаютс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сведения о специалистах с высшим немедицинским образованием, занимающих врачебные долж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917"/>
          <p:cNvSpPr/>
          <p:nvPr/>
        </p:nvSpPr>
        <p:spPr>
          <a:xfrm>
            <a:off x="2743200" y="4038480"/>
            <a:ext cx="6095880" cy="1752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трока 127 может быть больше суммы строк со 128 по 134 за счет: биолог, зоолог, эксперт-физик, эмбриолог, энтомоло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Если строка 127 больше суммы строк, то разницу  расшифров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52280" y="762120"/>
          <a:ext cx="8763120" cy="5546520"/>
        </p:xfrm>
        <a:graphic>
          <a:graphicData uri="http://schemas.openxmlformats.org/drawingml/2006/table">
            <a:tbl>
              <a:tblPr/>
              <a:tblGrid>
                <a:gridCol w="1681200"/>
                <a:gridCol w="528840"/>
                <a:gridCol w="685800"/>
                <a:gridCol w="761760"/>
                <a:gridCol w="609840"/>
                <a:gridCol w="685800"/>
                <a:gridCol w="609480"/>
                <a:gridCol w="685800"/>
                <a:gridCol w="838080"/>
                <a:gridCol w="838440"/>
                <a:gridCol w="83808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 по специальностя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и экономика фа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ическая 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ическая химия и фармакогноз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710"/>
          <p:cNvSpPr/>
          <p:nvPr/>
        </p:nvSpPr>
        <p:spPr>
          <a:xfrm>
            <a:off x="2362320" y="4114800"/>
            <a:ext cx="647676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троку 135 заполнить по всем граф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13"/>
          <p:cNvSpPr/>
          <p:nvPr/>
        </p:nvSpPr>
        <p:spPr>
          <a:xfrm>
            <a:off x="2819520" y="5638680"/>
            <a:ext cx="609588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ока 135 равна сумме строк со 136 по 138 по графе 9. Остальные графы по строкам с 136 по 138 не заполняю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4. Должности специалистов со средним профессиональным (медицинским) образованием (средний медицинский персонал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куш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гиенист стоматологическ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ведующий молочной кухн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ведующий здравпунктом - фельдшер (медицинская сестр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ведующий фельдшерско-акушерским пунктом - фельдшер (акуше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дицинская сестр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ведующий кабинетом медицинской профилактики – фельдш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медицинская сестр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ведующий производством учреждений (отделов, отдел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абораторий) зубопротез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22860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менклатура должностей медицинских работников и фармацевтических работни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риказ МЗ РФ от 20.12.2012 г. №1183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52280" y="685800"/>
          <a:ext cx="8839440" cy="6019920"/>
        </p:xfrm>
        <a:graphic>
          <a:graphicData uri="http://schemas.openxmlformats.org/drawingml/2006/table">
            <a:tbl>
              <a:tblPr/>
              <a:tblGrid>
                <a:gridCol w="1905120"/>
                <a:gridCol w="457200"/>
                <a:gridCol w="609480"/>
                <a:gridCol w="762120"/>
                <a:gridCol w="609480"/>
                <a:gridCol w="533520"/>
                <a:gridCol w="762120"/>
                <a:gridCol w="685800"/>
                <a:gridCol w="761760"/>
                <a:gridCol w="914400"/>
                <a:gridCol w="83844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организациях, расположенных в сельской мес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 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торы сестринского де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139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Rectangle 719"/>
          <p:cNvSpPr/>
          <p:nvPr/>
        </p:nvSpPr>
        <p:spPr>
          <a:xfrm>
            <a:off x="2743200" y="5715000"/>
            <a:ext cx="6172200" cy="990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казываются специалисты с высшим или средним медицинским образованием, имеющие данную специальность, не зависимо от должности, которую они занимают в среднем персонал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720"/>
          <p:cNvSpPr/>
          <p:nvPr/>
        </p:nvSpPr>
        <p:spPr>
          <a:xfrm>
            <a:off x="2133720" y="60958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21"/>
          <p:cNvSpPr/>
          <p:nvPr/>
        </p:nvSpPr>
        <p:spPr>
          <a:xfrm>
            <a:off x="2666880" y="3200400"/>
            <a:ext cx="61722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Медицинские сестры с высшим образованием, занимающие должности врачей в строку 13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не включ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28"/>
          <p:cNvSpPr/>
          <p:nvPr/>
        </p:nvSpPr>
        <p:spPr>
          <a:xfrm>
            <a:off x="2743200" y="4419720"/>
            <a:ext cx="5943600" cy="380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Сумма строк 141 и 142 равна строке 1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76320" y="609480"/>
          <a:ext cx="8915400" cy="5715000"/>
        </p:xfrm>
        <a:graphic>
          <a:graphicData uri="http://schemas.openxmlformats.org/drawingml/2006/table">
            <a:tbl>
              <a:tblPr/>
              <a:tblGrid>
                <a:gridCol w="1676160"/>
                <a:gridCol w="500040"/>
                <a:gridCol w="795600"/>
                <a:gridCol w="761760"/>
                <a:gridCol w="609840"/>
                <a:gridCol w="685800"/>
                <a:gridCol w="609480"/>
                <a:gridCol w="685800"/>
                <a:gridCol w="914400"/>
                <a:gridCol w="838080"/>
                <a:gridCol w="83844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общего числа среднего медперсона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(стр. 139):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ы стома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 фельдшерско-акушерским пункт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ощники  врач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Rectangle 719"/>
          <p:cNvSpPr/>
          <p:nvPr/>
        </p:nvSpPr>
        <p:spPr>
          <a:xfrm>
            <a:off x="2362320" y="2590920"/>
            <a:ext cx="65530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строке 14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указывать следующие должности: заведующий молочн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ухней; заведующий здравпунктом –фельдшер (медицинская сестра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ведующий ФАП – фельдшер (акушер, медицинская сестра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ведующий кабинетом медпрофилактики – фельдшер (медицинск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естра); заведующий отделом, отделением, лабораторией, кабинет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убопротезир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04"/>
          <p:cNvSpPr/>
          <p:nvPr/>
        </p:nvSpPr>
        <p:spPr>
          <a:xfrm>
            <a:off x="2362320" y="4495680"/>
            <a:ext cx="647676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строке 19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указывать должности помощников: врача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пидемиолога, врача-паразитолога, врача по гигиене детей 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дростков, врача по гигиене питания, врача по гигиене труд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рача по гигиеническому воспитанию, врача по коммунальн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игиене, врача по общей гигиене, врача по радиационной гигиен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мощник энтомолога, и т.д. в соответствии с действующ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менклатурой должност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76320" y="457200"/>
          <a:ext cx="8915400" cy="6469200"/>
        </p:xfrm>
        <a:graphic>
          <a:graphicData uri="http://schemas.openxmlformats.org/drawingml/2006/table">
            <a:tbl>
              <a:tblPr/>
              <a:tblGrid>
                <a:gridCol w="1819080"/>
                <a:gridCol w="432000"/>
                <a:gridCol w="657000"/>
                <a:gridCol w="638280"/>
                <a:gridCol w="836640"/>
                <a:gridCol w="755640"/>
                <a:gridCol w="679320"/>
                <a:gridCol w="604800"/>
                <a:gridCol w="830520"/>
                <a:gridCol w="831600"/>
                <a:gridCol w="830520"/>
              </a:tblGrid>
              <a:tr h="10065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 ким образование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Rectangle 859"/>
          <p:cNvSpPr/>
          <p:nvPr/>
        </p:nvSpPr>
        <p:spPr>
          <a:xfrm>
            <a:off x="2362320" y="4724280"/>
            <a:ext cx="647676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63 должна быть больше сумме строк со 164 по 166. То есть специалисты с высшим медицинским образовани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862"/>
          <p:cNvSpPr/>
          <p:nvPr/>
        </p:nvSpPr>
        <p:spPr>
          <a:xfrm>
            <a:off x="2362320" y="2743200"/>
            <a:ext cx="6629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роках 164-169 указываются физические лица с высшим и средним медицинским образованием независимо от того, какую фактически должность они занимают в категории среднего медперсон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63"/>
          <p:cNvSpPr/>
          <p:nvPr/>
        </p:nvSpPr>
        <p:spPr>
          <a:xfrm>
            <a:off x="2362320" y="5486400"/>
            <a:ext cx="647676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63 должна быть больше сумме строк со 167 по 169. То есть специалисты со средним медицинским образовани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880"/>
          <p:cNvSpPr/>
          <p:nvPr/>
        </p:nvSpPr>
        <p:spPr>
          <a:xfrm>
            <a:off x="2362320" y="3962520"/>
            <a:ext cx="65530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Строка 163 может быть больше или равна сумме строк со 164 по 1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52280" y="457200"/>
          <a:ext cx="8763120" cy="6218280"/>
        </p:xfrm>
        <a:graphic>
          <a:graphicData uri="http://schemas.openxmlformats.org/drawingml/2006/table">
            <a:tbl>
              <a:tblPr/>
              <a:tblGrid>
                <a:gridCol w="1667160"/>
                <a:gridCol w="542880"/>
                <a:gridCol w="546120"/>
                <a:gridCol w="641160"/>
                <a:gridCol w="687600"/>
                <a:gridCol w="625320"/>
                <a:gridCol w="671400"/>
                <a:gridCol w="609840"/>
                <a:gridCol w="736560"/>
                <a:gridCol w="1008000"/>
                <a:gridCol w="1027080"/>
              </a:tblGrid>
              <a:tr h="946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троки 163: анестези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общей практики  (семейных врач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иальн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 функциональ ной диагност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885"/>
          <p:cNvSpPr/>
          <p:nvPr/>
        </p:nvSpPr>
        <p:spPr>
          <a:xfrm>
            <a:off x="2362320" y="3200400"/>
            <a:ext cx="6553080" cy="30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63 может быть больше суммы строк со 170 по 1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885"/>
          <p:cNvSpPr/>
          <p:nvPr/>
        </p:nvSpPr>
        <p:spPr>
          <a:xfrm>
            <a:off x="2895480" y="5257800"/>
            <a:ext cx="571500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лавные медсестра включаются только в строку 1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76320" y="581040"/>
          <a:ext cx="8915400" cy="6161040"/>
        </p:xfrm>
        <a:graphic>
          <a:graphicData uri="http://schemas.openxmlformats.org/drawingml/2006/table">
            <a:tbl>
              <a:tblPr/>
              <a:tblGrid>
                <a:gridCol w="1844640"/>
                <a:gridCol w="538200"/>
                <a:gridCol w="614160"/>
                <a:gridCol w="692280"/>
                <a:gridCol w="614160"/>
                <a:gridCol w="692280"/>
                <a:gridCol w="614520"/>
                <a:gridCol w="615960"/>
                <a:gridCol w="920520"/>
                <a:gridCol w="846360"/>
                <a:gridCol w="92232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х работников на занятых должностя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ботают на основной работе в организациях подчинения: 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птечных организац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 по лечебной физкультуре (без среднего медицинского образо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1252"/>
          <p:cNvSpPr/>
          <p:nvPr/>
        </p:nvSpPr>
        <p:spPr>
          <a:xfrm>
            <a:off x="3124080" y="5334120"/>
            <a:ext cx="472464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Строка 213 показывается из строки 15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28"/>
          <p:cNvSpPr/>
          <p:nvPr/>
        </p:nvSpPr>
        <p:spPr>
          <a:xfrm>
            <a:off x="3124080" y="3200400"/>
            <a:ext cx="4343400" cy="30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Сумма строк 210 и 211 равна строке 2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28"/>
          <p:cNvSpPr/>
          <p:nvPr/>
        </p:nvSpPr>
        <p:spPr>
          <a:xfrm>
            <a:off x="3048120" y="4191120"/>
            <a:ext cx="51814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Кресты в строках с 210 по 212 убрать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914040" y="205704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5. Иные должности медицинских работ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младший медицинский персонал):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ладшая медицинская сестра по уходу за больны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нита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нитар-водите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стра-хозяй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22860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менклатура должностей медицинских работников и фармацевтических работник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риказ МЗ РФ от 20.12.2012 г. №1183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2514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приме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04920" y="1371600"/>
            <a:ext cx="1523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ГБУ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од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ни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№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648320" y="914400"/>
            <a:ext cx="39621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иклиника №1: адрес, численность прикрепленного насе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48320" y="1752480"/>
            <a:ext cx="39621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иклиника №2: адрес, численность прикрепленного насе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648320" y="2514600"/>
            <a:ext cx="39621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иклиника 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адрес, численность прикрепленного насе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1905120" y="914400"/>
            <a:ext cx="2209680" cy="228600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мее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особлен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уктур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драз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4191120" y="838080"/>
            <a:ext cx="380880" cy="2286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3733920" y="3048120"/>
            <a:ext cx="609480" cy="761760"/>
          </a:xfrm>
          <a:prstGeom prst="downArrow">
            <a:avLst>
              <a:gd name="adj1" fmla="val 50000"/>
              <a:gd name="adj2" fmla="val 31246"/>
            </a:avLst>
          </a:prstGeom>
          <a:solidFill>
            <a:srgbClr val="779f92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1295280" y="3886200"/>
            <a:ext cx="6553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Юридическое лицо – 1 (ОГБУЗ Детская больница №9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 обособленных структурных подразделения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 заведующих поликлини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1295280" y="5029200"/>
            <a:ext cx="6705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ФФСН №30 предоставляется по юридическому лицу без учета структурных подразделений и по каждому обособленному подраздел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380880" y="2895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ол-ие отделени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ационар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152280" y="457200"/>
          <a:ext cx="8839440" cy="3749760"/>
        </p:xfrm>
        <a:graphic>
          <a:graphicData uri="http://schemas.openxmlformats.org/drawingml/2006/table">
            <a:tbl>
              <a:tblPr/>
              <a:tblGrid>
                <a:gridCol w="1681200"/>
                <a:gridCol w="438120"/>
                <a:gridCol w="658800"/>
                <a:gridCol w="648000"/>
                <a:gridCol w="695160"/>
                <a:gridCol w="628560"/>
                <a:gridCol w="677880"/>
                <a:gridCol w="614520"/>
                <a:gridCol w="744480"/>
                <a:gridCol w="1017720"/>
                <a:gridCol w="103500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ладшие медсестры по уходу за боль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Rectangle 550"/>
          <p:cNvSpPr/>
          <p:nvPr/>
        </p:nvSpPr>
        <p:spPr>
          <a:xfrm>
            <a:off x="2362320" y="2743200"/>
            <a:ext cx="655308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214 может быть больше суммы строк 215+216 (санитар-водитель, сестра-хозяйка, младший фармацевтический персонал - фасовщик, санитар (мойщик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52"/>
          <p:cNvSpPr/>
          <p:nvPr/>
        </p:nvSpPr>
        <p:spPr>
          <a:xfrm>
            <a:off x="152280" y="4267080"/>
            <a:ext cx="883944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 должность младшей медицинской сестры по  уходу  за  больными назначается лицо, имеющее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реднее (полное) общее образование и дополнительную подготовку на курсах младш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дицинских  сестер по уходу за больными без предъявления требований к стажу работы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реднее (полное) общее образование, дополнительную подготовку на курсах младших медицинских сестер по уходу за больными и стаж  работы  по профилю не менее 2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53"/>
          <p:cNvSpPr/>
          <p:nvPr/>
        </p:nvSpPr>
        <p:spPr>
          <a:xfrm>
            <a:off x="152280" y="5715000"/>
            <a:ext cx="876312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нитар — младший медицинский работник, выполняющий вспомогательные функции в медицинской практике. Работа санитаром не требует медицинского образования, но в зависимости от выполняемой работы может потребоваться предварительная подготовка в виде курсов, обучения по специальным программам (санитар судмедэкспертизы, отдела лучевой диагностики и т.д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152280" y="685800"/>
          <a:ext cx="8763120" cy="4552920"/>
        </p:xfrm>
        <a:graphic>
          <a:graphicData uri="http://schemas.openxmlformats.org/drawingml/2006/table">
            <a:tbl>
              <a:tblPr/>
              <a:tblGrid>
                <a:gridCol w="1667160"/>
                <a:gridCol w="433080"/>
                <a:gridCol w="655920"/>
                <a:gridCol w="639720"/>
                <a:gridCol w="690480"/>
                <a:gridCol w="623880"/>
                <a:gridCol w="671400"/>
                <a:gridCol w="609840"/>
                <a:gridCol w="736560"/>
                <a:gridCol w="1009440"/>
                <a:gridCol w="102564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социальны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-специалис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601"/>
          <p:cNvSpPr/>
          <p:nvPr/>
        </p:nvSpPr>
        <p:spPr>
          <a:xfrm>
            <a:off x="2286000" y="3124080"/>
            <a:ext cx="65530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року 217 включаются: экономисты, программисты, инженеры, юристы, операторы, бухгалтеры, завхозы, работники кухонь, истопники, шоферы и другие категории работников, не относящиеся к медицинскому персонал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602"/>
          <p:cNvSpPr/>
          <p:nvPr/>
        </p:nvSpPr>
        <p:spPr>
          <a:xfrm>
            <a:off x="457200" y="5486400"/>
            <a:ext cx="6858000" cy="762120"/>
          </a:xfrm>
          <a:prstGeom prst="wedgeRoundRectCallout">
            <a:avLst>
              <a:gd name="adj1" fmla="val -32245"/>
              <a:gd name="adj2" fmla="val -92916"/>
              <a:gd name="adj3" fmla="val 16667"/>
            </a:avLst>
          </a:prstGeom>
          <a:solidFill>
            <a:srgbClr val="cccc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троку 220 включаются: программисты, операторы ЭВМ, администраторы компьютерных сетей и т.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152280" y="609480"/>
          <a:ext cx="8839440" cy="5456520"/>
        </p:xfrm>
        <a:graphic>
          <a:graphicData uri="http://schemas.openxmlformats.org/drawingml/2006/table">
            <a:tbl>
              <a:tblPr/>
              <a:tblGrid>
                <a:gridCol w="1681200"/>
                <a:gridCol w="438120"/>
                <a:gridCol w="660600"/>
                <a:gridCol w="646200"/>
                <a:gridCol w="695160"/>
                <a:gridCol w="630360"/>
                <a:gridCol w="676080"/>
                <a:gridCol w="615960"/>
                <a:gridCol w="743040"/>
                <a:gridCol w="1017720"/>
                <a:gridCol w="103500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7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 с высшим немедицинским образованием, занимающих должности врачей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рачей:              лаборан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ст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Rectangle 694"/>
          <p:cNvSpPr/>
          <p:nvPr/>
        </p:nvSpPr>
        <p:spPr>
          <a:xfrm>
            <a:off x="2362320" y="2895480"/>
            <a:ext cx="563868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и с 222 по 225 заполняются по графам 9, 10, 1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и с 222 по 225 по графам с 3 по 8 не заполня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99"/>
          <p:cNvSpPr/>
          <p:nvPr/>
        </p:nvSpPr>
        <p:spPr>
          <a:xfrm>
            <a:off x="2362320" y="3733920"/>
            <a:ext cx="65530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221 равна сумме строк 1+127+135+139+209+213+ +214+2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00"/>
          <p:cNvSpPr/>
          <p:nvPr/>
        </p:nvSpPr>
        <p:spPr>
          <a:xfrm>
            <a:off x="533520" y="624852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сего физических лиц равно сумме строк 221+2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457200" y="38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2280" y="762120"/>
          <a:ext cx="8763120" cy="2987640"/>
        </p:xfrm>
        <a:graphic>
          <a:graphicData uri="http://schemas.openxmlformats.org/drawingml/2006/table">
            <a:tbl>
              <a:tblPr/>
              <a:tblGrid>
                <a:gridCol w="5715000"/>
                <a:gridCol w="990720"/>
                <a:gridCol w="2057400"/>
              </a:tblGrid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Участки медицинских организаций, оказывающих медицинскую помощь в амбулаторных услов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х терапевтических участков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</a:t>
                      </a: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комплексные учас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комплектные учас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и врача общей практики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 учас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алокомплектные учас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Rectangle 228"/>
          <p:cNvSpPr/>
          <p:nvPr/>
        </p:nvSpPr>
        <p:spPr>
          <a:xfrm>
            <a:off x="4572000" y="1752480"/>
            <a:ext cx="441972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Проверка доступности первичной медико-санитарной помощ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численность населения) : (нормати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исленности населения на участке)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исленность штатных должностей участковых врач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При этом могут быть отклон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229"/>
          <p:cNvSpPr/>
          <p:nvPr/>
        </p:nvSpPr>
        <p:spPr>
          <a:xfrm>
            <a:off x="4114800" y="617220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79f92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28"/>
          <p:cNvSpPr/>
          <p:nvPr/>
        </p:nvSpPr>
        <p:spPr>
          <a:xfrm>
            <a:off x="380880" y="3886200"/>
            <a:ext cx="822960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нимани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Количество терапевтических, педиатрических участков и участков вр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общей практики указанное в данной таблице, должно быть сопоставимо с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штатной численностью соответствующих должностей, указанных в таблиц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2895480"/>
            <a:ext cx="89154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оответствии с приказом Минздравсоцразвития России от 15.05.2012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№ 543н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“Об утверждении Положения об организации оказания первичной медико-санитарной помощи взрослому населению” могут быть организованы следующие участки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рапевтический, с численностью прикрепленного взрослого населения (18 лет и старше) в количестве 1700 чел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рача общей практики, с численностью прикрепленного взрослого на- селения (18 лет и старше) в количестве 1200 чел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емейного врача, с численностью прикрепленного взрослого и детского населения в количестве 1500 чел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мплексный терапевтический, с численностью прикрепленного населения (взрослого и детского) в количестве 2000 че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оответствии с приказом Минздравсоцразвития России  от 16.04.2012 №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366н "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 утверждении Порядка оказания педиатрической помощи" рекомендовано на 1 врача-педиатра участкового 800 прикрепленного детского нас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3962520" y="0"/>
            <a:ext cx="8380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79f92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533520"/>
            <a:ext cx="9144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Комплексный терапевтический участок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– обслуживается врачом терапевтом участковым, медсестрой и фельдшером (акушеркой), ФАП, Ф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Комплексный терапевтический участок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ормируется из населения врачебного участка с недостаточной численностью прикрепленного населения (малокомплектный участок) или населения, обслуживаемого врачом-терапевтом амбулатории и населения, обслуживаемого фельдшерско-акушерскими пунктами (фельдшерскими пунктам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 малокомплектным участкам относят участки,  численность прикрепленного населения на которых на 200 человек ниже установленных норматив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80880" y="45720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33520" y="3200400"/>
            <a:ext cx="8076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аблице отражаются сведения и числе физических лиц медицинских работников на комплексных врачебных участках из числа указанных в таблице 1107, строке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дения о физических лицах не должны превышать соответствующие данные таблицы 1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28600" y="990720"/>
          <a:ext cx="8610480" cy="173664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медицинских работников на </a:t>
                      </a:r>
                      <a:r>
                        <a:rPr b="1" lang="ru-RU" sz="1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комплексных врачебных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ах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ов  1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ок 2.___________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сестер 3.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07"/>
          <p:cNvSpPr/>
          <p:nvPr/>
        </p:nvSpPr>
        <p:spPr>
          <a:xfrm>
            <a:off x="4572000" y="1905120"/>
            <a:ext cx="373392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заполняется, е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полнена строка 2 таблицы 11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457200" y="38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11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280" y="914400"/>
          <a:ext cx="8763120" cy="5273640"/>
        </p:xfrm>
        <a:graphic>
          <a:graphicData uri="http://schemas.openxmlformats.org/drawingml/2006/table">
            <a:tbl>
              <a:tblPr/>
              <a:tblGrid>
                <a:gridCol w="2262240"/>
                <a:gridCol w="519120"/>
                <a:gridCol w="352440"/>
                <a:gridCol w="803160"/>
                <a:gridCol w="804960"/>
                <a:gridCol w="820800"/>
                <a:gridCol w="789120"/>
                <a:gridCol w="801720"/>
                <a:gridCol w="804600"/>
                <a:gridCol w="804960"/>
              </a:tblGrid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и фармацевтиче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лных лет по состоянию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-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 и боле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организации здравоохранения (на должностях руководителей и их заместителей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ff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Rectangle 1038"/>
          <p:cNvSpPr/>
          <p:nvPr/>
        </p:nvSpPr>
        <p:spPr>
          <a:xfrm>
            <a:off x="3429000" y="2286000"/>
            <a:ext cx="5410080" cy="213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умма строк по полу по должностям в таблице должны быть равны  соответствующим данным таблицы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пример, сумма строк 1+2 по графе 4 должна быть равна строке 1 по графе 9 таблицы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зраст работников берется по состоянию на конец отчетного (полных лет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40"/>
          <p:cNvSpPr/>
          <p:nvPr/>
        </p:nvSpPr>
        <p:spPr>
          <a:xfrm>
            <a:off x="3352680" y="5486400"/>
            <a:ext cx="556272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умма строк 11 и 12 по графе 4 должна быть равна строке 127 +222 по графе 9 таблицы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042"/>
          <p:cNvSpPr/>
          <p:nvPr/>
        </p:nvSpPr>
        <p:spPr>
          <a:xfrm>
            <a:off x="3429000" y="4648320"/>
            <a:ext cx="54100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умма строк 3 и 4 по графе 4 должна быть равна строке 4 по графе 9 таблицы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457200" y="19810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ДЕЯТЕЛЬНОСТЬ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ДИЦИНСК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АЦИ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ОКАЗАНИ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ДИЦИНСКО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ОМОЩИ 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МБУЛАТОРНЫ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УСЛОВ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лицы раздела включают сведения о работе врачей осуществляющих прием пациентов в амбулаторных условиях и на дому, а также консультативный пр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ем врачей (среднего медицинского персонала на самостоятельном приеме) отделений (кабинетов) платных услуг включаются во все таблицы раздела соответственно занимаемым долж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врачи-интерны ведут прием под руководством врача-специалиста и в его присутствии, то сведения о посещениях учитывают тольк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троке,  соответствующей занимаемой должности врача-специал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лучаях, когда интерны ведут самостоятельный прием пациентов, сведения показывают в строке 122 «прочие» независимо от специальности, по которой врач проходит интернату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т деятельности специалистов  вспомогательных отделений (кабинетов), лабораторий и других вышеуказанных подразделений соответствует требованиям  Общероссийскому классификатору единиц измерения (ОКЕИ), показывается один раз в соответствующих таблицах и учитывается в «единицах», «человеках», «исследованиях», «процедурах» и т.д. Двойной учет одного вида деятельности в разных таблицах не допуст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российский классификатору единиц измерения (ОКЕИ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вержден Постановлением Госстандарта России от 26.12.1994 N 366 (ред. от 28.03.201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посещ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это контакт пациента с врачом медицинской организации или подразделения, оказывающего медицинскую помощь в амбулаторных условиях по любому поводу с последующей записью в «Медицинской карте пациента, получающего медицинскую помощь в амбулаторных условиях» (ф. № 025/у), </a:t>
            </a: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включающей жалобы, анамнез, объективные данные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постановку диагноза</a:t>
            </a: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: основного, фонового, конкурирующего и сопутствующих заболеваний, травм, отравлений с кодами их по МКБ-10, группу здоровья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назначенное  лечение</a:t>
            </a: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, обследование, а также результаты обследования и  динамического наблю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обраще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это повод визита пациента в поликлинику. Цель – по поводу заболевания (диспансерное наблюдение, неотложное состояние и т.д.), с профилактической целью (медицинский осмотр, диспансеризация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щение может состоять из одного или нескольких посещений пациента, в результате которых цель обращения достигну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сельскими жителям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едует понимать контингенты населения, постоянно проживающие в сельских населенных пунктах или сельских поселениях, расположенных в сельских муниципальных образованиях, а также в сельских населенных пунктах, входящих в состав городских поселений или городских окру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сельской местностью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имаются сельские поселения, а также сельские населенные пункты, входящие в состав городских поселений или городских округ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чень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(Реестр административно-территориальных единиц субъекта Российской Федерации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аких сельских населенных пунктов на территории субъекта Российской Федерации определяется и утверждается исполнительным органом государственной власти субъекта Российской Федерации. Указанный Реестр можно найти на официальных сайтах органов исполнительной власти субъект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09480" y="533520"/>
            <a:ext cx="800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оме того, при заполнении ФФСН №30, следует иметь в ви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ту подлежат следующие посещ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  любых  специальностей,  ведущих прием в амбулаторных условиях,  в том числе  консультативный  прием  (терапевтов,  педиатров,  хирургов, акушеров-гинекологов, урологов и т.д., включая заведующих отделениями) в медицинских организациях и вне медицинских организаций  с ведением медицинской карты пациента, получающего медицинскую помощь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 пунктов (отделений) неотложной медицинской помощи на д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 здравпунктов, цеховых терапевтов, акушеров-гинекологов и других, ведущих прием в амбулаторных условиях на  здравпунктах в часы, специально выделенные для амбулаторного при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,  оказывающих   медицинскую   помощь   в   специально выделенные  дни для  приема 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рачей,  оказывающих   медицинскую   помощь при выездах в другие медицинские организации (районные больницы, участковые больницы, амбулатории, фельдшерско-акушерские пунк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чей-психотерапевтов  при  проведении  групповых  занятий  (число посещений учитывается по числу пациентов, занимающихся в групп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ачей-стоматологов ,осуществляющих прием в стоматологических кабинетах в больничных организациях (госпитали, диспансеры, психиатрические и психоневрологические больницы, фтизиопульмонологические центры), а также санат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рачей-инфекционистов, проводящих подворные обходы  во  время вспышки  инфекционных  заболеваний,  осмотры  контактных  в  очаге (семье) инфекционного забол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илактические осмотры детей в детских дошкольных учреждениях, школах, профилактические осмотры  населения, включая периодические осмотры рабочих промышленных предприятий, работников других предприятий (учреждений), независимо от того, проведены ли они в стенах подразделения, оказывающего медицинскую помощь в амбулаторных условиях или непосредственно на предприятия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в учреждениях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ещения учитываются только при наличии соответствующей записи в медицинской карте пациента, получающего медицинскую помощь в амбулаторных условиях и заполненного талона пациента, получающего медицинскую помощь в амбулаторных услов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та врачей медицинской организации в амбулато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76320" y="1066680"/>
          <a:ext cx="8839080" cy="5608800"/>
        </p:xfrm>
        <a:graphic>
          <a:graphicData uri="http://schemas.openxmlformats.org/drawingml/2006/table">
            <a:tbl>
              <a:tblPr/>
              <a:tblGrid>
                <a:gridCol w="1166760"/>
                <a:gridCol w="385560"/>
                <a:gridCol w="712800"/>
                <a:gridCol w="782640"/>
                <a:gridCol w="609840"/>
                <a:gridCol w="533160"/>
                <a:gridCol w="574920"/>
                <a:gridCol w="519120"/>
                <a:gridCol w="658800"/>
                <a:gridCol w="685800"/>
                <a:gridCol w="761760"/>
                <a:gridCol w="685800"/>
                <a:gridCol w="762120"/>
              </a:tblGrid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зрослыми 18 лет и старш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 дет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-ортопе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-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-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196"/>
          <p:cNvSpPr/>
          <p:nvPr/>
        </p:nvSpPr>
        <p:spPr>
          <a:xfrm>
            <a:off x="1828800" y="3809880"/>
            <a:ext cx="70102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у врачей-стоматологов, включая деятельность врачей-стоматологов передвижных установок и кабинетов в образовательных учреждениях,  показывают в таблице 2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троках с 86 по 90 соответственно занятым должностям. Деятельность стоматологов заполняется по всем граф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7"/>
          <p:cNvSpPr/>
          <p:nvPr/>
        </p:nvSpPr>
        <p:spPr>
          <a:xfrm>
            <a:off x="184680" y="735120"/>
            <a:ext cx="14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210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52280" y="838080"/>
          <a:ext cx="8763120" cy="3946680"/>
        </p:xfrm>
        <a:graphic>
          <a:graphicData uri="http://schemas.openxmlformats.org/drawingml/2006/table">
            <a:tbl>
              <a:tblPr/>
              <a:tblGrid>
                <a:gridCol w="6248520"/>
                <a:gridCol w="878040"/>
                <a:gridCol w="1636560"/>
              </a:tblGrid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к среднему медицинскому персоналу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на ФАПах (включая посещения на дом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фельдшерских пунк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унктах неотложной медицинской помощи на дому 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(отделениях, кабинет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ельскому населению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ому насел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му насел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Rectangle 54"/>
          <p:cNvSpPr/>
          <p:nvPr/>
        </p:nvSpPr>
        <p:spPr>
          <a:xfrm>
            <a:off x="152280" y="4800600"/>
            <a:ext cx="8763120" cy="1752480"/>
          </a:xfrm>
          <a:prstGeom prst="rect">
            <a:avLst/>
          </a:prstGeom>
          <a:solidFill>
            <a:srgbClr val="cccc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общего числа посещений к среднему медицинскому персоналу (стр. 1), в строке 4 указываются посещения среднего медицинского персонала пунктов неотложной медицинской помощи на дому,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а также в отделениях и кабинетах неотложной помощ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строки 4 выделяется число посещений, выполненных сельскими жител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строки 4 указываются посещения выполненные к взрослому населению, детскому насел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55"/>
          <p:cNvSpPr/>
          <p:nvPr/>
        </p:nvSpPr>
        <p:spPr>
          <a:xfrm>
            <a:off x="7315200" y="1981080"/>
            <a:ext cx="1523880" cy="1676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тск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селение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то население 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зрасте 17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1 месяцев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н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52280" y="838080"/>
          <a:ext cx="8686800" cy="16462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врачами пунктов неотложной медицинской помощи на дому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кабинетов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9 таблицы 2100):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(18 лет и старше) 1___, детьми (0-17 лет) 2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Включить посещения, выполненные к врачам отделений и кабинетов неотложной помо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Rectangle 12"/>
          <p:cNvSpPr/>
          <p:nvPr/>
        </p:nvSpPr>
        <p:spPr>
          <a:xfrm>
            <a:off x="152280" y="251460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 врачами пунктов неотложной медицинской помощи на дому, в том случае, если пункт неотложной помощи на дому организован в медицинской организации в соответствии с требованиями нормативных 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нкт  неотложной помощи  на дому является структурным подразделением поликлиники и организован для оказания медицинской помощи при внезапных острых заболеваниях, обострении хронических заболеваний, неопасных для жизни и не требующих экстренной медицинской  помощ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татная численность персонала и режим работы пункта неотложной помощи на дому устанавливается руководителем медицинской организации в соответствии с положением о работе пунк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отложная помощь на дому осуществляется в течение не более 2 часов после поступления обращения больного или иного лица об оказании неотложной медицинской помощи на дому либо от работника станции скорой медицинской помощ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28600" y="1066680"/>
          <a:ext cx="8458200" cy="2073240"/>
        </p:xfrm>
        <a:graphic>
          <a:graphicData uri="http://schemas.openxmlformats.org/drawingml/2006/table">
            <a:tbl>
              <a:tblPr/>
              <a:tblGrid>
                <a:gridCol w="3352680"/>
                <a:gridCol w="838440"/>
                <a:gridCol w="914400"/>
                <a:gridCol w="1218960"/>
                <a:gridCol w="990720"/>
                <a:gridCol w="1143000"/>
              </a:tblGrid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осещения к врачам центров здоровья и комплексные обсле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7 лет (из гр. 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 (из гр. 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(из табл. 2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мплексных обслед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Rectangle 41"/>
          <p:cNvSpPr/>
          <p:nvPr/>
        </p:nvSpPr>
        <p:spPr>
          <a:xfrm>
            <a:off x="380880" y="35812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дения, указанные в строке 1 таблицы не должны превышать данные по строке 1 таблицы 2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дения, указанные в таблице, должны соответствовать отчету по форме №68 «Сведения о деятельности центров здоровья» за г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04920" y="1143000"/>
          <a:ext cx="8229600" cy="2332080"/>
        </p:xfrm>
        <a:graphic>
          <a:graphicData uri="http://schemas.openxmlformats.org/drawingml/2006/table">
            <a:tbl>
              <a:tblPr/>
              <a:tblGrid>
                <a:gridCol w="5751360"/>
                <a:gridCol w="1062000"/>
                <a:gridCol w="1416240"/>
              </a:tblGrid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сделано лицами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арше трудоспособного возраст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из табл. 2100, стр.1, гр. 3)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поводу заболевани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табл. 2100, стр.1, гр.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й врачами на дому всего (из табл. 2100, стр.1, гр. 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воду заболевани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табл. 2100, стр.1, гр. 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Rectangle 34"/>
          <p:cNvSpPr/>
          <p:nvPr/>
        </p:nvSpPr>
        <p:spPr>
          <a:xfrm>
            <a:off x="380880" y="3886200"/>
            <a:ext cx="838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дения, указанные в таблице не должны превышать данные по строке 1 таблицы 2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ываются посещения лиц старше трудоспособного возраста, то есть посещения женщин  возрасте 55 лет и старше и мужчин в возрасте 60 лет и старш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210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52280" y="762120"/>
          <a:ext cx="8763120" cy="530532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6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 профилактической </a:t>
                      </a: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 иными целями: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ередвижными: амбулатор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d0d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Rectangle 127"/>
          <p:cNvSpPr/>
          <p:nvPr/>
        </p:nvSpPr>
        <p:spPr>
          <a:xfrm>
            <a:off x="4495680" y="4038480"/>
            <a:ext cx="441972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ока 1 должна </a:t>
            </a:r>
            <a:r>
              <a:rPr b="1" lang="ru-RU" sz="1400" spc="-1" strike="noStrike" u="sng">
                <a:solidFill>
                  <a:srgbClr val="990033"/>
                </a:solidFill>
                <a:uFillTx/>
                <a:latin typeface="Times New Roman"/>
              </a:rPr>
              <a:t>быть больш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уммы строк 2+3+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ока 5 должна быть равна сумме строк с 6 по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28"/>
          <p:cNvSpPr/>
          <p:nvPr/>
        </p:nvSpPr>
        <p:spPr>
          <a:xfrm>
            <a:off x="4495680" y="1905120"/>
            <a:ext cx="449604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д посещениями сельских жителей следует понимать посещения контингентов, постоянно проживающих в сельских поселениях сельских муниципальных образований, а также сельских населенных пунктов, входящие в состав городских поселений или городских округов, обратившихся к врачам данной организации для получения помощи в амбулаторных условия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29"/>
          <p:cNvSpPr/>
          <p:nvPr/>
        </p:nvSpPr>
        <p:spPr>
          <a:xfrm>
            <a:off x="4495680" y="4876920"/>
            <a:ext cx="4419720" cy="990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ещения, выполненные передвижными подразделениями, указываются из общего числа посещений (по заболеваниям и с профилактическими и иными целям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30"/>
          <p:cNvSpPr/>
          <p:nvPr/>
        </p:nvSpPr>
        <p:spPr>
          <a:xfrm>
            <a:off x="152280" y="6095880"/>
            <a:ext cx="8763120" cy="6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графе 3 строка 1 должна быть равна сумме граф 7+8+11 по строке 1 таблицы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графе 3 сумма строк 1+5 должна быть равна сумме граф 3+9 по строке 1 таблицы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2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«в неотложной форме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е по неотложной помощи – оказание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еотлож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дицинской помощи лицам, обратившимся с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ризнаками неотложных состояни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ри внезапных острых заболеваниях, состояниях, обострении хронических заболеваний,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е опасных для жизни и не требующих экстренной медицинской помощ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в отделение (кабинет) неотложной медицинской помощи, являющегося структурным подразделением поликлиники (врачебной амбулатории, центра общей врачебной практики (семейной медицины), а также на дому при вызове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3 «активных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щение на дому считается активным, если оно проводится по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нициативе врач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Как правило, активно наблюдаются пациенты с высокой температурой, гипертоническим кризом, больные со злокачественными новообразованиями, инфекционными заболеваниями, лица пожилого и старческого возраста, инвалиды с тяжелыми заболеваниями. Данный показатель должен составлять 30–60% от общего числа посещений на дому, что зависит от таких факторов, как соотношение первичных и повторных посещений больного; динамика и сезонность заболеваний; возможность госпитализаци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4 «по диспансерному наблюдению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спансерное наблюдение представляет собой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инамическое наблюд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в том числе необходимое обследование, за состоянием здоровья лиц, страдающих хроническими заболеваниями, функциональными расстройствами, иными состояниями, в целях своевременного выявления,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едупреждения осложн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бострений заболева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иных патологических состояний, их профилактики и осуществления медицинской реабилитации указанных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533520" y="1066680"/>
          <a:ext cx="8381880" cy="140184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Обращения по поводу заболеваний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сего 1 __, из них: сельских жителей  2 __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детей 0-17 лет (из стр. 1) 3 _____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: сельских жителей (из стр.3) 4__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Rectangle 12"/>
          <p:cNvSpPr/>
          <p:nvPr/>
        </p:nvSpPr>
        <p:spPr>
          <a:xfrm>
            <a:off x="228600" y="2743200"/>
            <a:ext cx="8686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щение включает в себя одно или несколько посещений пациента, в результате которых цель обращения достигну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ависимости от цели обращения подразделяются н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бращения по поводу заболеваний, травм, отравлений и некоторых друг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дствий воздействия внешних причин (коды A00 - T98 МКБ-10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бращения с профилактической целью (коды Z00 - Z99 МКБ-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1676520" y="1981080"/>
            <a:ext cx="6324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ДЕЛ II.  ШТАТЫ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МЕДИЦИНСКОЙ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5715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та стоматологического кабин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52280" y="914400"/>
          <a:ext cx="8763120" cy="40924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160280"/>
                <a:gridCol w="1241640"/>
                <a:gridCol w="2093760"/>
              </a:tblGrid>
              <a:tr h="580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зубных врачей и  гигиенистов стоматологическ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х 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 ц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 дети до 14 лет 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Rectangle 70"/>
          <p:cNvSpPr/>
          <p:nvPr/>
        </p:nvSpPr>
        <p:spPr>
          <a:xfrm>
            <a:off x="152280" y="58672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*)  Первичным считается первое посещение за стоматологической помощью в отчетном году по любому повод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71"/>
          <p:cNvSpPr/>
          <p:nvPr/>
        </p:nvSpPr>
        <p:spPr>
          <a:xfrm>
            <a:off x="4343400" y="2438280"/>
            <a:ext cx="457200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таблицу включаются и сведения о деятельности гигиенистов стоматологических и зубных врачей, в том числе зубных врачей здравпунктов, стоматологических кабинетов учебных заведений и предприятий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если они состоят в штате медицинской организ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72"/>
          <p:cNvSpPr/>
          <p:nvPr/>
        </p:nvSpPr>
        <p:spPr>
          <a:xfrm>
            <a:off x="4343400" y="4419720"/>
            <a:ext cx="44956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 должна быть равна сумме строк 2+3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73"/>
          <p:cNvSpPr/>
          <p:nvPr/>
        </p:nvSpPr>
        <p:spPr>
          <a:xfrm>
            <a:off x="152280" y="5029200"/>
            <a:ext cx="876312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 должна быть больше суммы строк 4+5 по всем графам во всех медицинских организациях, оказывающих стоматологические услуги населению, за исключением детских стоматологических поликлиник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(разница на взрослых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74"/>
          <p:cNvSpPr/>
          <p:nvPr/>
        </p:nvSpPr>
        <p:spPr>
          <a:xfrm>
            <a:off x="228600" y="609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7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700 (продолжение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52280" y="990720"/>
          <a:ext cx="8763120" cy="3738600"/>
        </p:xfrm>
        <a:graphic>
          <a:graphicData uri="http://schemas.openxmlformats.org/drawingml/2006/table">
            <a:tbl>
              <a:tblPr/>
              <a:tblGrid>
                <a:gridCol w="1067040"/>
                <a:gridCol w="457200"/>
                <a:gridCol w="838080"/>
                <a:gridCol w="685800"/>
                <a:gridCol w="685800"/>
                <a:gridCol w="457200"/>
                <a:gridCol w="533520"/>
                <a:gridCol w="691920"/>
                <a:gridCol w="809640"/>
                <a:gridCol w="569880"/>
                <a:gridCol w="525600"/>
                <a:gridCol w="720720"/>
                <a:gridCol w="720720"/>
              </a:tblGrid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 курс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 объем работы в УЕТ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в порядке плановой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 нуждались в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3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Rectangle 80"/>
          <p:cNvSpPr/>
          <p:nvPr/>
        </p:nvSpPr>
        <p:spPr>
          <a:xfrm>
            <a:off x="1752480" y="3962520"/>
            <a:ext cx="708660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графе 11 показывается общее число санированных, как по обращаемости, так и во время профилактической рабо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графе 16 указывается общий объем выполненной работы, выраженный в условных единицах трудоемкости (УЕТ). Выполненный объем работы в УЕТ указывае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тысячах единиц с одним знаком после запя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1"/>
          <p:cNvSpPr/>
          <p:nvPr/>
        </p:nvSpPr>
        <p:spPr>
          <a:xfrm>
            <a:off x="1752480" y="571500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ница между графами 11 и 14 по всем строкам должна быть на санированных при обращении пациента за медицинской помощ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5530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та врачей - стоматологов 27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8"/>
          <p:cNvSpPr/>
          <p:nvPr/>
        </p:nvSpPr>
        <p:spPr>
          <a:xfrm>
            <a:off x="152280" y="56386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*)  Первичным считается первое посещение за стоматологической помощью в отчетном году по любому повод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9"/>
          <p:cNvSpPr/>
          <p:nvPr/>
        </p:nvSpPr>
        <p:spPr>
          <a:xfrm>
            <a:off x="152280" y="4495680"/>
            <a:ext cx="8763120" cy="83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ка 1 должна быть больше суммы строк 4+5 по всем графам во всех медицинских организациях, оказывающих стоматологические услуги населению, за исключением детских стоматологических поликлиник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(разница на взрослых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04920" y="990720"/>
          <a:ext cx="8381880" cy="3217680"/>
        </p:xfrm>
        <a:graphic>
          <a:graphicData uri="http://schemas.openxmlformats.org/drawingml/2006/table">
            <a:tbl>
              <a:tblPr/>
              <a:tblGrid>
                <a:gridCol w="4343400"/>
                <a:gridCol w="685800"/>
                <a:gridCol w="1971720"/>
                <a:gridCol w="138096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Число посещений врачей-стоматологов (из таблицы 2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вичных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 дети до 14 лет включитель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8487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лицы из данного раздела включают сведения о должностях врачей, специалистов с высшим немедицинским образованием и среднего медицинского персонала, провизоров, фармацевтов, а также младшего (в соответствии с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риказом Минздрава России от 20.12.2012 г. № 1183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и прочего персонала, а также о физических лицах всех работников медицинской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зические лица основных работников показываютс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один раз по основной долж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физические лица внешних совместителей не показыв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утренних совместителей показывают как физические лица только один раз по основной занимаемой должности (занятые должности без указания физического л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аботник работает на неполную ставку и его трудовая книжка находится в медицинской организации, то его показывают как основного работ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если работник, помимо основной должности, занимает по совместительству часть штатной должности в одном из структурных подразделений организации, то занятая им должность по совместительству показывается по соответствующей строке, без указания физического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04920" y="3808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таблиц разде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таты медицинской организации» следует иметь в вид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533520" y="45720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таблиц разде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таты медицинской организации» следует иметь в вид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685800" y="1371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се </a:t>
            </a:r>
            <a:r>
              <a:rPr b="1" i="1" lang="ru-RU" sz="2000" spc="-1" strike="noStrike">
                <a:solidFill>
                  <a:srgbClr val="990033"/>
                </a:solidFill>
                <a:latin typeface="Times New Roman"/>
              </a:rPr>
              <a:t>медицинские организации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заполняют таблицы раздела в соответствии со штатным расписанием, утвержденным руководителем медицинской организации в установленном поряд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914400" y="3048120"/>
            <a:ext cx="762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гр.15 включить специалистов, имеющих свидетельство об аккредитации  (стоматологи, провизоры)  и указать их количество в пояснительной записк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3152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лжности и физические лица медицинской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1143000"/>
          <a:ext cx="8763120" cy="4741920"/>
        </p:xfrm>
        <a:graphic>
          <a:graphicData uri="http://schemas.openxmlformats.org/drawingml/2006/table">
            <a:tbl>
              <a:tblPr/>
              <a:tblGrid>
                <a:gridCol w="1371600"/>
                <a:gridCol w="304920"/>
                <a:gridCol w="838080"/>
                <a:gridCol w="762120"/>
                <a:gridCol w="766800"/>
                <a:gridCol w="631800"/>
                <a:gridCol w="677880"/>
                <a:gridCol w="614160"/>
                <a:gridCol w="966960"/>
                <a:gridCol w="914400"/>
                <a:gridCol w="914400"/>
              </a:tblGrid>
              <a:tr h="1310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х работников на занятых должностя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96"/>
          <p:cNvSpPr/>
          <p:nvPr/>
        </p:nvSpPr>
        <p:spPr>
          <a:xfrm>
            <a:off x="2743200" y="3733920"/>
            <a:ext cx="6248520" cy="259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ница между графой 3 и суммой граф 5 и 7 </a:t>
            </a:r>
            <a:r>
              <a:rPr b="1" lang="ru-RU" sz="1600" spc="-1" strike="noStrike" u="sng">
                <a:solidFill>
                  <a:srgbClr val="990033"/>
                </a:solidFill>
                <a:uFillTx/>
                <a:latin typeface="Times New Roman"/>
              </a:rPr>
              <a:t>составляю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) штатные должности организаций особого типа, при эт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сли такая организация имеет поликлинику , т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штатные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лжности поликлиники показываются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афе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) штатные должности центров, станций и отделений скор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дицинской помощи, переливания крови, санаторно-курорт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ганизации,  молочные кухни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Аналогично для граф по занятым должностям и физически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лиц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9"/>
          <p:cNvSpPr/>
          <p:nvPr/>
        </p:nvSpPr>
        <p:spPr>
          <a:xfrm>
            <a:off x="268200" y="8380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ности и физические лица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таблица 1100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280" y="990720"/>
          <a:ext cx="8839440" cy="5303880"/>
        </p:xfrm>
        <a:graphic>
          <a:graphicData uri="http://schemas.openxmlformats.org/drawingml/2006/table">
            <a:tbl>
              <a:tblPr/>
              <a:tblGrid>
                <a:gridCol w="1503360"/>
                <a:gridCol w="406440"/>
                <a:gridCol w="833400"/>
                <a:gridCol w="752760"/>
                <a:gridCol w="752400"/>
                <a:gridCol w="750960"/>
                <a:gridCol w="771480"/>
                <a:gridCol w="750600"/>
                <a:gridCol w="793800"/>
                <a:gridCol w="685800"/>
                <a:gridCol w="83844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1): руководители организаций и их заместители (организаторы здравоохран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fe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611"/>
          <p:cNvSpPr/>
          <p:nvPr/>
        </p:nvSpPr>
        <p:spPr>
          <a:xfrm>
            <a:off x="2133720" y="4114800"/>
            <a:ext cx="6781680" cy="121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ключаются сведения по медицинским организациям, их структурным подразделениям и филиалам, расположенным в сельских поселениях сельских муниципальных образований, а также в сельских населенных пунктах, входящих в состав городских поселений или городских округ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13"/>
          <p:cNvSpPr/>
          <p:nvPr/>
        </p:nvSpPr>
        <p:spPr>
          <a:xfrm>
            <a:off x="2133720" y="5486400"/>
            <a:ext cx="6781680" cy="76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лавный врач, заместитель главного врача больничной организации и общебольничный персонал показываются из граф 3, 4, 9 по графам 7, 8,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d.nesvetaylo</cp:lastModifiedBy>
  <dcterms:modified xsi:type="dcterms:W3CDTF">2016-12-14T06:17:08Z</dcterms:modified>
  <cp:revision>6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